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5499-7306-42A2-9EF5-D844E9248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FA69-2A8C-4371-BEAD-E4805CBD6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28DE-27AA-4968-84ED-5A5D353EC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6D04-F305-4605-A66E-86ED0E729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153E-1C2C-4F3E-82FA-617D00EB2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02D8-0FE9-46E4-8E47-BB7801013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B457-EBBB-4DC8-B35A-1F8013D10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28D0-EDFF-4875-8AC0-EAD7D4A5D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F0BF-4CBB-4A50-8367-27DEB4826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B06D-EE95-4D90-A8A6-4C045F631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A25B-59F5-4192-A3BD-6B1DCD425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4193-6069-44BA-B647-3D0732802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DF519-1AAC-4B78-9A89-90115A1B57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1828800"/>
            <a:ext cx="7391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&lt;Tytuł prezentacji&gt;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04920" y="3581280"/>
            <a:ext cx="85341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Dat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Prowadzący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371600" y="2209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ziękuj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419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my okazj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asted-image.png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382240" cy="41907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80880" y="5410080"/>
            <a:ext cx="84582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Określ swoje roszczenie, na przykła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rzeznaczenie 20 000 zł na projekt mający na celu udoskonalenie treści w zakresie obsługi klienta pozwoli na oszczędności i podwyższenie poziomu satysfakcji klienta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laczeg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981080"/>
            <a:ext cx="82296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daj uzasadnienie swojego roszczenia, na przykła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0% rozmów z konsultantami ds. wsparcia klienta dotyczy problemów, które klienci powinni rozwiązać za pomocą treści z pomocy dostępnej na stroni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 na 10 badanych klientów zgłosiło, iż nie byli w stanie znaleźć potrzebnej odpowiedzi w Internecie i zadzwonili na infolinię wsparcia klienta po pomo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daj dodatkowe slajdy w razie konieczności. Zwizualizuj dane, jeśli jest to możliwe (użyj innego szablonu slajdów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 co z teg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1676520"/>
            <a:ext cx="8229600" cy="43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daj powody, dlaczego liderom powinno zależeć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ź tokiem myślenia biznesmena: jak ucierpi na tym bilans, marka itd.? Przykład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Średnio płacimy 3 zł za rozmowę dotyczącą obsługi klienta, co daje 3 mln zł rocznie, przy czym minimum 50% rozmów to rozmowy z klientami, którzy mogliby rozwiązać problem korzystając z treści dostępnych w Interneci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 ostatnim kwartale 10 000 tweetów, w których pojawiła się nazwa naszej firmy, pochodziło od klientów narzekających na treści publikowane w materiałach wsparc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daj dodatkowe slajdy w razie konieczności. Zwizualizuj dane, jeśli jest to możliwe (użyj innego szablonu slajdów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e to nie wszystk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066680"/>
            <a:ext cx="8229600" cy="55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zupełnij stwierdzenia „i co z tego?” o dodatkowe informacje, na przykła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tnieje dwa razy większe prawdopodobieństwo stwierdzenia przez klientów dzwoniących na infolinię obsługi klienta po poszukiwaniu informacji w Internecie, iż są niezadowoleni z naszego poziomu obsługi klien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zmowy telefoniczne z konsultantami call center prowadzone przez osoby, które najpierw szukały rozwiązania problemu w Internecie, trwają o 30% dłużej niż rozmowy telefoniczne z innymi użytkownikami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0% respondentów twierdzi, że wyrażało niezadowolenie w związku z materiałami na temat obsługi klienta w Internecie w rozmowie ze znajomymi, współpracownikami lub członkami rodziny w kontakcie bezpośrednim lub na portalach społecznościowyc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daj dodatkowe slajdy w razie konieczności. Zwizualizuj dane, jeśli jest to możliwe (użyj innego szablonu slajdów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8229600" cy="43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daj przykład ze studium przypadku lub cytat z opinii eksperta jako uzasadnienie. (W razie konieczności dodaj slajdy.) Przykła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 naszego badania przeprowadzonego w roku 2014 wynika, że nasza firma odróżniała się od konkurencji [na rynku firm z sektora technologicznego] głównie dzięki sekcji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erwis i Wsparci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Tego rodzaju treści są najważniejsze, jeśli chodzi o zapewnienie świetnej obsługi klienta, choć często bywają traktowane po macoszemu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nk Barnes, dyrektor ds. badań, Gart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kie jest ryzyk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1295280"/>
            <a:ext cx="4495680" cy="42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zedstaw najlepszy i najgorszy scenariusz na jednym lub więcej slajdów. Zwizualizuj i przedstaw konkretne dane liczbowe, na przykład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akładając, iż istnieje 25% szans na to, że ulepszenie treści nie zaowocuje redukcją kosztów ani poprawą poziomu satysfakcji klienta, stracimy około 5000 zł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akładając, iż istnieje 75% szans na to, że ulepszenie treści pozwoli zmniejszyć liczbę telefonów do call center o połowę, zaoszczędzimy 1 mln zł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asted-image.png" descr=""/>
          <p:cNvPicPr/>
          <p:nvPr/>
        </p:nvPicPr>
        <p:blipFill>
          <a:blip r:embed="rId1"/>
          <a:stretch/>
        </p:blipFill>
        <p:spPr>
          <a:xfrm>
            <a:off x="4724280" y="1066680"/>
            <a:ext cx="413388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kie są wymagani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219320" y="2057400"/>
            <a:ext cx="7315200" cy="33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konaj przeglądu działań i kosztów. Przykład: tabela 2.1 na str. 17 książki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Zarządzanie treścią. Strategie i narzędzi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konaj przeglądu kamieni milowych i harmonogramu. Patrz str. 55 książki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Zarządzanie treścią. Strategie i narzędzi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 dalej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219320" y="2057400"/>
            <a:ext cx="7315200" cy="33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zedstaw kolejne kroki w projekcie, w tym uzyskanie akceptacji na kontynuację pra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datkowe kolejne kroki mogą obejmować: przydzielenie zasobów, zatrudnienie wykonawcy lub konsultanta, przeprowadzenie rozmów z interesariuszami it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12T14:41:08Z</dcterms:created>
  <dc:creator>bszmatiuk</dc:creator>
  <dc:description/>
  <dc:language>en-US</dc:language>
  <cp:lastModifiedBy>bszmatiuk</cp:lastModifiedBy>
  <dcterms:modified xsi:type="dcterms:W3CDTF">2017-01-13T11:28:22Z</dcterms:modified>
  <cp:revision>8</cp:revision>
  <dc:subject/>
  <dc:title>Bez tytułu slajdu</dc:title>
</cp:coreProperties>
</file>