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951A-189C-4175-944F-E0E448F92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ing errors, tuning, and polishing are the same practices any professional uses when crafting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play is the heart of a fun game. The player is the so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F512B-8B91-4C60-BC90-D317B2D8B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D515E-3570-47A8-9105-AB517CB1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69C75-B8DA-4D85-B5C7-05F22A58B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9FEAC-108C-4E92-8534-84074CA29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E2D8-CB31-47A0-842E-78E367E92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3759-F750-4E63-B90D-54BE32DB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4C94-DC04-4788-9339-19887564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1621-9D35-4A53-AC78-208C89E0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1823-FF0A-4581-8C21-86DD6215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F6B1-5675-4681-BACC-963767E0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4B94-D2ED-48BF-A4CC-A4DA8FED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6F0AC-80D3-42E0-B917-75FB177C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EF44-AD9F-4911-8EF6-C63934CE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F3EC-78B2-4632-A012-51894879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8DC4-7466-40A3-A409-CA9861C6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4D00-5279-4272-B542-87D42DF5E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09A7-B88D-404F-A5F6-D70CA0791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5B6CF-0B59-4160-84A4-BF0250CD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D54A2-857E-424C-A434-2354B687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70F1D-F12B-4229-A212-F5E0E26E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DFAC4-5591-4A35-9765-75874E81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962A1-9F63-44F5-AB7D-583D1391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94395-FCED-40D3-8514-F112E1DF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5B313-87DD-457A-91A7-C50E18AD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9 Game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A46F-4694-4750-B31A-9A22068422DA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226A-AF0C-4475-AD1C-F498CE5297D3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0406-D00A-470D-95AA-8433219B6DF5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9: Game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coordin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speed and reaction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ccuracy and prec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intuitive understanding of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timing and rhyth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make combination mo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 time available to increas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B1D39-22C9-4708-9618-551E2B3B3C1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D9424F-5AE4-4160-AF0E-6A77C9AE98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c and mathematic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al logic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outside knowledge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increase difficulty, increase the number of objects and the ways they can be manipula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normally get all the time they need to sol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puzzles that can only be solved by trial-and-err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hematical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s require players to reason about probabil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educated guesses with imperfect knowled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34057-B8CB-4922-8CDF-2BC21DB3D61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C91DF4-987A-4906-AEEA-6DEFE9AD22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ces and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first to accomplish a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combined with other types of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 pressure increases stress o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ual knowledge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rect tests of factual knowledge usually occur only in trivia and quiz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ther kinds of games, all facts must be present in the game or you must make it clear in advance that outside knowledge is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CC405-D9EC-4334-BE3C-159CA079AF1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392C99-CB8D-4FE2-9830-D7ED14AB76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mory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all things seen or heard i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it easier, give players longer to memorize and test them soon after they have done s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ognize visible, audible, changing, or behavioral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increase difficulty, make the pattern longer, more intricate, or more subt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9DC61-90BD-4C25-8521-9742BB42B60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96DE39-6D8A-4C7F-AB31-91ED25CB57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atial awarenes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learn and navig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decrease difficulty, provide a m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obstacle that prevents the player from proceeding until he disabl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unmarked switches far from the do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5214C-4201-4815-8F48-C845A986F58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15E20D-AF6B-43B0-9B97-5166863667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ice that harms the avatar when trigge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n comes from outwitting the tr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zes and 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ry place looks alike and player must discover relationships between the are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implemented as logic or pattern-recognition puzzl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E2912-4B08-4A27-B5B7-2EC9DAC684E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B6B375-7426-4D8C-AEA6-C696443CFD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sm that transports player to a new lo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make the challenge easier, make the teleporter predictable and revers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ing hidden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reasonable places player can deduce from clu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obscure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Easter eg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are special rewards in particularly obscure loc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22767-67B5-4E51-BFA4-2D7A743D302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AD9FA6-3C3F-49F3-821D-6D230048E1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direct opposition of forces, some of which are under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 challenges can be broken down into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c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rvival and reduction of enemy fo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ding vulnerable items or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199CA-3A02-4B21-8974-1EC73123C06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934026-10A9-4A70-B09C-024DFB270B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ehavior of resources creates 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mulating resourc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wealth, points, or anything valua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ing balanc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a more interesting challenge than simply accumulating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ring for living thin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hallenges the player to meet the needs of each individ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C4E6B-06BB-48D7-AA61-60E02C80BFD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8862AB-410E-4488-8287-83AAC99405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ual reasoning and lateral thinking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reasoning puzzles require reasoning and knowledge to solve a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ral thinking uses extrinsic knowledge in unexpected w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D8935-82D9-4142-A7AD-E2894802EC9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2FDA5B-9F67-4D3E-9A03-74D2B055BB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basic principles that a designer should follow to make games fu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hierarchy of challenges requires players to complete atomic challenges, sub-missions, and missions to accomplish the ultimate goal of winning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quired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nd discuss how these factors contribute to the difficulty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0D30B-7763-4C3E-A01A-A7DE21D5289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CE684E-BE06-4267-B881-53C684E223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fo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intended to mee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fer fewer actions than challenges to limit size of user interface and animation co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can address more than one type of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ased on player’s role and actions to overcom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6C6E0-F439-45F6-8F4D-F1D7D008FCF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8EBD03A-D9EA-4991-B923-733CDEC2B9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that serve other fun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not related to challenges include actions for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structured 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ion and self-expres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ticipating in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ing the game soft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C1D06-DDA4-4092-870B-E133272CFB8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38FFF5-752A-47D4-A806-37D04338CD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son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leave and return la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player recover from mistak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courage player to try alternate 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equences for immersion and storytell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rm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s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1A9D6-1CB8-41D6-8622-BF16010A2BA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A1D882-A0A7-4ABD-8FEF-B1B01A9EB2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ays of saving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word to restart a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e to a file or save s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uick s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ic save and checkpoi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ways allow players some way to save and rel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6AF22-2AB1-4620-A339-3C3D0220D8B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5A7F12-0F75-4A3F-B069-3652121049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the heart of a game’s 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can be organized into a hierarch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and stress determine absolut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ly used challenges test different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w actions can be used to overcome many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allowed to save and reloa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F5DAD-3CF8-4156-986C-33500F82F19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544F13-107C-42C4-A2A6-65882CA889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challenges commonly used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 in the context of the game world and describe how actions are selected to meet specific challenges or serve other function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arguments in favor of and opposed to supplying a saving mechanism and explain the most widely used method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89D9C-B67F-4BDA-9EE8-CC3E944DCA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3104B0-3DB3-4B93-8777-15D083280D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ecution matters more than innov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ief reason a game is not fun is that it contains elementary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pects of game development that contribute to fu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ing errors; basic craftsmanship is most import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ning and polishing is seco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Imaginative variations on the game’s premise is thir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True design innovation is only 5% of the source of fu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A76FC-1E7A-4878-828E-7B5D1D9D4D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0313EF-E046-45CD-8FB9-5E49058778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nding the fun facto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mes fir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t a feature right or leave it ou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around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now your target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or automate parts of the game that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ren’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true to your 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ive for harmony, elegance, and beau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54652-B90D-4471-B5AA-E6301608E88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454553-B821-44AA-A437-C9B78724CD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y from lowest to high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omic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-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E58FB-84CE-48AE-9921-762984BD4A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06BD64-0C48-43EA-8EC0-3386F7B822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forming the player about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tell the player about explici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discover implicit challenges on their ow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icit instructions are given about the victory condition and lowest-level atomic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mediate-leve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st interesting games offer multiple ways to w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gnize and reward victory achieved no matt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h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achieves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9BA90-6B3F-48AB-9158-E987586578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85C3DA-D570-4D72-8BF8-2367B3DF23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taneous at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coming several atomic challenges at the same time increases th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way of doing this is to bombard the player with enem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games (such as management games) present more complex interrelated simultaneou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re simultaneous atomic challenges a player faces under time pressure, the greater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t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BE96A-737A-4D8B-AE9C-ACE16CE7260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CFC96A-1E57-45D9-B744-CF0F0CA9EA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kill, Stress, and Absolute Difficulty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 required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skill needed to overcome a challenge in an unlimited amount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effect of time pressure on the player’s ability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skill required plus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431E1-EFF3-4C6A-BF71-FC573D5B83A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3E6FC5-5C99-40D3-9624-CADA3342D5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7:59Z</dcterms:modified>
  <cp:revision>185</cp:revision>
  <dc:subject/>
  <dc:title>Fundamentals of Game Design, 2nd Edition - Ch 9</dc:title>
</cp:coreProperties>
</file>