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DA1B4-8316-4374-900C-75A4E4FC64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66CBF-0D52-4CEF-8A7C-EAD8E05AA007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128D0-DD93-44E7-8721-6AEF7AC47E5A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4ED00-914F-4257-B09F-E9A258FD905A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5F975-98AB-437C-BE9B-C9662414C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20516-6B3E-448D-BC6A-DA28E1436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93F6C-AB9E-4F59-AD9A-EC8C661F6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6572E-905A-45D9-A676-B69176570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BB226-17CA-4A70-8557-E59F35741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0AE08-7BE6-486D-BDFD-26F9F6ED8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2B4E0-64C1-4AA1-9826-B12ACCCED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0415A-9437-4FAF-AE7E-BC6B504F1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081D0-B52B-4B25-B5F1-CB4779D20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75BE0-9BEB-4296-A353-21606142C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93514-E176-491C-BE8E-0F750D722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E2EE2-5167-480A-B74E-848BB3E88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F5714-2981-4227-99BC-1A4DD70A1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D1992-D56E-4962-B0BD-AA1946BF1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B2D33-2479-427B-B0CA-9A6E5C7B0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A2385-577C-41A1-BC01-BB0E1338C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80E10-490A-4052-A35A-357BF1767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6F7DD-4BDC-4A74-92C9-FBD5A5154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4E087-E501-4606-95B7-410B0CF9C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245E5-BA12-4420-8436-AF88E6460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4EC4B-3188-49A3-8029-AB1862DF1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F00B7-9B14-4ED8-B018-621C01C3D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6C782-924B-42A1-BE22-C1E6930DF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C6266-71A9-4C9B-BFF2-5B45EFFB7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7 Vehicle Sim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247CC-10D6-4929-B33D-55C24BDBC0CD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CD178-C31A-4D47-8C72-547EDA7BC238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7ACA4-7FBE-4614-B794-13DA17CEB560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7: Vehicle Simulation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168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ehicle simulations are technologically oriented, so the core mechanics are almost entirely about phys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oppon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different vehicles with different 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ify the behavior of individual oppon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A5BAD-3E3A-4B5C-B7A8-7253C7DAD36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1BAA7CF-AB09-46F0-B12C-CC650B51923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ama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ildren’s games can ignore damage to the vehi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amage can be modeled as a single variable like health poi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urate modeling divides the vehicle into are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cks damage in each individual are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putes damage’s effect on vehicle performa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99BC5-5772-4EE1-B6E2-84D3632E7A35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B0C18FA-9B02-4121-A12A-42CCEF783C4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br>
              <a:rPr sz="4200"/>
            </a:b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andscape is an important part of the entertain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light simulators—setting is the plane and the grou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iving simulators—racetrack, road, or off-roa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eather affects vehicle hand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ider adding people to racetracks and airports to enhance immer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2F1F5-18BE-4D49-9825-DC4946786F5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7745F0A-F50A-41B7-BD35-9C31B3D3995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Vehic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oats and ship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luid medium changes handling characteristics, making it different from driving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rge warships simulated as parts of flee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bmarines are popular simul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iling simulations are r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cean is not modeled accurate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reline is usually correc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pth, tides, currents, reefs are no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9A604-0E20-4900-9413-C8627E09143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E58CB4C-B528-4967-81AC-7310D73F595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Vehic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anks and mech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tating turret on tanks adds complex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ch is an invented mechanism unrestricted by re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acecraf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ity of spacecraft simulations are science fi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modeled accurately—similar to fighter pla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4EF5B-6785-4656-B183-E2E35EB9F53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9D73F45-C741-4B0E-B2F2-4D2961E03B5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ntellectual Property Righ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rally, you can simulate military equipment without obtaining permission from the manufactur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simulate an existing car or other civilian vehicle, you need a license from the manufactur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9B4AA-3DEC-469C-9CDF-B543CC6BD88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66539BD-67E0-4E8A-A32E-283996516CA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—vehicle is the avatar; view through cockpit wind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ews common to driving and flight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ilot’s/driver’s view—defaul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ckpit-removed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se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ar, side, and front view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ree-roaming camer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F1506-CED8-4777-B38A-24BD87D57C4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C6E84AF-5DF8-4C2B-A1FE-F3CBD447760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ews unique to military flight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round target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omb or missile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ews unique to driving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ck-side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randstand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limp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1B6BE-78A5-43C3-ABF7-875C0D21E63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4226D7C-D827-466F-BD62-1BAC0CB7812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iggest challenge is mapping vehicle’s real controls to those available on target mach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plific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ilitary simulators require some simplific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light simulators commonly simplify navig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flight simulators produce automatically coordinated fligh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BC16B-4B2D-41A6-A682-6A48A26D148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D30D92F-4776-44BD-8D0E-53A71701EF1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design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ing the sense of speed—critical in driving simul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play a speedome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ry the driving surf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lude roadside objec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soun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-fo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ilitary planes can show a G-force me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ilots can black out or red ou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4DC46-6042-47CE-B22A-DD72C14295B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F38A349-3B84-4A2C-AD01-0AA1E19CBD8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different types of vehicle simulatio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how the design of the game world influences the player’s perception of spe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some ways to design artificial opponents for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21C4A-453E-43B1-B607-2BA7CF46164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F2E68C6-2DB9-44BE-8C66-FE2513D93D4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different types of vehicle simulatio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vehicle attributes and 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I oppon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list the requirements for a military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the UI for a vehicle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76FFA-FDD2-471A-A2A6-BBB5CBABEFB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28809CE-78E0-4091-A113-4B1F0970DFC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distinctions between military and civilian flight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familiar with the various views often used in vehicle simulation interfa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09451-9FA5-4903-B9D2-D340B08B391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AB903A5-99FF-4CC8-AAFA-1E60910B70A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Vehicle Simulation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eels like driving, flying, or controlling a vehic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ions vary from realistically handling the vehicle to adding game mechanics such as combat, racing, and specia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ace and water vehicle simulations follow the same fundamental features as flying and driving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4021F-5312-4BF9-9B36-FDBE5E30B66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FDCB904-E6A9-4D23-A291-AD71C9576AE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light simulat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ivilian flight simulators are realistic and don’t include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ulators are simplified but provide tactical conflict as well as physical challeng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iving simulat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ganized racing is driving in an existing racing class; requires licens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aginary racing uses imaginary situ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BB076-6552-47C6-A387-FC34585D516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CF0D576-23C4-429D-B373-68DCA4C9720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rists demand highly accurate simulations of real vehic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sual players don’t care about the details as long as they can fly or dr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AE07B-6E5D-4AE5-B649-5EBF0C38DA8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146A235-CCC5-4A32-86EB-037EEAD7179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’s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light simulator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ilot or military positions such as navigator or bombardi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cing-oriented driving games—driver or mechanic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6DE9B-2471-4DFC-A900-85339624721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64733E7-CA8F-44BB-958A-AFA00835629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ulators—similar to first-person shoo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ivilian flight simulators—single-player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iving simulators—single-player games or multiplayer r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ulators and organized race-driving simulators—often include career mode and campaign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15429-11E4-44D7-BFA7-FB414D0DA3D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8920430-3A17-4BED-A6F5-F4B0A3D0DB4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and victory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imary challenge is controlling the vehi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s must also achieve the mission obj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ype of plane determines gamepla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ny offer a series of miss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ivilian flight sims seldom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ganized racing sims take gameplay from the real r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3DB6C-4210-4ADD-907B-3784F26F303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0D8522B-4555-4F25-BF56-8D785265364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3:51:43Z</dcterms:modified>
  <cp:revision>383</cp:revision>
  <dc:subject/>
  <dc:title>Fundamentals of Game Design, 2nd Edition - Ch 17</dc:title>
</cp:coreProperties>
</file>