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330D-F958-4547-AF22-C9BB10C9D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ers must lose arcade games to keep putting in mo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E228B-6311-4541-ACE7-3990AE8FF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D0A4B-CD22-417F-85CC-FB1B7BED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9E44B-5360-4B51-9DB5-46A8E085B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23A37-D114-4C2A-A3B8-4E8FEE4FE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E740-8EDD-4155-A7E9-7B4B4768F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5C04-A7D7-4C63-85A0-C35ECF8D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75F0-9C24-49EB-ACBB-5BD80311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C5F0-A759-4F0C-BF33-B8258758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6FE6-518C-4D21-96E4-9F812876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975F-6092-4136-98E6-C82500CB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6B02-68EE-4E2E-BD3D-5F9E1648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BD1BC-C9AC-4FBD-8000-ACE0B1FF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A975-D426-4AD2-972A-F434B0B8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EBC8-F524-4D34-ACB5-D8588741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F18B-0BAF-438A-BBB3-59DA1F9A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F138-679D-4867-BF3D-A34F77776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F060-EC4C-4D85-ADCB-E11F53D38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FCAD1-5598-4038-BB7D-97220CAD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2F288-F60B-4BC8-BEF7-25281BF9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71B03-157A-429E-89BE-7019FCF9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21D54-2518-42FC-8FAC-E822C1D4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C292E-6256-499E-AAFB-8F77853D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A1BD6-CB7D-4FA6-B770-2907A7C2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34E9E-BD66-4DFE-95A5-7BA00CA5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3 Action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9A5E-B03E-497E-8D31-0B6943DAECCF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19B9-00A8-4AA4-BBD0-FBC2E8702A7F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3AFF-34E5-4D25-8BA3-05C37E850FED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3: Action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shooting, hand-to-hand fighting, or abstract puzzle-solv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skills such as maneuvering and path plann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A48A4-0066-4CE7-8929-74DDEC5AD4D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1F94DE-435F-44E7-A962-1E390DA250E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s usually completed in linear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s often grouped by theme and end with a bo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ixed challenges are easier to build, but repetitio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killed, avatars reappear at a checkpoi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exits, level warps, and 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exits lead to the next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warps exit the level and jump ahead several leve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leporter jumps within the sam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D1F84-93A3-4530-9EC2-D01CE73E302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7457ED-3DB3-43CA-A537-4A8B688D96F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your pac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ainstorm ideas for moments of excit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der ideas by prior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story frame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key events for intensity, and sequence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and sequence story plot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ime between high-intensity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aluate the tre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constructing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eratively test, review, and adju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FEA74-B5CE-42F0-954C-C4A62D620F2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09D430-07E7-49C8-8412-90A77120358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s typically faced by three kinds of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ssive obstacle impedes movement without threat (wa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onary danger attacks approaching avatar (electric fence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ve dangers attack and move arou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4F02B-49A7-46CC-9F05-95E18C7BCB5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060AFE-8FAD-43DF-B8A0-7A92A8DFEA4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v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mies attack in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ig boss guards the end of the them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ldcard enemies break up the predict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 partition levels and control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nster generators or spawn points cause new enemies to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0EAC0-5496-40EE-BDA7-FBDC6F185C9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5F9A52-29B7-4F0F-9298-E8A4C993A6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utine actions include maneuvering an avatar, aiming and shooting, collecting and selecting, manipulating objects, and fighting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rt bomb clears enemies from the immediate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perspace escape immediately moves the player at the risk of unexpectedly entering a dangerous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7232D-232D-494B-9BB7-A42076B41D3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7520CF-83E6-4287-8F73-A64469B761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re simple and obvio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ves provide several reprieves from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ergy is replenished by collectibles or power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werups increase streng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lectibles are common but not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rease the sco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ock secret levels or cause special bonus ev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26D77-3EA7-4DF5-A2D6-8CB2637CF0A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E3B895-D136-4593-8664-84A3AB632C7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r counts down time to events and catastrophes or the amount of time left to finish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ore indicate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D1223-C308-49F5-BF38-644874CA1AA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F492C1-32A3-4F09-8C35-C3610AFB7A3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y arcade (or arcade-like) games don’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ing a structured story means the game will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most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manipulation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or omnipresent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emmin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also us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78AEA-3C7C-4C54-81A8-88EDABE6594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9B6BB9-31E7-49B7-B2EE-54981CA7F8D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camera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s side-scrolling and top-scrolling perspecti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inuous, variable, and parallax scrol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first person is tied to the avatar with a limited field of 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third person lets the player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both, switchable at player op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Resident Evil 4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es these somewhat, moving camera to just behind avatar’s shoul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CDD8B-B739-4BC0-B6D1-C62D2F36BD0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D2744D-8D16-4AF4-A854-8ABD523B87B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dentify the qualities that set action games apart from other 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stinct subgenres of action games and their particular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characteristic features of action games, such as levels, lives, and powerups, to design games of your 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sign limitations imposed by placing the player under time pressu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8A92C-0DDA-4A9B-9E02-6ED2EFEE3E6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49EF55-31B1-41C5-9B48-08BA4F22E8F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mplications of 2D an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it is difficult to tell the speed or distance of objects that come directly toward the play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3D games use the environment to present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enemies can hide and sneak up on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mera moves depending on the circumstan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a good model for fast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dden changes of camera position are disorienting during high-speed ac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7C171-C5EF-4E90-9E42-498E934F92D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86C17E-0A14-4F3B-91E4-3601E92B5A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only as much as the player needs to kn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on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ndicators rather than numbers or t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w attention to critic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s and mini-maps can be shown as transparent overlays; keep them si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olor to identify character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rols should be as simple as possi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3D0DD-FC61-4A16-B3FE-D0501A046E5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68CD214-CAE0-4951-A123-4026EB2A293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ecognize action game sub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d use characteristics of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design limitations of 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2B310-1FA8-4307-AF1B-FC646FBF365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FDB27D-EB2A-4A78-8256-CA09DCF8E2B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ction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action game is one in which the majority of challenges presented are tests of the player’s physical skil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, tactical conflict, and exploration challenges are often present as w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est action games are called twitch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243BD-CAE7-4D09-9FFF-D28F9BAE137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338B4B-03EC-4583-932E-B89F22F02E3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amiliar and popular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use a ranged weap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or side-view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are under constant attack so shoot everyth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imited ammun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realistic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99446-9E61-4263-A7E8-BC1E18686D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C97F75-2049-483F-B8F1-6AC958B4DE4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edge of game hard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s are more realistic than 2D shoo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first-person or third-person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rther subgenre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actical 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rvival horro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rena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BDA5C-F7DE-4EC6-B304-0E95571ABA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E1FC4F-1987-4CF8-840C-6C1781CECE5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tfor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rtoonish games in which an avatar moves through a vertically exaggerated environment, jumping on and off platfor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jum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ghly unrealistic phys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2D side-scrolling games with humanoid avatar are platform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uper Mario Bros.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classic exa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30813-23D9-4FEB-AD29-735EB618FD6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670BC7-47F6-4625-B0A2-6F4EAD5D00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ghti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al challenges test reaction time and tim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 hand-to-hand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y use a few ranged 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wo major categories: one-on-one and mêlé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ous boxing games usually classed as sports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include maneuvering, attacking, and def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o moves are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is largely 2D in the plane of the video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62375-6803-450E-9453-44F408DF11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755E88-92F4-4404-AC86-96E3677D372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 player to solve problems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e, abstract, limited control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archetypal fast puzzl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gamers enjoy this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al for handheld devices and cell pho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ACAF3-7365-4813-928F-CC8A9A5FDF2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6EB6AA-8628-48EB-829C-9F265A3F8CA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-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 combines action and adven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include physical challenge, story, inventory, and 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nce and rhyth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player’s sense of rhy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s buttons to make the avatar d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cialized hardware common: dance mat, conga drums, marac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girl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ss pointless viol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06595-5863-4FA4-ADCD-AE77262AD2C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60E93BA-7B45-4ABE-923C-564484AC40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5:17:29Z</dcterms:modified>
  <cp:revision>247</cp:revision>
  <dc:subject/>
  <dc:title>Fundamentals of Game Design, 2nd Edition - Ch 13</dc:title>
</cp:coreProperties>
</file>