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8635-B4B1-4D62-9202-215D12646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ccurs when the player’s abilities balance the challe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 from Chapter 9: Intrinsic skill needed to overcome challenge + stress = absolute difficul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graphs in Figure 11.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D6C4E-5A99-48A5-A2A6-50FD033DE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142AF-870F-411E-833C-E440443D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A28CA-4D9E-48C8-934F-47AB26DED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2EEB4-A8AF-4E10-A5C7-C6A3942B7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4725-CEDE-407B-B8DB-498D2108F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1247-D31B-4790-A082-F65D65F9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C4F2-FC99-4760-871E-03303DD3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349E-4560-4908-BCC5-7851E906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F804-FD7A-4DAF-B8FB-9A93975E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B3A3-2B1F-45DA-B896-5B249051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A8E1-917C-45AE-AD92-EC986A8E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4822B-4725-48DF-96A9-DF7F459E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FD4D-DBE4-4181-AA00-8597EAB2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85EE-E1A3-4EB1-9BBB-CAA9DD4B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86B9-4D97-4B68-9B91-3E373490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D428-5F93-4D5B-858E-9866A1734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8665-6772-4B26-B38B-B60AA9CD9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A35F7-61E2-494A-9F39-937CAB7F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D520F-6E73-4BF2-B382-0C609C49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1D5DE-6873-46BB-B1E2-86415D63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90927-4153-42FB-8DDE-226A240F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ECF6E-E4CF-4623-968F-BD93FEE3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75F8E-7BE6-43AC-9C2B-D40691CC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80C54-324B-4489-B4EA-9D7E174C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1 Game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CADD-EC45-4456-9479-1563A28AFC87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E25C-3149-4294-8189-8761542CA81F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33F6-2065-4AD6-9F32-94AD5497F525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1: Game Balancing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ansitive relationships (rock-paper-scissor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beats B and B beats C, you can’t assume A beats C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ther, A beats B, B beats C, and C beats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PS model is simple but can be adjusted by modifying cor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thogonal unit differenti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kind of unit should be unlike the others in some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simply more or less powerful, but uniquely diffe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uarantees each kind of unit has a unique fun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1E638-CF72-4807-BB87-7998F91E3FF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9339551-6CFA-46AE-A0C0-AD6F6F032A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PvE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ing fewer actions in a game risks creating exploi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that can beat any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oroughly to eliminate explo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33127-1025-48AD-B3DF-81D2476D8F8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F8D8D3-3CF1-4AED-A036-3C470E40EA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Role of Cha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chance plays a role, how to ensure the more skillful player wins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sparing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in frequent challenges with small risks and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how much to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34116-3D7F-44FD-AF1A-F93D4A238DC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613D8E-51DA-4718-BA6C-0CE1AA790C2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alance symmetric games, treat every player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me rules, resources,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ymmetric games are harder to bal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approach: give players identical quantities of materials or points when they sta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ints to build units as they wi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nts to adjust unit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udy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arcraft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 great asymmetric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DD4C1-0E46-44FC-9CEB-205235A1E58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638B41-01EB-47DD-9390-F3ACDE39F4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e issues for persistent worl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istent worlds are never symmetric and always intrinsically unbalanc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w players need prot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rebalanced on the fly by patc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E45FA-12BB-4BE3-A569-1EDBA53B29A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BF6405-B2EB-41A3-830F-9482727EAB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E Games Fai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air PvE game shou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challenges at a consistent level of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learn-by-dying desig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talem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information for critical deci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equiring extrinsic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hallenges appropriate for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DEBD4-A605-48C2-A9EB-48E8425778C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A97D09-3DB1-465D-B3AC-97CBC1470F8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ing a game includes managing the difficulty of its challenges to keep players within a flow stat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outside the designer’s contro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vious experience facing challenges similar to thos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ive talent such as hand-eye coordination and reasoning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requires cheats to be winnable is badly balanc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62D4C-CC2A-4C69-BECF-1452291AA29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BAFC2D-F098-4897-B2C9-A981BCC6A6C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es of difficul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re amounts of skill required and stress to that of a similar trivial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– difficulty relative to player’s power provided by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91440" indent="-3402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wer provided measures player’s strength by means appropriate to situation (e.g., weapon strength in shooters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= absolute difficulty </a:t>
            </a:r>
            <a:r>
              <a:rPr b="0" lang="en-US" sz="2600" spc="-1" strike="noStrike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(power provided + in-game experience)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EE82C-BEBD-41F2-AD01-A1D89833B6A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E1B2A8-540D-4B95-B568-593B0F8BC07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4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4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51160" y="1835280"/>
            <a:ext cx="4440240" cy="405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03EC1-EC44-4057-AC1F-BCFB50E6331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9DC1B5-B3AB-4D67-95B8-EAD20A548C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 difficulty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of challenges should stay the same or ri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games for casual players and young children, it should remain almost fl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must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rease over time to counteract the player’s growing in-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A940A-FEB5-4C13-AEE0-722CBFC7B5C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20B128-05A7-4635-BBDA-0FA07D8BCEB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qualities that characterize 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dominant strategy and discuss ways to avoid dominant strategies in player-versus-player and player-versus-environment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use the element of chance in a game so that player skill still ultimately determines the outcome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EE069-89D4-4D0C-8231-4C151F74134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19531B-77B1-48F7-91DC-C0559F294D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stablishing difficulty mod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allow player to choose a difficult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difficulty mode is selected, challenges must stay within that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can’t adjust the difficulty of a challenge, provide a way around it for the easy mode and block the go-around route for the hard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E9EAF-19CC-4E09-908A-D7B8C806EC2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293268-EEA0-4B2A-8409-0C5F0DD949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sitive feedback occurs when a player’s achievement changes the game state, making future achievements eas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nefits of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s a stalem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wards succ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3776760" cy="26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5DE34-FD88-44C7-889D-F94259F863F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D490F8-E0C5-49BA-BA03-828B302118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rolling positive feedback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give too much power as a rew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ga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ments have a cost as well as a benef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ise the absolute difficulty level of challenges as the player proc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collusion against the leader in PvP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victory as unrelated to the feedback cy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to reduce the size of the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A3872-A158-4CB3-8632-33785BDCBC3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C4F652-AEAA-4A13-8AF2-11824C5AC7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Balance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stagn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gnation occurs when the player does not know what to do n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de clues in plain sight about how to proc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ave the game detect when the player is wandering aimlessly and provide nudges in the right dire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trivia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the computer handle uninteresting details of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D135C-3444-4A3E-8CCD-065704B9BC4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0CC3A9-1A02-4DE4-821F-F79EDEFAD04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to Make Tuning Eas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ize mechanics when poss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avoid creating special cas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parate code and dat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uggestions for efficient fine-tun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only one parameter at a ti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modifying parameters, make big adjustm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onsequences are easier to s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co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pseudo-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F1A04-1071-487D-8E98-147582C0656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E7DD69-CC9D-4854-B824-590285A37DB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ai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dominant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trol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DCEA3-A74D-4EE7-9EFE-C53654B669A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D9F13E-73F3-4119-860F-6639DEF565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symmetric and asymmetric player-versus-player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player-versus-environment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ypes of difficulty and explain ways to manage difficulty to maximize the player’s enjoyment of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0E577-2498-4617-AE12-0010F23473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092E02-2102-4D26-ADF5-CE88DF1E176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phenomenon of positive feedback and discuss ways to control positive feedback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qualities of unbalanced games such as stagnation and triviality and explain how they can be avoid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design methods that can make fine-tuning easi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9C13E-F459-48BB-8E66-F751996997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836393-F42C-4791-988D-C11443AC0A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fair to the player(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neither too easy nor too h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s the skill of the player the most important factor in determining his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 of balance differs between PvP and Pv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AD1C9-3CA8-45FF-A36B-CA9806CC2B8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8A82D7-3378-4DA2-AF80-99F190C4B9D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well-balanced PvP or PvE game has the following characteristic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 provides meaningful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 avoids dominant strateg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They will be explained later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rategy must have a reasonable chance of producing vic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’s skill must affect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 of chance should not be so great that player skill become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1A0B0-5625-4C5E-A5C1-07C1267B32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EDF118-D93F-4880-8F04-6D294A5C502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perceive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player who falls behind should have opportunities to catch u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rarely ends in a stalem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perceives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tion of fairness is different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ussed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of difficulty must be consistent, without spikes or sharp dro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3CC66-9437-44F2-B6A8-416B195D71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8DD12E-4692-4244-ABC5-F29F0585332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y is a strategy that reliably produces the best outcome a player may achieve, no matter what his opponent do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are undesirable because a player has no reason to use any other strategy once she has discovered the dominant strateg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13542-A477-4723-B4CC-53CE4E2FC26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961C3A-48B9-40CA-BFD9-9193319EC63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itive relationships among three or more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&gt; B and B &gt; C, then A &gt; C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ever any reason to choose B or C if A is bes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orrect the imbalance, assign costs to each choi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a more interesting choice, impose shadow costs for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hadow costs are costs that are not immediately appar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itive relationships often used to create upgrades for a player’s abiliti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rt with C, then earn B, then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53454-BA99-4997-ACFC-8F6613F55DB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C75F4F-B68B-4536-8EDF-B8261FEA44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04Z</dcterms:modified>
  <cp:revision>222</cp:revision>
  <dc:subject/>
  <dc:title>Fundamentals of Game Design, 2nd Edition - Ch 11</dc:title>
</cp:coreProperties>
</file>