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4F19-FD19-454B-9654-8F20ABE80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8960-88CE-4265-89E6-B2ADADD9C1F5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D2C7-9B96-499E-9E8E-20261AB1AAA0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291B6-E03F-43B7-8011-DA6BDAD3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92372-C4E1-47AC-80B6-F242E3BF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8E058-4684-4644-B904-5956637F4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A6803-E2B2-4B0B-9787-E77FBB71B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DFFB-3DE9-4818-A2AE-692E15EAA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D109-78E8-4147-9B32-28AD888F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3F3C-8439-4A30-8243-D97475E4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8613-B79E-46B9-A0EB-F8959685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9C5F-C5EE-4B25-B492-2CC8553D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9F70-F881-47F6-ACA7-3A8B75F7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095C-E8E6-4955-AA8B-5D2A3A1A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BAEA6-F332-4125-8F60-780614D1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8798-85B0-47D2-A0DB-33351DEA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C7B3-9E30-464E-9100-3880CB72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AE6D-9DFB-43A4-AC7B-4FAB1655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1E82-5704-4023-AAB8-4EDAAB0BD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4F59-4DC8-4807-878D-F70649D80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D4C5C-42AD-4C48-9A20-EFE7CA09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848FB-0BFC-4B78-A737-B496C596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8E1B1-E63E-4EB9-BB0C-1C170A14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03133-0929-4113-B3FB-174EAA4F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BC10B-EB4B-46BD-9904-8B204199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709FA-8B4F-471B-B6B0-50B58B47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25CF8-D275-4FD7-91D6-79A35820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375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0  Artificial Life and Puzzl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378E-CE9A-4E7F-A43B-EC472F58697D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C25F-4F5A-4FF9-94C0-59A427EBF5A9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D4F9-72CF-4ECF-9605-3CFAD98F014E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0: Artificial Life and Puzzl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a god with limited powers who gets more power from simulated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mnipresent interaction model and an aerial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often share qualities with CMS (indirect control of population) and real-time strategy (compete directly against a rival god)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BAC9A-6C09-4F3F-889D-46F34E81D4A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9919E5-4A71-493C-B310-42DE28C148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conomy of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’s power (mana) grows with the number and prosperity of his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ze of the population influences the maximum amount of mana the player may have and the rate at which mana is restored when it is below maximu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sitive feedback can be limited in various way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eople do not reproduce instantaneous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king land suitable for population growth costs man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a cost of using higher-level powers rises exponential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13AD3-0D98-42BF-8FDD-4D4DC95A720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F50D50-97E8-4D10-9009-D45392AB7F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n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mary challenge is to produce population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 must also damage the other god’s worshippers and repair the damage the rival god does to the player’s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design a god game, start with the question of what powers you would like the go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d game needs a lot of interesting animations for the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61837-D2C1-4BCC-A399-CEC9B894FE8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A55A8E-A8CB-4329-9329-3DFACE7807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about managing a population over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tries to achieve goals for the whol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concentrate too much on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 geno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enome defines the creatures’ inheritable characteristics such as eye color, hair color, height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eles are traits inherited from each pa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f parents have different traits, usually one win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rown eye allele dominates blue eye alle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F17C2-8024-4E16-9CD6-AD8FB9A5A2D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38FD9C-BB9B-4104-9E05-539D226DB7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nge to the gene caused by an environmental fact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tations may benefit the population by introducing random new values into the gene po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fe span, maturity, and natural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creature needs a natural life spa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evolve through natural selection, creatures must have a time of immaturity before they can reprodu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enetic mutations that cause death in children do not get passed on because children do not reprodu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63987-F007-4FA8-8C2C-A72A731562B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C30D6A-F926-4A87-8227-B779E590BE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does the player do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new individuals and add them to the population to see how their genes influence th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d and remove environmental hazards that would weed out certain ge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with the rate and nature of mutation by adding or modifying mutagenic objects or areas of the environm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te individuals to select for particular character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D1880-9AAB-4348-B71F-02D1B63839A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E91392-A07D-40BE-A28B-1DD4DAD0ED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uzzle games, puzzle solving is the primar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s usually provide related challenges, variations on a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types of puzzles offered include pattern recognition, logic, or understanding a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zzles give the player clues that have to be solved to meet the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49B2E-EFAD-44CE-A19A-AA8EC68E92E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EC98C5-E396-4CD9-81EC-4E81FA2639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inspi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construction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he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ise a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y attention to pres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59876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ott Kim’s eight steps in puzzle game design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613D0-000B-4A41-8AB6-12E552FC220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F58124-A3D4-4B58-89C5-3EBED9ECDE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at computers bring to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nonphysical or awkward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omputation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forc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player moves and undo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ucture the exper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bells and whis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onlin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7ED50-3E02-43A3-8DF9-1CA524F028D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4F99E1-44ED-4C0D-A3CC-53C107965E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ecking the victory cond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 to the solution might be different than you plan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eck the solution, not the way it was reach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F19EA-5DBF-4E5A-A5C2-DDD8905E13A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719FC7-1080-4EBD-97F3-F9CBDE486C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forms of artificial life games and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basic artificial life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steps to designing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player’s needs for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F97A3-3799-49EE-9E42-F96A7BBEE00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CE3E18-690F-45D4-938D-EC65D1D3C4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rtificial life game and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basic artificial life sys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steps to designing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player’s needs for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28816-1625-4DB3-8D0E-BC54A758717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2820D8-79F7-4403-9F9A-B86214143A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life is a branch of computer science re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nvolves modeling biological proc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s the study of emergent properti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unanticipated qualities or behaviors that arise out of the interactions of complex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-life games typically focus on maintaining and growing a manageable population of organis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60C56-404F-41B0-A3FC-6D6D0E7CC6A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2B9958-673E-46D9-8223-FB433332C4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simulations or fantasy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cute; seldom reproduce or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ncentrates on training, maintenance, and watching the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needs a lot of AI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ety of triggers and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w the pet's emotions through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E4D39-B91F-4584-A5D7-96BFE7C4625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0DAEFF-2C7F-4653-B52D-4643BEC085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fluences pet's emotions through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should interact meaningfully with other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must be able to lea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 AI distinguishes artificial pets from other A-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pet is a software to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09B64-FA34-4F58-92C9-F5F5CEEC1BB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0365D9-CC11-47FD-8DD1-11824AB355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sims physically and indirectly affects their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sim has a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ss between an artificial pet and a C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has an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72D25-1DE7-406D-842C-A06BFE37E17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4D5E59-3C49-4289-A0FF-73C916F9D1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im has six needs that must be met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s drive the sims'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-based AI is the heart of most simple behavior simul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(in the first edition) have six skills they can impro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teach themselves skil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management is critic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22AEC-5B36-4929-8823-48BB7C86CA6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D1E323-9BB6-458B-9F50-757F9F75AE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 tries to simulate relationships among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ables define each sim's personality and how they react to each oth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ccess of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based on the unprecedented scope for creativity it offers and its emphasis on interpersonal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880F3-3E36-47C5-880C-CEEAEAC8FF1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F85724-A9F6-41AB-A22B-BCB2DBD997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ing affinity between two characte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I Can’t Stand” Rule – A character cannot stand another character who has an attribute above a certain thresho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rds of a Feather” Rule – Characters with high levels of one attribute are attracted to others with a high level of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posite Attract” Rule – Characters with high levels of one attribute are attracted to others with a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lue for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C884E-565E-40F6-A822-8BEEBEDC105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A416CE-96DF-49FC-BDE2-22D37F7236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3:24:51Z</dcterms:modified>
  <cp:revision>528</cp:revision>
  <dc:subject/>
  <dc:title>Fundamentals of Game Design, 2nd Edition - Ch 20</dc:title>
</cp:coreProperties>
</file>