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6.xml" ContentType="application/vnd.openxmlformats-officedocument.presentationml.notesSlide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21436-65AB-45D7-AE72-079738B6F8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ow occurs when the player’s abilities balance the challen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inder from Chapter 9: Intrinsic skill needed to overcome challenge + stress = absolute difficul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view the graphs in Figure 11.8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66EE44-6393-41D7-BAC7-0F4898B55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5B5DF8-5831-439F-9C3D-6339E1639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412DF1-66FC-48EE-87C9-1D5131FC6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D610B1-5688-4087-A7CB-85F6DF02B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65257-E4EC-48F7-B9F2-F9D340EE7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777CB-70ED-4D76-912D-DEACA0159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ADCBD-95C9-4167-A39D-3628AA31F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681FF-81E7-4EA2-8458-629C79E6F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4FF1E-7295-4CFD-99DD-11332B3CE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B70F7-669C-4BA2-80D8-D38CC2A85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2DBE9-355A-401C-ADBF-C1CCDEFDD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C40D72-8C8F-44BA-A95B-2B598447F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115F5-6558-417E-B594-6C85C4ACA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C66C6-0C76-451F-8B69-BADC87C73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FA0B3-49A7-4FA8-B11E-C1D01374D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BDB83-8E7E-48DB-A096-38FD64548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137FC-804A-40DD-A097-8C1C8B2D5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A29FC5-ADA5-44BA-A781-9CED490C1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57E3AD-D98C-4712-AEA9-246EDF40C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4029EC-A9E2-4419-93AB-A536E55FC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295E84-75DF-4E6C-B183-32E80EB85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4A1A44-CF32-4B9C-84D3-1F33457EA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92C1B0-FE02-4B7E-B8C3-BC70EDACC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F902D5-2D12-477B-94C6-12018071F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1760" y="6248520"/>
            <a:ext cx="2841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11 Game Balanc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1FC32-B895-4CF2-8390-353D42D55BEB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E328E-250F-44C6-A2E8-3F39F472D311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8F808-873C-4AD2-A2D8-8B90D91CC6CB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11: Game Balancing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voiding Dominant Strategie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ominant strategies in video gam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transitive relationships (rock-paper-scissors)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f A beats B and B beats C, you can’t assume A beats C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ather, A beats B, B beats C, and C beats A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PS model is simple but can be adjusted by modifying core mechanic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rthogonal unit differentiation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ach kind of unit should be unlike the others in some w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Not simply more or less powerful, but uniquely differen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Guarantees each kind of unit has a unique func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B8E326-B20B-40DF-B1FC-C27B04B85BA0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50C80BA-562B-4465-9085-3D6F840AF18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voiding Dominant Strategi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ominant strategies in PvE gam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mplementing fewer actions in a game risks creating exploit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ctions that can beat any challeng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st thoroughly to eliminate exploi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C18FF2-C1CA-4628-AC2F-FA9F27D01019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630B7F4-445D-4138-B512-1F16C30D31D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Role of Chance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f chance plays a role, how to ensure the more skillful player wins?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chance sparing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chance in frequent challenges with small risks and rewar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ow player to choose ac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ow player to choose how much to ris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6EB80C-1350-45EE-8452-31C5EC88581E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51E3940-6494-42B5-A435-FB5E1AB4CE0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aking PvP Games Fair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o balance symmetric games, treat every player the s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ame rules, resources, victory condi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symmetric games are harder to balanc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ne approach: give players identical quantities of materials or points when they star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s spend points to build units as they wish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s spend ponts to adjust unit attribut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udy 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Starcraft 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s a great asymmetric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05AA57-AC41-405E-BFAB-F9547CF26508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BF6A64B-0317-420B-96C2-A42DE366000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aking PvP Games Fair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alance issues for persistent world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rsistent worlds are never symmetric and always intrinsically unbalanc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ew players need prote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an be rebalanced on the fly by patch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7AC97F-97A2-44F0-ADDA-799D2D6AB7FD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0FC1C4A-7DD6-49E5-8242-7948FEFBF7E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aking PvE Games Fair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fair PvE game shoul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ffer challenges at a consistent level of difficul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oid learn-by-dying desig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oid stalemat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vide information for critical decis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oid requiring extrinsic inform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clude challenges appropriate for the gen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38105B-58D4-420C-875E-1526046A8F76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375BC49-5781-45A3-A933-8EC263A27F9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anaging Difficult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alancing a game includes managing the difficulty of its challenges to keep players within a flow stat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actors outside the designer’s control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evious experience facing challenges similar to those in your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ative talent such as hand-eye coordination and reasoning skil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game that requires cheats to be winnable is badly balance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701F95-2BE3-440B-A1A5-0E4EA10F9DE6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A7175A1-20C3-48F6-8E29-F07706F769E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anaging Difficulty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ypes of difficult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49800" indent="-31536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bsolute difficulty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pare amounts of skill required and stress to that of a similar trivial challeng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49800" indent="-31536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lative difficulty – difficulty relative to player’s power provided by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991440" indent="-3402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ower provided measures player’s strength by means appropriate to situation (e.g., weapon strength in shooters)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49800" indent="-31536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rceived difficulty = absolute difficulty </a:t>
            </a:r>
            <a:r>
              <a:rPr b="0" lang="en-US" sz="2600" spc="-1" strike="noStrike">
                <a:solidFill>
                  <a:srgbClr val="003399"/>
                </a:solidFill>
                <a:latin typeface="Symbol"/>
                <a:ea typeface="Symbol"/>
              </a:rPr>
              <a:t>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(power provided + in-game experience)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A17923-37CC-436E-BE60-FD197999B272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B3C42CA-4449-45D2-9815-C04249DE4CF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anaging Difficulty </a:t>
            </a:r>
            <a:r>
              <a:rPr b="0" lang="en-US" sz="34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400" spc="-1" strike="noStrike">
              <a:solidFill>
                <a:srgbClr val="0b0506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351160" y="1835280"/>
            <a:ext cx="4440240" cy="4059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9B07F3-9783-4F98-87C7-7153104BADD4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95B25E8-C2B0-41CF-8F87-3E2BDC3F988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anaging Difficulty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reating a difficulty progress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rceived difficulty of challenges should stay the same or rise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games for casual players and young children, it should remain almost fla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lative difficulty must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crease over time to counteract the player’s growing in-game experience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B4E371-54FC-4C4B-8138-3E052E7BD336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14C24C2-F0AC-45E7-99CC-F78FF422C3F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ist qualities that characterize a balanced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fine a dominant strategy and discuss ways to avoid dominant strategies in player-versus-player and player-versus-environment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how to use the element of chance in a game so that player skill still ultimately determines the outcome of the game 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DB74E9-A164-4B81-9372-F9FF0B1589AD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83D41DE-4275-4F6E-ABC1-FFC8253C08B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anaging Difficulty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stablishing difficulty mod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 single-player games, allow player to choose a difficulty mod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en a difficulty mode is selected, challenges must stay within that rang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f you can’t adjust the difficulty of a challenge, provide a way around it for the easy mode and block the go-around route for the hard mod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7E6EA7-C412-471A-AE6B-8F6C9982C8A0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6AFF2DB-3458-4512-AE35-C66FA158915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Understanding Positive Feedback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ositive feedback occurs when a player’s achievement changes the game state, making future achievements easi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enefits of positive feedbac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iscourages a stalemate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ewards succes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4648320" y="1599840"/>
            <a:ext cx="4038480" cy="453060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4800600" y="1828800"/>
            <a:ext cx="3776760" cy="267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B3D2CD-BCD3-471D-94F4-1F1B5B684C85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344A483-23C6-428C-85A4-CED07FC631D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Understanding Positive Feedback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ntrolling positive feedback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on’t give too much power as a rewar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troduce negative feedbac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chievements have a cost as well as a benefi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aise the absolute difficulty level of challenges as the player procee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ow collusion against the leader in PvP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fine victory as unrelated to the feedback cyc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chance to reduce the size of the rewar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462FAB-C66F-4FF7-9ED1-3CBE0E9E3ABD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E4D1C89-82B0-45ED-B97F-41A8955B517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ther Balance Consideration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void stagna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agnation occurs when the player does not know what to do nex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Hide clues in plain sight about how to proce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Have the game detect when the player is wandering aimlessly and provide nudges in the right direc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void trivialiti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et the computer handle uninteresting details of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6A6828-DD8B-437E-910C-F358BC4C9994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AB2E743-29F3-42DE-83C7-2424DCFCDCF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 to Make Tuning Easy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eneralize mechanics when possibl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ry to avoid creating special cas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parate code and data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uggestions for efficient fine-tuning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dify only one parameter at a time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en modifying parameters, make big adjustment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consequences are easier to se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Keep recor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pseudo-random numb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84E8D1-A6DC-4390-83EE-A56C694D1B46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C0EBEA5-3616-4050-893C-CF63E024CA4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ign a fair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avoid dominant strateg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use cha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manage difficul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control positive feedbac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97102A-D88C-4F07-89DC-401174DCFBC2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F0B93F1-B46E-4632-B717-C32CA76E99A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ist strategies for making symmetric and asymmetric player-versus-player games fair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ist strategies for making player-versus-environment games fair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ypes of difficulty and explain ways to manage difficulty to maximize the player’s enjoyment of the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445425-4501-4F6E-8865-4CF75563CFE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A33284B-785D-4F05-A51D-80D0A0A2078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iscuss the phenomenon of positive feedback and discuss ways to control positive feedback in the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cognize qualities of unbalanced games such as stagnation and triviality and explain how they can be avoided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ist design methods that can make fine-tuning easier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3E80E2-D214-41F3-82B4-D1137717845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7CAA774-C2D2-4973-BC31-52A51979894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Is a Balanced Game?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balanced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s fair to the player(s)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s neither too easy nor too har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kes the skill of the player the most important factor in determining his succe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ncept of balance differs between PvP and PvE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427809-10C7-4C73-BD3E-6CFA1F55D4F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B191464-A960-4AF2-995F-650C6E7F8DC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Is a Balanced Game?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 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well-balanced PvP or PvE game has the following characteristics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t provides meaningful choi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t avoids dominant strategi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(They will be explained later)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ach strategy must have a reasonable chance of producing victor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’s skill must affect succe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ole of chance should not be so great that player skill becomes irrelevan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07DDF9-E90B-45C0-BF22-73307EC84C2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6AC82BE-D315-4ABD-A728-C8636F0E379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Is a Balanced Game?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 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dditional balance requirements for PvP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perceive the game to be fai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 player who falls behind should have opportunities to catch up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 rarely ends in a stalemat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dditional balance requirements for Pv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player perceives the game to be fai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efinition of fairness is different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iscussed lat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evel of difficulty must be consistent, without spikes or sharp drop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B6E468-1193-4911-9A26-9C341BDBFBE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5776A42-3866-4031-B966-701F60F5D3E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voiding Dominant Strategi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ominant strategy is a strategy that reliably produces the best outcome a player may achieve, no matter what his opponent do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ominant strategies are undesirable because a player has no reason to use any other strategy once she has discovered the dominant strateg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AB15B3-BD40-4A8B-86F5-7ED78CD192CE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7167B84-ED3A-41E4-A40A-8C7D8ED129A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voiding Dominant Strategi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ominant strategies in video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ransitive relationships among three or more entit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f A &gt; B and B &gt; C, then A &gt; C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Never any reason to choose B or C if A is best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 correct the imbalance, assign costs to each choi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 create a more interesting choice, impose shadow costs for choic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hadow costs are costs that are not immediately apparent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ransitive relationships often used to create upgrades for a player’s abilities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tart with C, then earn B, then A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B3C783-9E0A-479F-A455-A158356B3971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59624D8-4108-40E0-988F-118CD4E7790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6T18:59:04Z</dcterms:modified>
  <cp:revision>222</cp:revision>
  <dc:subject/>
  <dc:title>Fundamentals of Game Design, 2nd Edition - Ch 11</dc:title>
</cp:coreProperties>
</file>