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CA84-D027-46D0-8CD8-BF62449F4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elements, including the shell menus, should be in harmo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raction means completely removing processes or systems from the game. Automation means leaving processes in, but letting the computer control them so the player doesn’t have 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point-and-click, player gives a command and the unit or character travels to the designated location by itself, wthout further ste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the primary gameplay mode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o consider the player first in player-centric de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2C40D-9F43-429B-A7C0-CBA848631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0B967-D4A1-41AE-B3EC-E82DF460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BFD19-2372-440B-B9AE-15CDBAB05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22B6E-38A9-40D9-88F8-2EE33D4BE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82DC8-2CB1-4950-A864-125EE4229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FE734-0896-4604-92E1-0C3195AE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65A8B-12B3-47BF-BF68-2404DCA3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B581-1AB9-4F78-94D2-2ADD7B0F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B674-6247-4F94-9B45-B73BE734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874A-16F5-47FF-BB07-A87999BE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5CF9-B63E-4457-9F63-3CA8759D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BAFB2-EEA7-4119-8A58-BCE6E289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07ACB-24E5-4F29-AA9B-D3C3D116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C431-30D9-4DAD-87E3-4C02E49D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D288-0635-4790-A541-20DBCB4C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F8B9-B12C-4E47-921C-F70DC4013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9E3A0-440B-478C-B10A-AD150C47C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BEF52-C8A4-458D-B5FB-2B6529F7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1D86F-FC63-4BBE-9B2C-E000D7E7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B9305-5E65-4021-BD36-FCE56004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7130D-E45E-491E-A779-7CB8C671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9AFD7-457F-4FA6-A789-28BEC055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FE62B-086E-4774-974E-6ECCD6C0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C360D-3D2A-4B2A-BEEC-141B1D11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29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8 User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C564-BDE1-4C1F-8A6A-A8CF27DB6587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BA9A-793B-4675-B159-5D09BA3544C3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A45F-E3E6-4EE3-BD71-6BCF1095AFC3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8: User Interfac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data from core mechanics that you want to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feedback elements to display that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ter defining critical information, move on to option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n mind the general principles of good interface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CEE10-2530-4C10-92B4-548101DEF0C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F2A95D4-74DA-4DA8-A122-57824EFBEA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 the player do what she wants to d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devising appropriate control mechanism for each action the player can take that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visual and audible feedback for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 input devices to player’s actions based on chosen interaction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time you move to new gameplay mode, note actions it has in common with other modes to keep control mechanisms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4084E-8EF0-45F2-A221-6FD1CCD189C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F417C9-8972-4DB0-9FBC-1944348EE1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ell men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menus allow the player to start, configure, and manage operation of game before and aft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hould not have to spend too much time in shell menu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interface is the first thing players see, so don’t skimp on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F4A98-34F5-41A4-89B1-716B8355731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8A3E0DA-831B-4CD0-A5AD-B2ECAC2A42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plify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some detai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e some fun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pth versus bread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ep interface places commands in multilevel menus or dialog box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oad interface offers more options at one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solution is a deep interface with keyboard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694B4-FEC5-4B96-B4BA-C27B42C7C39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47EBBD-6823-4D38-AC9E-9CAA2CA970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xt-sensitive interfaces show players their current op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obs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the user interface, don’t sacrifice function for loo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e UI on someone outside your pro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71CC0-220A-4326-81B6-8BDF308D2AB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DD08890-9CDF-4958-BED9-DE78C9DD1A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raction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ans by which the player projects his intentions into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mon typ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through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rese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on many places at o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a group of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sta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as if on a TV game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kto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ilar to computer desktop metaph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AB6A0-4FEE-4ACF-B352-B95339C4459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7D8548-0884-4D07-A5A9-7EA498711E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termine virtual camera behavior by asking how you want player to view th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Perspectiv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re camera models that are largely fixed and unintelligent, e.g. top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rtually all standalone games running on powerful game hardware employ 3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3D graphics only if you can do it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ood 2D is preferable to ba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509EF-92A6-4507-900F-2299EC1D801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9F9D5E-6260-4B55-A9C5-36849476F6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ittle animation needed for th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You don’t need to design AI to control the camer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find it easier to aim ranged weapon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may find it easier to interact with the environ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not se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ifficult to indicate avatar’s personalit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mera angles are limit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rtain moves are difficul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pid movements may cause motion sicknes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60020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only in avatar-based gameplay mod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s and cons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68325-FC45-48C1-9B69-28DB8D510D00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B9EC57-9665-44C1-866B-4E33FD3B78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for avatar-based games and allows the player to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perspective in 3D action and action-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for this perspectiv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ng camera behavior when the avatar tur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uding landscape objects between camera and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itting player adjustments to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0096A-096F-43ED-8AE3-038AB38F952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AB394C-7F65-4645-90D2-BF2A307769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erial perspecti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with party-based or multipresent interaction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ypes of aerial perspectiv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d to display map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ometric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angle is such that all three dimensions can be seen at o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controlled by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ext-sensitive camera mode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moves intelligently to follow the a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93A16-DE91-4B72-AAA7-08C8CBDCF4A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66FD6F-BA39-4860-A265-549D940D17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user interface mediates between the player and the core mechanics to create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principles of player-centric interface design can answer questions about what the player needs to know and wants to do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steps required to design a game’s user interfa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79EBD-31A8-49DC-8F34-96C69B3DE60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C21112-D64C-4D11-A561-B83B5B9A08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p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2D display options found in Web-based games and on small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gle-scree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ntire world on on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de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 sees the game world from the side as avatar moves left and r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p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andscape scrolls beneath the avatar and new challenges appear at to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ed backgroun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vatar and other characters appear in front of static backgrou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C3661-992B-478B-9660-CE43872CB3F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7B1D20D-ED78-47BB-B8CC-7C197DABEE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in 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be largest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option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indowed view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main view takes up part of the screen, with the rest of the screen showing panels displaying feedback and control mechanis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aque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superimposed over main view; the overlay obscures the ma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mitransparent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that players can see through partial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B997F-1EA0-48ED-A714-2C39E095524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44D810-B577-4440-ABD2-FFE731F416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dback elements communicate details about the game’s inner sta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dicators inform about the status of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gits, needle gauge, power bar, small multiples, colored lights, icons, text are common types of indic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-maps show an area larger than the main view so player so orient her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s give additional clu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65C34-1654-4599-8460-2D963FE8B33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87EFB0-5D0C-4B6F-9013-68604EAB52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portra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give the player a better idea of the pers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function as a feedback element if they ch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ey issues regarding text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localization easier, store text in text fi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typefaces and formatting carefully to harmonize with theme and present information clear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BC9DA-5B30-4453-8C72-D5DDBC06806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F300DA-8B73-4C4C-8A8A-8B87801B1F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bration (“rumble”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mbient soun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alog and voiceover nar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on can be irrita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multiple alternative ver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ing and acting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us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g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37212-22BA-4BC6-B66D-B31C34A7F77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6869C8-FEEA-4B82-9533-19F3E89595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put Devic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elerometers (e.g. Wii controllers), GPS receiv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ional pa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Joystick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use or trackb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chpad and touch scre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er buttons and ke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nobs, sliders, and pressure-sensitive butt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4875E-71DA-4D7A-9174-61A9B4CDD5A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066DBA-AB52-4C0B-B6BD-FF373A407E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reen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toward the top of the screen to move the avatar the same direc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up to move avatar forward in the direction the avatar is fac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FD27D-0E52-45B1-A5C5-EDE65A247EC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5C4CB8-FB44-44B2-AE99-8C7C08A3A0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y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two mechanisms because the movement occurs in the third dimension as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first-person perspective inside cockp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oint-and-click navig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to give directions to semi-autonomous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s a pathfinding algori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give the player more control, allow him to set waypoints for the un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38DD8-40BA-4E8B-ACBF-8107C41408D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40F8FA-3BBF-46CC-9C2A-9E41425A27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llowing for Customiz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ful and easy to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 key reassignment shell menu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ave all customization changes on a per-player basis (like the Nintendo Mii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02395-CE79-4AA2-855F-4DC56FA7699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6A9A1B9-2F7E-4DFE-A6DB-C978A9E203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the player needs to know and how it can be presen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game’s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audio and visual eleme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e input devices affect the 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3D8DB-C7F9-4173-8344-CF1CADFEB5E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6EE2BF-6EE7-4DA6-8A8A-786D490389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options that can help to control a game’s complexit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five well-known interaction model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camera models and discuss their advantages and disadvant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how visual elements supply information a player needs to know to succeed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CB62A-7F9F-4AD6-8261-B543921C62E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C545FC5-25F9-4ED8-A1F2-749B5EEB5E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udio elements such as sound effects and music affect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types of one-, two-, and three-dimensional input devices and discuss how they affect the game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navigation systems and explain how each system controls action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7C947-DD83-4A39-B8AD-ED8A96CCA8E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9F24BD-8D86-4670-B7A4-B4662F6339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the User Experienc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is often called the presentation 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experience must be entertain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utputs = Visual + audio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puts = Contro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8746B-3DF5-40B7-B060-7A443458E28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FBE345-1526-4DE8-B3D0-5FBD6A2BFE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prefer to use a familiar UI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 principles of interface design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good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eizing control from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mit the number of steps required to do th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ppropriate, permit player to rever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mize physical stress; provide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lated info together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DE84E-486F-411A-8BB0-DFD0A120C99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617C9E-3E9E-4B7D-9C0E-4EA69A6975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he succeeding or failing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he doing now and what should he do nex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fer actions the player can perfor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 with NPC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or s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97D8F-DC98-4AC2-8524-74B93BA7561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179560-D22B-428C-939E-0332D10A2B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gameplay modes you’ll n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primary gameplay mode first, then move on to oth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 think about the visual elements and controls that will be needed for each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a different user interface for each gamepla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ach mode, design a screen layout, select visual elements, and define inp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 UI in PowerPoint or Fla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77565-3BB1-4821-B80A-0745DC4E2BF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74317A-D4F4-4CAA-8C2B-D2620360DA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creen layo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will be the largest visual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a balance between the amount of screen space devoted to the main view and amount for feedback elements and onscreen contro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38448-7EB9-4C07-89E7-0F4CDB1C5FF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5F0E99-222B-4D1C-A98A-5D564A9AF3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9T18:15:45Z</dcterms:modified>
  <cp:revision>183</cp:revision>
  <dc:subject/>
  <dc:title>Fundamentals of Game Design, 2nd Edition - Ch 8</dc:title>
</cp:coreProperties>
</file>