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A353-9639-4E0C-835E-E2862777D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6F2F-2344-41CC-8E5C-A3EB40916D05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16AC-F280-4106-A8A9-FB53097AF4B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2C3FC-0F5D-4CB5-8A7B-269F6669C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A3965-FE49-4DC4-8423-610BC7B4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A55EC-45D7-461B-8FB2-FAAEE2CED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57E91-9550-4E3B-90DE-C0D8E654F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2B94-FBE8-43EC-AFAC-961D54DE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E6A1-263B-4D4B-A7B8-3C4DC31D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9DB7-A891-4339-9865-01758BDF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205F-5E46-439D-ADCB-932A69D6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695D-EA7A-498E-B7F5-F18F3E18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EA49-2014-472E-A46B-8D1E9414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17DC-6215-450D-99AB-8071E752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063CD-5F20-44BF-B035-73A5BEC9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AA51-365F-4CFD-9F20-38CAE00B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E65F-B45E-4E3F-B6E7-0F3B81C7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7F14-C218-4ED3-9335-E6BB9C02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D065-A0F3-45A9-9462-CC57AC85D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48BD-41A2-4251-860E-33DB11672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909EE-2477-4CDE-8BAB-B7A93630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B1BB7-2CBA-4593-84C5-D5DE1ED9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B2F28-949C-4BD2-B9AD-3ABD6FEB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F82FA-A217-468F-81BB-5B8FA8DC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B6D15-EFCB-45C9-9783-9B977167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34487-B731-4BB8-A589-E7AF6209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F0B9E-53FF-4124-A09D-BB187D04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1  Onlin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B096-19E5-43CA-8CFA-6DDF0A0F6C1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0466-5170-4727-BDF2-0C60B14D0D62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0212-8D4B-4EC2-B5FB-BCE896A29D5E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1: Onlin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t’s harder to suspend disbelie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sbehavior can ruin the game for oth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ed to produc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earn money through advertising revenue o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keep players interested, you must produce new content on an ongoing bas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s require more customer servi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expect different things from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E09FD-6E98-4451-B987-5C11FF41502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A5B117-4750-4BCF-85FD-E754D13E42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riving 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rt new matches at frequent interv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lounge for waiting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eed a matchmaking service to form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ersistent worlds, late arrivals are at a disadvantage. To assist them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have a victory cond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 competition between experienced players and newcom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 sure that direct competition is consens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533DD-BAF6-42DC-A6D0-E8BB40028A8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661087-BC5C-4646-8EB2-4F73FCAEA79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ppearing players—choose a fair way to deal with disconnections when they occu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nishing player forfe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alty less severe than forfei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ward victory to leader at time of disconn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t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“disconnected gam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andon game entir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refere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ach approach has weakn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9A5B5-0A4C-4AB8-8827-CB1FF05634C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FB20E6-8B6B-419E-A81D-8B5FF09EC5D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provides more freedom for the player and it’s more immers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urn-based is less immersive and requir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ed number of players in on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limit on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ault action occurs if player runs out of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do other things while waiting for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some games all players plan action simultaneously, then server computes the results for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FB753-CD72-48FD-9474-1717575958C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96417E-F14E-4018-AA24-E5616C7AA1F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is a mechanism that enables players to send messages to one an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vate message to one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your tea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the players nearby (in the game world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all players in the game at the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usive behavior is a big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have a strong system to protect childr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BED64-EF0A-4464-95A0-070FA9E0FB0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807B63-1CBE-4AEB-A57D-398FE10AD0D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anisms to prevent/reduce abusive chat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 chat to certain words/phras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ofanity filters (don’t work very we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aint and warning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mplaint button reports offending player to authorit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ffender can be warned, disconnected, or bann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gnoring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gnoring enables player to stop receiving messages from a specific play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sets ignore, so there’s no staff cost involv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live human moder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xpensive, and moderator must be impartial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nly real solution in spaces designed for childr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121F0-33F7-4BA4-B108-2A888EBBC21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AEC332-9566-4D1E-8EF5-73CA8307C6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 of cheating in which players who are supposed to be opponents work together in violation of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enforces rules but software can’t detect certain kinds of collusion such as instant messaging or physical communication outside the game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630A6-B0CB-4842-994C-A61FFB25DEB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A14E4A-8732-451B-89C9-8219A43B1D8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to reduce col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’t prevent collusion comple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 only try to reduce the eff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ider these questions as you desig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will happen if players share knowledge supposed to be secret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 there any mechanism to transfer assets between players that they can abu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can happen if a player deliberately plays to lo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FC7E5-6B1F-4034-AEAA-9758F606DEC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3716D7-CA89-4BE1-9C12-41CDBDC4965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se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a secure telecommunications protoc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rypt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 heartbeat mechanis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unique sequenced serial number in packe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tore sensitive data on the player’s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end the player data he isn’t suppose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let the client perform sensitive oper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B6B2A-C624-4B80-A77B-9E5372D562A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3D0836-FCE1-4FCA-B829-EE693BFCD56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s of persistent-world gam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ce 1978, developers have played text-based persistent worlds called MU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commercial market for MUDs tod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persistent worlds differ from ordinary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doesn’t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an change their ro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expressive and active, not rea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16499-F7BC-4287-BFE4-8BC33D8C85F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18B99D-AE3D-488D-997E-CEC780F5F3D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advantages and disadvantages of online play as compared with single-player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key design issues for online games, including handling arriving and disappearing players, real-time and turn-based play, chat mechanisms, and designing to prevent player 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24B94-394A-4812-991E-6DBFD7223D1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F86F0D-D0E3-40A5-8C1F-7D55A337E8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ard Bartle’s four types of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illers enjoy acting on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ers enjoy interacting with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rs enjoy acting on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lorers enjoy interacting with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0640" y="3346560"/>
            <a:ext cx="556272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61E76-A224-4A72-BFA1-0D75F084AF1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8331B5-950A-403E-AE0A-60958948D7D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n avat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rst thing a player does in a persistent world is create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intain profiles that include information such 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ique name or hand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appear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story or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utobiograph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64FA8-0E29-4FF2-A10F-FBC15B9D2F7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E8F1B1-989B-4695-B24E-98C435E751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ph Koster’s world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ve classic world models ar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aveng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Dungeons &amp; Dragon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-versus-Player (PvP)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2EEEE-938C-4CB2-8025-7711E599740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C897B4-DAD0-4D77-A1C8-2BAF50164A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dea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death must be accompanied by a disincen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ys to deal with avatar death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reduced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some property miss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F341A-7696-4E33-95F9-1D869BDA77F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FE37AA-E449-4F03-B823-883B73C306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more interesting to fight another player than an NPC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rry better loot than NP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social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fight better than AI oppon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Ultima Onlin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experience—without imposed limitations, players preyed on each 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34EF6-3E53-45CB-810F-76AD62FCF2F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3C5FCF-D17A-4971-A7F9-2A26E9C450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ous justice mechanisms to regulate PvP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automated reg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agging of crimin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vP switch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ly consensual fights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afe games; no PvP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tion-based PvP enables players to attack members of enemy factions but not members of their own f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53CDE-B18D-47E3-8B85-0071EA9F547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2B57BB-ACF8-42C5-BE04-B46702221C6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ottom line on player killing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fantasy world, it needs to be fun for everyon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ople pay to play—their cash expenditure mat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ature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time can be paused, sped up, or skip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nline games, time must run at the same pace for every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B926D-836B-4700-A949-4D60B5FB90C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0C156B-862F-476C-BD85-E1476920BE0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rsistent world econom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nd tuning the economy in an online game is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not be able to create something for not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with all other games with an economy, do not create any system that allows players to generate runaway prof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E96D9-2480-47E5-888A-165433D2F8F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11B560-17D9-4998-AAAE-92B70645ED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are advantages and disadvantages of online play and single-play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handle key design issues fo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solutions to some technical security problems faced by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persistent worlds and conventional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online PvP combat issu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17F63-2A8A-4F03-9BAC-7F8EA1A7ECF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0EAF79-70E1-4649-8DA5-9072D0A18F0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some of the technical security problems of online games and some solu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persistent worlds differ from conventional games and what this implies for storytelling, avatar creation and death, and the internal economics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issues surrounding player-versus-player combat in onlin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4E843-323A-4DFE-9778-78142707F61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DFBCBF-C2D8-42EE-9145-6656F8E521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Onlin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ltiplayer distributed games in which the players’ machines are connected by a network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twork can be the Internet or a local area network (LAN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0F00C-4108-4FC7-BDF0-F365624302F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437AE8-717E-4205-AF89-A0C24983258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socializ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offer opportunities for social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games offer chatting (conversation restricted to typing text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games are including voice commun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the creator of an online game, you are a social archit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31D2C-D7BA-41B8-BC0C-C34141762F5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C847D3-6174-447C-B56D-58BD90B8DF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uman intelligence instead of artificial intellig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players compete against each other, less AI is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NPCs when necessa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I-controlled enemies can fight a team of onlin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C6C80-E5C4-4962-A222-915F068B162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AF8496-ECAB-44D4-884E-C28285F935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gameplay can be purely competitive, purely cooperative, or team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online play, players are usually in separate pla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cal play can be two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area network (LAN)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milar to online play, each has her own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play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ayers in the same room using the same equipment, all looking at one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1C006-C1E2-4A72-9E1D-7F494A0AC31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09C6AB-E58A-4386-91E3-0153E6A2D76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blems with local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display UI elements for each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hide information from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s the number of simultaneous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play solves the local play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player has own screen, information, UI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vers can handle thousands of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A74F1-B60B-4D26-9059-2B49F1325DD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AFD8FA-BF20-4571-B400-373607EB21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issu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unication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lient/server—player runs client and game company runs ser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er-to-peer—players’ computers communicate direc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ncy, also known as transmission delay time—players with a faster connection could have an advanta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opped and garbled packets cause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A7A53-D9FA-46E8-AEF1-FC2A8E77858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8B8613B-90C4-470C-806C-A04E015CEC4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4:02:41Z</dcterms:modified>
  <cp:revision>582</cp:revision>
  <dc:subject/>
  <dc:title>Fundamentals of Game Design, 2nd Edition - Ch 21</dc:title>
</cp:coreProperties>
</file>