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796876-DB34-4786-9044-6062EF622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E95354-C0FF-4160-A8D5-B93D18B5C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6F4006-6254-4220-960B-7855BF31B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63CC75-A7EF-44C0-A308-C64194CEE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2040C-D9CB-4156-95F6-3854F9ED3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C2C2C-DC3F-4EFD-9495-0472A2737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03F6B-AE4F-4A22-9AD0-98B1E49DD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D5DF5-A5C5-4E4C-B204-79A17D5FA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38949-42FF-492A-B7DE-659807121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F9B8A-36FB-442C-A3D3-3D0FC2EF7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5A831-86B7-4E38-ACBE-E39000C38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58DE22-1893-4D29-BD90-FBEC62EB7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A750B-2CD2-40D3-BB2D-5E9715B9D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E57FF-5569-445D-B14B-4FF5ECD5F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A1597-39FC-4422-A16D-370D1B885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EFADA-5D18-4514-B958-FE684830C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9E9BC-E378-434D-AFB6-866C5A74A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B0840C-82A4-42F0-9C4C-E55DFAF83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DEC8DD-F886-410F-BB5D-26D8484D4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C005EA-1BAB-4368-9746-AB641D7A1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ED400-5AA2-4628-9590-47A181BAD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14E0B6-AFC4-4E12-B158-5D7CACE38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128A38-C9CA-4725-A66B-617C7CEAA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E704B5-6DD6-4ABB-AE14-146852086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1760" y="6248520"/>
            <a:ext cx="2841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4 Strategy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736C6-6FE8-4BD9-AA0E-41900BA19D2C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57219-FF65-44F1-BF60-C760185658C4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D67CC-A964-4345-A8DA-B27BCF90BCCF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4: Strategy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ing uni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nits usually fall into types so that all units of a type share a set of attribu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me units will also have special unique capabiliti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ock-paper-scissors (RPS) model is suited only to simpl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annot be balanced for complex ga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oesn’t take into account battlefield conditi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C6ED86-60E6-4D07-BC42-723B5CF7A61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2A6E7D8-44F3-42AB-A925-396693FEF62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3581280"/>
            <a:ext cx="403848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ealt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Weap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ang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hot mass and velocity (or power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curac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48320" y="3581280"/>
            <a:ext cx="403848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fensive dodg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pe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urn rat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ss and acceler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ange of vis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ing unit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ccccff"/>
              </a:solidFill>
              <a:latin typeface="Arial"/>
            </a:endParaRPr>
          </a:p>
          <a:p>
            <a:pPr lvl="1" marL="636120" indent="-30888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dern war games use numeric attributes to describe unit’s abilities</a:t>
            </a:r>
            <a:endParaRPr b="0" lang="en-US" sz="2600" spc="-1" strike="noStrike">
              <a:solidFill>
                <a:srgbClr val="ccccff"/>
              </a:solidFill>
              <a:latin typeface="Arial"/>
            </a:endParaRPr>
          </a:p>
          <a:p>
            <a:pPr lvl="1" marL="636120" indent="-30888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umeric attributes used more often are:</a:t>
            </a:r>
            <a:endParaRPr b="0" lang="en-US" sz="26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1DF3EC-3FA5-40F0-8546-09BCC304C5ED}" type="slidenum">
              <a:t>1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0498668-40E7-40C9-A715-DA0601A2C9B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ing unit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ecial capabilities include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ealt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lying or sail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pai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ranspor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nstructing buildings and production of mobile uni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eadership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or every special capability you create for one side, you must also create a capability of similar military value for the other side OR a way to defeat the special capability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515A2E-196D-40A7-A3FE-39E8A7BB9CD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60E68F0-449A-4533-8AF7-B8173466122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34290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ing unit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596160" indent="-289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34290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uting the relative value of un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909720" indent="-31212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34290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Value based on time and resour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909720" indent="-31212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34290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quation for attack units:</a:t>
            </a:r>
            <a:br>
              <a:rPr sz="2200"/>
            </a:b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ttack unit value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= maximum health 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shot power</a:t>
            </a:r>
            <a:br>
              <a:rPr sz="2200"/>
            </a:b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rate of fire 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theoretical accuracy </a:t>
            </a:r>
            <a:br>
              <a:rPr sz="2200"/>
            </a:b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range 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maximum spe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909720" indent="-31212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34290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quation for defensive units:</a:t>
            </a:r>
            <a:br>
              <a:rPr sz="2200"/>
            </a:b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fense unit value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= maximum health 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shot power </a:t>
            </a:r>
            <a:br>
              <a:rPr sz="2200"/>
            </a:b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rate of fire 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theoretical accuracy </a:t>
            </a:r>
            <a:br>
              <a:rPr sz="2200"/>
            </a:b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(range</a:t>
            </a:r>
            <a:r>
              <a:rPr b="0" lang="en-US" sz="2200" spc="-1" strike="noStrike" baseline="30000">
                <a:solidFill>
                  <a:srgbClr val="003399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÷ 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2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4FB665-5392-456E-A10E-86E5EE2C459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4E4317A-CA84-4AC5-A899-F6844CE1879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ing unit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duction rates, unit numbers, and Lanchester’s law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anchester’s Linear Law: In hand-to-hand combat, the relative strengths of two armies are simply proportional to their numbers of troops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anchester’s Square Law: For units that can aim and shoot at one another from a distance and can concentrate their fire, the strength differential is proportional to the </a:t>
            </a:r>
            <a:r>
              <a:rPr b="0" i="1" lang="en-US" sz="2200" spc="-1" strike="noStrike">
                <a:solidFill>
                  <a:srgbClr val="003399"/>
                </a:solidFill>
                <a:latin typeface="Arial"/>
              </a:rPr>
              <a:t>square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of their sizes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D52346-D8A7-4A96-BBFE-953C01C17BC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B884D19-1C6C-47DF-90CC-EEBA956C780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ealth, morale, and fighting efficienc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nits normally fight at full efficiency until their health points are go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f you allow efficiency to be harmed by poor health, the feedback loop will cause injured units to die very quick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rale is represented by a number that increases or decreases an army’s fighting effectivenes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orale also usually produces too much feedback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adership bonus works better, because leadership is unaffected by health or morale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CE47BD-6961-4073-8C0F-7601B9D4DD2B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4C70D55-5CE7-421F-B758-916A96C6093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pgrades and technology tre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searching upgrad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must initiate researc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rganize upgrades into a sequen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llow player to choose which upgrade to researc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pgrades can be applied to single units, unit types, or global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pgrades can be temporary or perman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 a technology tree to organize large numbers of upgrad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F2A709-E5A1-460A-9FD2-C850AF5F1FF3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E413B91-BCCB-4379-859A-B6087854AAD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ogist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nagement of supply: the production, distribution, maintenance, and replacement of personnel and materia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ategy games usually have simplified logist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upplies and consumable ite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on’t track food and fu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f ammo is cheap and quickly expended, provide unlimited supply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ighly destructive ammo should be rare and track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C02C41-655D-4E6D-BE0C-23CBA79FD59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8C5E12D-8882-42BF-9F0D-5BE71AA46D2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ogistic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upply lin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oute over which fresh troops and war materiel must be transported from their source to where they are need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utting the supply line is a classic strateg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ost computer war games model movement of troops accurately, but not materiel such as fuel and ammo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layers don’t want to manage suppli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Realistic supply lines mean creating transport units and modeling the supplies as individual objects 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FF4339-2304-489E-92AD-29DCABE5EDD3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A333E1E-2971-4368-B2D0-731886B5484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ogistic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bstracting the distribution proc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 supply is “magically” available wherever it is need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mpletely abstracting distribution can cause exploi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lternative is verifying that supply routes are open, but don’t actually require transpor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oad-build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uild roads to access resour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oads provide supply rout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wns with no road cannot receive suppli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B03642-501D-45C3-B728-F783822C7EA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DD8856B-F516-48D4-A566-839E58EAE43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efinition of a strategy game and be familiar with the types of challenges that strategy games off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the set of orders that a strategy player will be able to give in your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 a balanced set of units for use in a war game, including defining the attributes that govern their behavio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E24E9B-C217-435E-A9C2-84CCCC0113B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059C056-C8A8-48F7-AFE7-8123548FCB8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ogistic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fluence ma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ny unit within a certain distance from a supply depot can receive supplies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nobstructed route not requir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A42041-768C-4D23-AE14-303C2934D812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5EBB39F-C2E3-4A67-AF27-D414F7A1D81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istorical settin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litary strategy games tend to be set in the pas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istorical setting will be scrutinized for accuracy by players familiar with the ev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orld War II market oversaturat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eed a less popular time period or unique approa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9237FC-6A38-4CEE-BE95-93CC04CE9DD4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860CCFD-87D4-445F-988A-AF34D1D3934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odern settin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isks generating controversy and negative public opin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st be rigorously accurate and politically neutral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me use modern, but fictitious, settings to avoid thi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st address the issue of battlefield scal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 battlefield scaled for fighter planes would take weeks for infantry to walk acros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ne solution is to exclude units that don’t fit the scale, i.e. leave infantry out of games about fighter plan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878B95-A055-4CB1-8469-44070182E346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D7FC3C2-27E3-41B0-9989-95E4E52A188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uture (science fiction) settin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opular and allow a lot of scope for inventio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ght not catch public’s imagin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technology careful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e terminolog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st address the issue of battlefield scale agai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8E8030-3924-40E0-A6C2-8E3D6BB006E0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665537F-5D1E-444E-B9DE-3AAAF39F4BB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ntasy settin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magic rather than technolog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re emphasis on close-range and hand-to-hand combat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42692E-AF76-45EC-A809-A809FE1A8360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8B611FA-D0B8-4B35-98DB-D2F6C5727CD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on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most always multipres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arge scal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indirectly controls units and has godlike view of the game wor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quad scal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maller group of 20 individual un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need to see the big pictu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erial perspective need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56DA7E-EF76-4192-8000-10E0992A2753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F256F69-F712-4FBD-BCED-605914A1299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must control action at different sca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ually present related data in separate window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ke unavailable options gr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 beginner and advanced modes for comman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roup commands by fun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9C8B22-1975-4F04-BBBD-6B022A684A93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65217CF-3A79-45D5-B959-7644C94DC42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Opponen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 tree searc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 tree is the set of all possible future mov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is approach works for only the simplest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eural ne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mics the brain’s ability to recognize and correctly identify patterns of dat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t currently used in consumer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55D48A-CB46-4E69-84DE-D4FED9AB1086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376CF67-D440-4590-B10D-F39268CE578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Opponen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ierarchical finite state machin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successful mechanism for creating AI opponents in war gam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at is a finite state machine?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nceptual machine,not real mechanical engineer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ts rules establish a simple behavioral system for an individual automated charact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ach unit has a set of states that it can be i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each state it continously executes certain behavio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ach state has a list of events or conditions that cause it to switch to a new state, e.g. guarding to attack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BD3D95-27D3-43E5-B7A2-A6638141CFE5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67C8755-A543-4267-960A-ED75D496B5C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Opponen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ierarchical finite state machin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ierarchical finite state machines in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01880" indent="-3438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nes higher up in the hierarchy give orders to the ones lower down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01880" indent="-3438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igher FSMs can order lower FSMs to change stat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I alone usually can’t beat a human player except in simpl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ost AI opponents get other advanta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uman doesn’t know where his enemy i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er gives AI more resources to start wit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D6F98C-76EC-4848-A761-B043ACB660B9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B0B87C6-E11A-4381-AA24-434BD3E110B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pute the relative values of offensive and defensive unit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Lanchester’s laws and how they affect the relative strengths of forces of different siz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eate a technology tree of upgrades for the units that you have designed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AEAD4B-0858-4E06-843F-14F2E12991F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AA1A651-5E05-469C-8FDA-8967130264D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 strategy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fine the orders a player can give in your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a balanced set of un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Lanchester’s laws in comba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reate a technology tree of upgrad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enact logist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tilize artificial intellig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358FA4-7A7F-41F2-B1EB-343BAB9C808F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DD16E5A-AFB4-40E3-9E5F-5766CD9F932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oose a system of logistics for your game and design the mechanism by which it work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most common types of artificial opponents and their strengths and weakness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9792A-8BC1-4CE8-AD2A-7DDEB00949A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3D212D0-3934-44AE-968C-40A5CDA6758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Strategy Games?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majority of challenges are strategic conflict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chooses from a variety of potential actions or moves at most points in the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ctory is attained by superior planning and taking the best actions; chance must not play a large ro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ther challenges may also be present;  physical challenges play little or no par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A4B075-39B9-4511-BAB3-4BF81290DD3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412F0CF-A4D8-4AAF-AAF2-1FF2ED52712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wo main subgenr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lassical turn-based gam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ure strategy games tend to be turn-bas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multiplayer turn-based computer games, players often choose their next move simultaneously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al-time strategy gam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veloped after turn-based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TSs add time pressure to strategy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BDA981-D001-46DA-930F-78C49B97E73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135BE0F-BA4F-4820-BF83-54D0AB24D66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ategic conflic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nflict is combat between groups of uni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actories generate more uni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can choose from among a variety of uni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plomacy and espionage offer alternatives to comba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E8C18B-E48B-4936-B7C1-BCF02D89AD3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F93918D-3F8E-4739-8C37-26FA3F3A717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lleng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xploration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llow players to investigate unknown territor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og of war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unexplored areas shown in black, and explored but unpatrolled regions shown dim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conomic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can collect resources to buy uni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f the economy is complicated, the game is actually a hybrid of a strategy game and a construction and management game, e.g. the </a:t>
            </a:r>
            <a:r>
              <a:rPr b="0" i="1" lang="en-US" sz="2200" spc="-1" strike="noStrike">
                <a:solidFill>
                  <a:srgbClr val="003399"/>
                </a:solidFill>
                <a:latin typeface="Arial"/>
              </a:rPr>
              <a:t>Civilization 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eri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F0470A-2BB8-428E-8945-BCD6BB56601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B95B8ED-6E23-4CDB-92FC-11434E57297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actions involve giving orders to uni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ve to a loc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ttac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op mov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ld a posi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stablish a form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duce new un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treat, dash, and patrol are variants of thes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558AF-69C0-43A4-ACD3-47E6B13E988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B20345F-123A-440E-8E81-30E6271AEC3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7T17:23:32Z</dcterms:modified>
  <cp:revision>274</cp:revision>
  <dc:subject/>
  <dc:title>Fundamentals of Game Design, 2nd Edition - Ch 14</dc:title>
</cp:coreProperties>
</file>