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682B-6824-4A21-AFED-F8AA9C0F9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 sequitur is something that does not follow log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similitude means having the appearance of truth. Sports games must be reali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F37ED-3711-4205-AD22-454F2778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D3CB8-CDC6-4325-8470-38252843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4F8CE-1A9E-4FF8-A726-9E825DEF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9D25D-88AA-494C-AEF5-484C6154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9D92-20EF-4463-A737-9A5F34B5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7DC7-7B39-4174-918C-4D5B461C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F2B3-0E0C-46D9-A89B-63193884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817B-1134-4A42-B4B2-7EF97CAA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7862-1B09-45EA-91F0-B2F4A487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7F96-B06C-4035-80AF-7F62149D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9435-87BB-477F-8944-B473333D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5D733-8591-4D6F-A000-755C96B2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6692-B993-42D3-9D7E-B3DF0D28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5E4C-2B0C-4622-8C4F-D43C0F34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F99F-0439-4DAE-BA52-F3072FA3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F690-CB39-4150-8D89-3FCAF28B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692A-A3AA-47D7-84B9-1DC2C6F49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95686-AE92-43C8-905B-EAC5A6DB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39718-5077-4A86-B22E-6BA3FF38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AB547-FBCC-4096-83B3-85D92967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D66D7-0A09-4268-8215-B7236EB0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3E3E2-1907-40DE-B40A-56D40FCB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41CF9-90AA-45CE-AA5C-193E7917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5E2FE-E27F-4CD2-8EB9-AB801F6A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37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2 General Principles of Level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D090-D78A-41C2-B2B2-C9DB3D3E66E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7303-F4D2-4ADD-8AB1-CBEFD8B9258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3594-C0F8-45CC-86DD-FD8CFED93BE9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2: General Principles of Level Design</a:t>
            </a: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allel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odern variant of linear layou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ariety of paths can go through th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n reflect a foldback story structur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ing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returns to its starting poin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val tracks or twisting road-racing tracks are rin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for rac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49520" y="4191120"/>
            <a:ext cx="145728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913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B9DCF-D953-4575-AECD-84B5BBB1ECEA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881296-3256-44A1-A9E3-1536103232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twork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paces connect to other spaces in different way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ive the player freedom to take any pat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ories must be able to tolerate player experiencing events in any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b-and-spoke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ntral hub is usually a safe zon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rovides some choice of where to g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k off some areas to control sequence a litt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905120" cy="1857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2286000" cy="1901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7726D-2446-4D0B-9F29-0A49C5C0CB41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EEB839-35FB-4483-B35D-E22DE3EA51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ations of layou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bines aspects of several layout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-playing games and adventure games often use combinatio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68760" y="3429000"/>
            <a:ext cx="3605040" cy="26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10EB1-A78D-4D32-B21C-8CB48229B58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8840BF-15B3-4039-8502-8FEA87B2D2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 assembles components to create the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gh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 palet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nd atmospheric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visual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bient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audio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4F6D7-DF01-42D5-AA1F-A9253AA1E1E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25E449-12D9-4056-9211-E43A67DC93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 refers to change o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esigning progression, consider these facto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388620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c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durat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cillary rewards and environmental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actical gameplay reward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3505320"/>
            <a:ext cx="38862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fficulty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ons available to the player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ory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growth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09056-C328-49A2-A56A-086E3B90D82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8C6B80-9CF2-43D4-B26E-E6A428EB8F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cing refers to the frequency of individu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nre affects pac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deathmatch shooters use the fast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use the slow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with fast and slow peri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all pacing should remain steady or become more rapid near the end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9810C-172B-410E-8D6F-2C4A46125F7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BFEE15-2DC0-45F0-A3CB-04147BE5EC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utorial levels teach the player how to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what scripted experience that explains the game’s user interface, challenges, and ac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oduce features in an orderly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witch off features not yet introduc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game is complex, use more than one tutorial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ight screen elements when you introduce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 player go back and try things again conveni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iceover narration or text can expla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rule: Make tutorial level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op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5063C-9E87-4109-84BA-D2F559347DB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C63B93-8F3F-47C8-94EF-DC61FC4AE2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to level design handoff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st features in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rough overview map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pha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level in detai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sequence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cument the gameplay, art, performance, and code requir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693A2-E76C-45B6-9E64-1C787F8683E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912766-7579-45B9-BFF1-58EDA09A09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toty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emporary models of the landscape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s serve as blueprints for the art tea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the proto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edback from the design, art, programming, audio, and testing tea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C39EF-6D57-43F9-9F99-FF648337C00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3933CE-206E-4930-AB7B-9176FE44D8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finement and lock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corrections based on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and correct until the level is flawl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 to art handof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all files to the arti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l artists how the level should look and 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act the audio team for any needed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0E289-DDB3-4961-AE3A-E63DA9042FF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779CD4-41C6-478D-8FCB-5953BB09B7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level design can enhance or undermine a game’s story and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 between universal and 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possible level layouts and understand when to use each and how to combine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BAC23-019D-417D-A158-B5F061E6F03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CD57F2-3C8C-408F-90FE-0A0E973CFA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 art and rigging pa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 team builds the real artwork and rigg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might need to incorporate the new content into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 to level design handoff and review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 final art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duct a re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D3FC9-BF98-49EB-A6BA-5440B1ABACF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8B9AF6-D761-408A-8289-7761BB8BA1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nt integ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semble all the assets into the complet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just any rigging as necess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g fix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for bugs and mistakes and hand off to Q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testing and tun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A creates a test plan and begins alph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oroughly alpha tested, hand off to bet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08E34-6EF5-4B43-A6AE-C18BDEF0203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7AC743-1FAE-4689-9843-C628468912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t the scope righ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within your available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common to design something that’s too bi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events in a game make it harder to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rewarded, not punished, for using their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5378D-F31C-4DAF-A3AB-00264AC1EA9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49F125-466E-45DE-A47A-CCEEF5AB06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typical levels optiona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break the player’s suspension of disbelie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could prevent some players from complet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n’t show the player everything at o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w features gradu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ain the player’s inter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069EE-131D-4C1B-950B-77370218849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EA6A3D-F3D6-410D-8637-22C63FDC06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ver lose sight of your aud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-centric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derstand your target audience and deliver what they w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d the “Bad Game Designer, No Twinkie” articles for more examples of design err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ww.designersnotebook.com/Design_Resources/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_Twinkie_Databa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548F9-8715-4581-AA73-8A559E0AE36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2E0D34-40AF-4344-90CC-0823BBA289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pply key design princip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variety of layo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tmosphere, set a pace, and build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lete the level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common pitfalls of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F1959-B37F-4917-9593-EA452C745EF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7343CE-7168-441B-B5F1-CFE7B08D6FA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atmosphere, pacing, and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aspects of the level design 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some of the pitfalls of level design, such as inappropriate scope an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804AE-E0AF-4F9C-ABD3-B9648F968F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80CEA2-D103-4029-9B51-A97EB16D76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Level Design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403848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pace in which the game takes pla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itial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t of challenges within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0" y="34290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rmination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terplay between gameplay and sto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esthetics and mood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: constructing the experience for the player using components from the game designer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s create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FAD43-1F7A-4DA5-9B48-A830734835C0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752010-4682-4B88-8532-706D9D63DF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the early levels of a game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e player surmounts a challenge that consumes his resources, provide more resourc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early inform the player of his short-term go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F805B-6E6C-435B-B5B3-22FF518F3AD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A87A22-EFD6-485C-95D5-7B0EF9EB16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lear about risks, rewards, and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the player for skill, imagination, intelligence, and dedic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in a large way, punish in a small w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nd more resources (polygons, memory, CPU time) on the foreground than on the backg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rpose of an artificial opponent is to put up a good fight and then lo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multiple difficulty setting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00B3E-25CB-47B0-A35F-5B19EC0892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DD4E8A-A29C-41E3-B179-3F08449DE6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y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-playing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opportunities for character growth and player self-express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risimilitude is vit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hicle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skillful maneuver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608B9-66C4-46D2-9799-9418AD61EE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0CA565-6AB0-4CFF-9185-E59BD2973F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 and management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an interesting variety of initial conditions and goa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struct challenges that harmonize with their locations and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lif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te many interaction opportunities for the creatures in their environmen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ve the player time to think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05EFE-B790-4B02-94A4-9A24CF9CD4E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47A2B8-33FF-48C8-BC4E-9AA01526D53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ow unconstrained move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rrespond to the outdo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in war games and role-play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near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quire player to move in a fixed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 move only to next or previous are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raditionally in side-scrolling action games and 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4398840"/>
            <a:ext cx="2361960" cy="1928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E3D8F-4B36-4CD9-9920-6C9ED8E13C09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F48CD5-8E90-41DC-BCD7-B81EB93C80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45Z</dcterms:modified>
  <cp:revision>242</cp:revision>
  <dc:subject/>
  <dc:title>Fundamentals of Game Design, 2nd Edition - Ch 12</dc:title>
</cp:coreProperties>
</file>