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0677-C82B-4AD3-A432-F0B6D7977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ing errors, tuning, and polishing are the same practices any professional uses when crafting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play is the heart of a fun game. The player is the so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FF2BB-DD43-44B9-A0C1-263E0A6A1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5CCB3-F520-4AD7-812B-C281E99A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C69A0-E1F7-4ADD-A308-E0284ECAF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3DDDB-6639-492D-89F0-A30A77E80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B951-0F45-460D-846F-2313F28F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4389-FBC4-4042-99A7-60EE5D79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17A6-E1AD-4F9D-A814-727B36D1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503C-4E67-4A61-A257-FA8EE62F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31B9-2688-4BD6-A2A8-AC0A759F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23E0-5291-41CF-A02B-837B9244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1391-6F5B-4512-9C95-DF4BAA3C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55419-A216-4919-BE82-D79183A7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2D18-314C-4C23-97F8-40173536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352A-9A9E-4DDB-822E-7A601CCA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616E-7031-490B-B905-A31BB79E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18AC-7199-4265-BE3D-A6D0EEC1E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A1C3-4310-4988-ADE0-CAE3F01DF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18059-0D0D-4426-AF80-1703BA6D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93643-3A9A-4E63-A5BB-26B03742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251E5-4117-4F5F-B647-31607631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FCC3B-F911-4411-BFA8-660531E1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E261F-8C37-42DB-AE11-7928D404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2ECBA-9262-4C40-A92D-7BD10D0B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DC07B-92FD-4E9D-B64F-7A7EB077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9 Game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08C1-CE2E-485D-935F-DE78F2792AD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25DE-B2E1-48BC-B1A2-1B880A52A03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04FC-7A84-4354-B992-790DDEB2C164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9: Game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coordin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speed and reaction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ccuracy and prec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intuitive understanding of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timing and rhyth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make combination mo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 time available to increas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81D63-AD79-421B-8B64-2EA01D91F3C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3618BB-7F37-45CD-A4EC-8CF0C88B26E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c and mathematic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al logic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outside knowledge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increase difficulty, increase the number of objects and the ways they can be manipula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normally get all the time they need to sol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puzzles that can only be solved by trial-and-err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hematical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s require players to reason about probabil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educated guesses with imperfect knowled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BC8C6-FDAE-49C8-9A65-25D87E4EA47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63C657-6134-44B6-A599-BB50BE9E5A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ces and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first to accomplish a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combined with other types of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 pressure increases stress o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ual knowledge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rect tests of factual knowledge usually occur only in trivia and quiz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ther kinds of games, all facts must be present in the game or you must make it clear in advance that outside knowledge is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0559F-3AC6-4CA5-8A50-626EAD2BBD0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ACE970-C815-4410-A673-2ADBCCC028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mory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all things seen or heard i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it easier, give players longer to memorize and test them soon after they have done s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ognize visible, audible, changing, or behavioral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increase difficulty, make the pattern longer, more intricate, or more subt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6C9E8-9D91-4BB7-918E-AFE5E39F4AC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71D51E-9FA1-46D9-8D73-38A3420025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atial awarenes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learn and navig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decrease difficulty, provide a m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obstacle that prevents the player from proceeding until he disabl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unmarked switches far from the do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1DEBF-E494-4911-9E35-EF168D5DE0B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FC2805-DA25-4F32-9580-FE12CDEB3D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ice that harms the avatar when trigge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n comes from outwitting the tr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zes and 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ry place looks alike and player must discover relationships between the are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implemented as logic or pattern-recognition puzzl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64566-0FC8-40DD-BFE0-7D3ED4992CF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E9D79F-FC33-4148-BFEF-87C037EDC8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sm that transports player to a new lo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make the challenge easier, make the teleporter predictable and revers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ing hidden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reasonable places player can deduce from clu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obscure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Easter eg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are special rewards in particularly obscure loc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D21D6-5AAB-4B54-B5EB-DCBB30B3189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8A7B15-AB47-449C-8D5B-5E1E1F3408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direct opposition of forces, some of which are under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 challenges can be broken down into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c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rvival and reduction of enemy fo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ding vulnerable items or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11274-0D94-498B-8859-E3FC74AE42D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9AFBC9-553A-4240-8FFA-9585B14E6D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ehavior of resources creates 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mulating resourc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wealth, points, or anything valua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ing balanc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a more interesting challenge than simply accumulating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ring for living thin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hallenges the player to meet the needs of each individ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F2131-5EF3-40FB-9061-D36F3AF6A6E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0D5B66-1302-4B5B-96B8-9935607BE4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ual reasoning and lateral thinking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reasoning puzzles require reasoning and knowledge to solve a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ral thinking uses extrinsic knowledge in unexpected w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68C20-CAB9-450B-95E3-36C35D780C4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A51044-DB82-4255-AB48-9277D501BB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basic principles that a designer should follow to make games fu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hierarchy of challenges requires players to complete atomic challenges, sub-missions, and missions to accomplish the ultimate goal of winning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quired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nd discuss how these factors contribute to the difficulty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88A07-356E-4FC2-B875-8DC9B00A5B5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CE4DE5-D791-4811-B5FE-DE3871B275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fo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intended to mee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fer fewer actions than challenges to limit size of user interface and animation co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can address more than one type of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ased on player’s role and actions to overcom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C582E-8C8D-4C69-9E47-7114A6A51AC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663969-7ACF-47C5-9C07-248BB1B3A1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that serve other fun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not related to challenges include actions for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structured 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ion and self-expres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ticipating in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ing the game soft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AED3B-D927-4563-A42F-D33B7A20591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406E76-B8AC-471C-AEC4-FB67F09D6A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son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leave and return la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player recover from mistak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courage player to try alternate 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equences for immersion and storytell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rm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s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B1AAC-CC7B-44DB-B67B-725F6C9B91C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5EBB5F-B01A-42F1-8EE9-95C1172F42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ays of saving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word to restart a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e to a file or save s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uick s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ic save and checkpoi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ways allow players some way to save and rel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BC4F4-4916-48E4-8227-E40A750C597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84A65F-6A06-435C-8DF8-875DF37711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the heart of a game’s 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can be organized into a hierarch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and stress determine absolut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ly used challenges test different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w actions can be used to overcome many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allowed to save and reloa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D327B-AB20-4940-843C-0C4927FCC74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C6D2A4-EC44-4B1A-9571-AA5E32980A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challenges commonly used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 in the context of the game world and describe how actions are selected to meet specific challenges or serve other function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arguments in favor of and opposed to supplying a saving mechanism and explain the most widely used method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6C372-E0D3-459B-8023-CE56B34D9F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80FEAD-C031-49D3-9535-C28FBEDEEA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ution matters more than innov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ief reason a game is not fun is that it contains elementary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pects of game development that contribute to fu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ing errors; basic craftsmanship is most import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ning and polishing is seco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Imaginative variations on the game’s premise is thir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rue design innovation is only 5% of the source of fu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71B79-62AB-411A-8DA9-1205872D19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5FB5F3-EA54-4B8C-BE20-41A1ADFEF5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nding the fun facto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mes fir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t a feature right or leave it ou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around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now your target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or automate parts of the game that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ren’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true to your 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ive for harmony, elegance, and beau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A058B-E8D9-424A-9446-7EBFBE44F3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36B56B-9598-4BE5-95B8-B738F1E9FC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y from lowest to high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omic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-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A2D19-8D33-4EDC-85D7-B264FFDADA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EDA8D8-4F24-4948-B1FC-805831BF5C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forming the player about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tell the player about explici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discover implicit challenges on their ow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icit instructions are given about the victory condition and lowest-level atomic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mediate-leve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st interesting games offer multiple ways to w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gnize and reward victory achieved no matt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h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achieves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888F2-20F0-4E25-A553-A0F14BF6E9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DD2905-26C8-4E36-BE11-C024861148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taneous at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coming several atomic challenges at the same time increases th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way of doing this is to bombard the player with enem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games (such as management games) present more complex interrelated simultaneou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re simultaneous atomic challenges a player faces under time pressure, the greater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t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2FF91-0793-4273-9BFD-E90B1B5BD94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45C4A5-BE2E-46B5-993E-F2BECCA289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kill, Stress, and Absolute Difficulty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 require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skill needed to overcome a challenge in an unlimited amount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effect of time pressure on the player’s ability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skill required plus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E6EC8-9E2E-43D9-BABD-C2508F1E265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AD3A39-C877-4DDA-BA28-965D76155E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7:59Z</dcterms:modified>
  <cp:revision>185</cp:revision>
  <dc:subject/>
  <dc:title>Fundamentals of Game Design, 2nd Edition - Ch 9</dc:title>
</cp:coreProperties>
</file>