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A54B-4988-495C-B0CE-A74017A12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94D3-6F3B-4350-9904-39AD895953B3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6B6C-8868-409C-B261-7CF80FBCF20A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08EC-A594-4D83-8CE9-F1DA0EF593F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4187-A717-4802-9E2D-29DFA551ABB9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87CA1-0A2C-4DD5-A6F4-E16401B67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A779A-E1E5-43AA-B357-6DC30518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0E6CE-49A8-4149-87F2-88BF58264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67C5B-9D0B-445A-8831-586D7F9A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9AC1-10FB-4F96-8C02-CE31A217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1D17-587E-4CE4-B300-445F17CB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7F05-7C81-4166-9078-AC7D0930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7A3E-4436-4C7A-B3C6-5512C5A9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F5CA-8F75-4546-BB8A-6BEBC961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937D-874A-4088-AE9F-3723CF05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6610-588B-446E-8F40-1BE6F7C9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6CF60-7456-4699-A148-9E5A80AD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A6A1-EF92-46DA-ADEC-C0A442D6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CFA0-5690-483B-A716-36B3D74A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13DE-1333-49E5-A85C-D5E29534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6ADB-1AF4-4B2F-B46E-71921C0E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E385-29BB-4D2C-9844-CBDC92CC1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52711-B7E1-4FC7-83C1-421DEB41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0ABB4-BD78-4B49-A370-ACDBC29D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E9527-630B-45A6-A918-AD1FB63D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E064D-C0F0-4EFF-9449-8C42AA87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D6E8E-08E5-4374-9EEA-6D55FD2B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74B36-7B1F-4B64-A06D-1E01724F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75585-E23E-4D67-95F6-0484648C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9 Adventur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17B6-D054-41BB-A182-9CBE1DBAB3B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8378-A2D1-44F6-8624-7F8F3399E167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3752-725A-4809-8E00-65F8B2BCB30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9: Adventur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eeps the avatar 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mon in action-adventure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st games allow the player to move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41213-A157-4AE6-98C3-C5FEE1C16FB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5D70AC-670F-4F2B-8927-BA9D7ABBE0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 of the player comes from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dventure games treat the story as a journe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relationship between locations in the world and parts of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became more linear in action-adven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556DE-F536-43D6-A885-AEDBAC14E5D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8384DC-6C49-4EF4-BE0C-5E95A03C08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rises from an unresolved situation or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dramatic tension, start by presenting the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resolution of dramatic tension occurs at the dramatic climax, usually near the end of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can have several different dramatic climaxes for intermediate problems until the final climax solves the final problem and ends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839B4-C685-4EFE-9810-A4FC5288CEA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E083C9-E5C9-4430-B044-5265BB3ED7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heroic qu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majority of adventure games are heroic quests: a mission by an individual to accomplish a great fe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iggest climax should be the last major climax in the game because anything that follows seem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uld be periods of quiet to rest and he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71F48-9756-4FB6-8440-E6A7404EDF5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C12775-91FC-43F2-99E9-D031AE0E20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roblem of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genres (RPGs, combat flight simulators) death is accepted and players know what is likely to cause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dventure games it is less cle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adventure games adopt a fair warning approach, making it clear when something is dangerous and usually offering a way to neutralize the da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n autosave feature to save the game at intervals so the player can restore it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64A0D-76A5-4573-8F5C-4DB511C9791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CD233E-F208-4308-B8A0-FF3ECC357E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Shape 26630"/>
          <p:cNvSpPr/>
          <p:nvPr/>
        </p:nvSpPr>
        <p:spPr>
          <a:xfrm>
            <a:off x="45720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nding keys to locked door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guring out mysterious machin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taining inaccessible object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ipulating people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vigating maz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Shape 26631"/>
          <p:cNvSpPr/>
          <p:nvPr/>
        </p:nvSpPr>
        <p:spPr>
          <a:xfrm>
            <a:off x="464832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coding cryptic messag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lving memorization puzzl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llecting thing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oing detective work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nderstanding social problem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Rectangle 26632"/>
          <p:cNvSpPr/>
          <p:nvPr/>
        </p:nvSpPr>
        <p:spPr>
          <a:xfrm>
            <a:off x="457200" y="1600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hallenges are conceptual: puzzles that can only be solved by lateral thinking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include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B74D6-3A48-47B5-9597-D7D1E5FE5C2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289CB9-6A81-4C51-8966-91BC38C90E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sations with nonplayer characters (NPC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 NPC’s conversation is defined by the NPC’s role, such as blacksmith or tra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games try to sidestep the problem of conversation by setting games in underpopulate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ripted conversations became stand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E7F7E-AE77-43F8-98A9-03137ACFCA2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6AA071-3E90-4D6D-99B9-93AD237C28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p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ics provide cues to location and how that location relates to other areas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pp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p fills in as the player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see the map at any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compass as well if appropri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tomatic journal keeping is comm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D76BF-6CD3-4BB9-82B9-ED6096849A1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716A39-65D7-4FE3-95A9-EC30358062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ew things to avo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solvable only by trial and err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requiring outside knowled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-the-right-pixel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backward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FedEx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03AF0-A128-4272-8DDB-AF0EA2B8CA0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F336AC-1E20-44D5-BB5F-ACC465D934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mov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ment interface depends on the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perspective uses point-and-click or direct control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int-and-click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 contro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yer steers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both walk and run 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0E2E1-A920-4183-A203-C674FFA9A90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34FACF-3724-465E-9EA5-F9DC00B4FE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n adventure game and the common game features of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character and story in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t interaction models and perspectives common to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puzzles and inventory in designing an adventur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B2006-EB8A-41D7-8D5B-880C70842C4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615C55-6B63-446C-8D81-470DE37907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ying activ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nt and cli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ynamical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cus-of-attention highlight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8DD95-19A7-4E75-8D33-7E5DDB5FD12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91BAA0-E423-474B-A335-CE819E5DE3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button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troller button or mouse click correctly manipulates the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u-driven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nu gives player the available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right-click an object to see a pop-up menu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04C06-DDAB-4282-82B1-88C45DC1CCB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787D2E-A2F4-4F22-AAB4-0C991B33FB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ing inven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games limit the amount that can be carri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isible inventory mechanism like a backpack or box is comm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inventory management eas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and close inventory with a single click or shortcut ke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E3288-111E-4873-8A3D-72B98442FA9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ECA2B1-3054-4098-A424-F2EA077103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importance of character and story in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t interaction models and perspectives common to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puzzles and inventory in designing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5443E-F3A9-47E4-842B-7DCC15616D5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A9651E-79C2-4AB3-8225-3EC83FD834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dventur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ve story about a protagoni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and exploration are essentia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 and conceptual challenges form the majority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bat, economic management, and action challenges are reduced or nonexis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86445-B3A1-4928-9220-23687685513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A2F2EE-22D6-45FC-A3ED-D462005C6D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al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dven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was a text-onl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o give the player a credible illusion of freedo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hat spoke to players like a person rather than a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81734-47F5-4AA6-945B-9E20BCAADA3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A0CD06-06B4-4E21-AB85-3EF3A5FB9A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rowth of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popular in the early days of personal compu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ving no graphics made games inexpensive to develop and allowed scope for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ers added graphics when the technology became avail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1C792-3CC4-4616-A57B-0D2A68549E3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9EB4F1-2960-4C71-B82F-EFDAAB0ABB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enture games tod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rket for adventure games has grown less steadily than the market for other 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ment of 3D hardware improved graphics in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-adventure games develo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s hybrid is now more popular than action or adventu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ive solutions improves replay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never 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D3138-0219-403E-B401-F3847A316F0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430725-0893-4534-9C79-C6EEE57D65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 and emotional ton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ting contributes more to the entertainment value of an adventure game than settings in any other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move slowly, which gives designers the chance to create a world with a distinct emotional t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47AFD-1361-46A1-A108-176E16BA09B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CB3223-317B-4CEE-93FA-E25BCB3425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ways uses an avatar-based interaction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rly games used nonspecific avatar, but now avatar possesses his own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approach is tradition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 and first-person games are becoming increasingly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EE4A4-5ACB-4419-B88D-3478E6A442B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AC4224-8E54-42B7-9442-2AA7DFA156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 is shown from the camera angle most appropriate for her current location in the gam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s the designer play cinematographer, using camera angles, composition, and lighting to enhance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ourages a more action-oriented approach to play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ewer opportunities for visual dram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CA044-20F0-43C1-B14A-8F70B4658F5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37DE08-BF8C-4DFE-84D2-734A41A0FF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9:40:29Z</dcterms:modified>
  <cp:revision>423</cp:revision>
  <dc:subject/>
  <dc:title>Fundamentals of Game Design, 2nd Edition - Ch 19</dc:title>
</cp:coreProperties>
</file>