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B916C-B716-4820-8890-B291CEC83F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occurs when the player’s abilities balance the challe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er from Chapter 9: Intrinsic skill needed to overcome challenge + stress = absolute difficul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the graphs in Figure 11.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524F3-BC78-4085-924B-37D25C9E3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7BD7C-9EA6-476F-92D5-0E5A4DF30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B6DCC-E432-4E74-9C4D-5FBD4CF79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105DC-3160-4126-AEA8-F1184A6E7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112CF-C5A8-490C-B2B9-16B258E91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3A5C8-975C-400B-A07D-605F4BCA2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B7EAA-4A4F-4E1C-97B4-9DBD013CF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34160-5A77-456E-ADC5-6C8DE8396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761C9-85DB-426C-A753-161E6328E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B3A3A-6918-4955-B701-2626A24AA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FE7AD-41D9-441F-951A-83285E248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C9AE5-E24A-4F1E-B305-EA6A91FEA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97295-CEDD-49F3-825D-2EEE2F60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C8337-33DF-4324-BE9E-7682A5515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FE52E-0F9C-4F15-9538-61C315698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44A47-A187-4742-874E-D339CAC45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F56E9-85BD-4B7E-A3B1-8BC79F014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01E66-57E5-4825-9384-F915FB3E1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E2FFE-216B-41A6-9EF7-F02FD8F92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C0457-99C4-4F68-BF03-47AE945E0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39E34-56F9-45A5-9073-96DBCAE06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7934B-5C3C-4DCD-90B0-5979E9587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9F9BD-6030-4A4F-8E63-76F8AFF4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6B6CE-BA33-4BC5-8252-1F5BE6BE3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284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1 Game Balan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AE496-5511-4E75-A51B-8FE91E1BD662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5CF9A-6FD8-4218-8627-065C596B2B94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52D2C-D2A3-4448-99B7-B30C56817C84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1: Game Balancing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in video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ransitive relationships (rock-paper-scissor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A beats B and B beats C, you can’t assume A beats C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ther, A beats B, B beats C, and C beats 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PS model is simple but can be adjusted by modifying core mechan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thogonal unit differenti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ch kind of unit should be unlike the others in some w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t simply more or less powerful, but uniquely differe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uarantees each kind of unit has a unique fun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A318E-47F9-41BB-AB3E-3D45ED41C20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36C4015-0BC6-4161-96AF-EC67B494F49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in PvE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ing fewer actions in a game risks creating exploit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that can beat any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thoroughly to eliminate explo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F8767-492D-46E5-BFD9-F52D909A6C5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DA0C1C2-CE43-42F8-AC57-D3E8CCFA68D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Role of Chanc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chance plays a role, how to ensure the more skillful player wins?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hance sparing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hance in frequent challenges with small risks and rewar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choose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choose how much to ri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2A889-C8BC-4D93-84B3-B9AD6980D06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3884811-0D02-456B-B3D5-960F0880D5C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PvP Games Fair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balance symmetric games, treat every player the s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me rules, resources,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ymmetric games are harder to bala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 approach: give players identical quantities of materials or points when they sta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spend points to build units as they wis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spend ponts to adjust unit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udy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tarcraft 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 a great asymmetric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DB94C-7E46-4FFA-A6ED-19133DB9B6C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2ACA15A-C2A9-4FC2-9CF0-002CF058713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PvP Games Fai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alance issues for persistent worl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sistent worlds are never symmetric and always intrinsically unbalanc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w players need prot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be rebalanced on the fly by patch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0BE9F-CC2A-4A52-806D-C54A43004AB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6DBE3ED-B098-4BC7-A5CB-0CA397D0EE6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PvE Games Fai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fair PvE game shou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fer challenges at a consistent level of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learn-by-dying desig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stalema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information for critical decis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requiring extrinsic in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challenges appropriate for the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D3BA3-CE34-4915-8AAC-1BE18854231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171C340-B03E-485A-A12F-D65F11AA1EC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alancing a game includes managing the difficulty of its challenges to keep players within a flow stat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ors outside the designer’s control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vious experience facing challenges similar to those in your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tive talent such as hand-eye coordination and reasoning 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that requires cheats to be winnable is badly balanc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C80C1-EFDA-4874-8F4D-B2059353A3A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5D486E7-77DF-4C03-8710-6866E962D50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ypes of difficul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49800" indent="-31536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olute difficult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are amounts of skill required and stress to that of a similar trivial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49800" indent="-31536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lative difficulty – difficulty relative to player’s power provided by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991440" indent="-3402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ower provided measures player’s strength by means appropriate to situation (e.g., weapon strength in shooters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49800" indent="-31536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ceived difficulty = absolute difficulty </a:t>
            </a:r>
            <a:r>
              <a:rPr b="0" lang="en-US" sz="2600" spc="-1" strike="noStrike">
                <a:solidFill>
                  <a:srgbClr val="003399"/>
                </a:solidFill>
                <a:latin typeface="Symbol"/>
                <a:ea typeface="Symbol"/>
              </a:rPr>
              <a:t>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(power provided + in-game experience)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D6062-68A3-42F9-9FC6-AE635696959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94513BC-B2C3-4086-AC8D-5D5DDDD658E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4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400" spc="-1" strike="noStrike">
              <a:solidFill>
                <a:srgbClr val="0b0506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351160" y="1835280"/>
            <a:ext cx="4440240" cy="405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A1B33-3CCE-47F4-9533-2602311534E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3C57EC7-23B5-44C9-9F0C-440A31D7F5D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ing a difficulty 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ceived difficulty of challenges should stay the same or ris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games for casual players and young children, it should remain almost fla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lative difficulty must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rease over time to counteract the player’s growing in-game experienc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98E45-B612-457C-B6FB-D48FB7839DF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521180E-3320-4404-B42C-32A5395C0A5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qualities that characterize a balanced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 dominant strategy and discuss ways to avoid dominant strategies in player-versus-player and player-versus-environment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to use the element of chance in a game so that player skill still ultimately determines the outcome of the game 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1FA8A-F96E-4556-8B78-B6B8034426C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EE94280-0930-438C-AFA3-48A54BA8E8F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stablishing difficulty mod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single-player games, allow player to choose a difficulty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a difficulty mode is selected, challenges must stay within that ra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you can’t adjust the difficulty of a challenge, provide a way around it for the easy mode and block the go-around route for the hard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79E41-8281-4D22-91E7-40EBED16634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638D91C-69BA-4B19-8CA7-EB51FFB79CD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Understanding Positive Feedback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sitive feedback occurs when a player’s achievement changes the game state, making future achievements easi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nefits of positive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courages a stalemat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wards succe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800600" y="1828800"/>
            <a:ext cx="3776760" cy="26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C92BE-0B76-49A2-AFD0-5A7A4E3A535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E09487D-E856-4E1A-8F69-12F47367820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Understanding Positive Feedback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trolling positive feedback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give too much power as a rewar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roduce negative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hievements have a cost as well as a benef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ise the absolute difficulty level of challenges as the player procee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collusion against the leader in PvP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victory as unrelated to the feedback cy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hance to reduce the size of the rewar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3CD5E-D5A8-4C1A-A7B6-746CA5D957B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2798D62-1B09-4BFE-AC11-5FCB097933A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Balance Consider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stagn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gnation occurs when the player does not know what to do nex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de clues in plain sight about how to proce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ave the game detect when the player is wandering aimlessly and provide nudges in the right dire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trivialit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t the computer handle uninteresting details of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C6AFF-DAFB-4E88-9EE1-1129031626D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E62339E-3AF4-439F-8FBB-23F2D7A8D68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to Make Tuning Easy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ralize mechanics when possib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y to avoid creating special cas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parate code and data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uggestions for efficient fine-tuning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ify only one parameter at a tim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modifying parameters, make big adjustment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consequences are easier to se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recor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pseudo-random numb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3BCAD-F3B1-47C8-B0E2-36C4363A644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8F0FEAC-DCA3-48C2-BB61-A41E0693B28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fair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void dominant strateg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cha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manag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ntrol positive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D94DB-4F07-44A9-BA5C-0D1080A5BF9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B848D18-C688-4892-A4BB-3103C0FC5BA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strategies for making symmetric and asymmetric player-versus-player games fai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strategies for making player-versus-environment games fai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ypes of difficulty and explain ways to manage difficulty to maximize the player’s enjoyment of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F33E1-1C10-42B1-9FFD-7200B77A513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943D52A-36B4-4898-9C37-2D1F579964C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the phenomenon of positive feedback and discuss ways to control positive feedback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qualities of unbalanced games such as stagnation and triviality and explain how they can be avoide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design methods that can make fine-tuning easi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24DB7-5A26-4AA8-ABEF-322365324B4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59912F5-A3BC-4ECE-93D5-0A997262192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Balanced Game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balanced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fair to the player(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neither too easy nor too har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s the skill of the player the most important factor in determining his suc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cept of balance differs between PvP and Pv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FF021-FD46-4223-A7FA-3CEE649A74A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88E86B5-26B3-4BD4-ACB2-40B60F6673B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Balanced Game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 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well-balanced PvP or PvE game has the following characteristic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 provides meaningful cho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 avoids dominant strateg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(They will be explained later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trategy must have a reasonable chance of producing vic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’s skill must affect suc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le of chance should not be so great that player skill becomes irreleva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257BA-DE3A-480B-A84E-0090423077B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3CB3EF3-C0B4-41C6-BEA0-BA7B3B5F68B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Balanced Game?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 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ditional balance requirements for PvP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perceive the game to be fai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player who falls behind should have opportunities to catch up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 rarely ends in a stalem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ditional balance requirements for P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perceives the game to be fai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inition of fairness is different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cussed la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vel of difficulty must be consistent, without spikes or sharp dro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2F663-D9FA-4D89-8BA0-297E43BFF7E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93FD6BA-284F-4E01-AF5A-F4170193993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y is a strategy that reliably produces the best outcome a player may achieve, no matter what his opponent do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are undesirable because a player has no reason to use any other strategy once she has discovered the dominant strateg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764A0-0B99-4637-B0A7-9145478E389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EE92F2D-795C-43BB-8D03-878B020E551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in video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nsitive relationships among three or more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A &gt; B and B &gt; C, then A &gt; C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Never any reason to choose B or C if A is bes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correct the imbalance, assign costs to each choi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create a more interesting choice, impose shadow costs for choi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hadow costs are costs that are not immediately appar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nsitive relationships often used to create upgrades for a player’s abilitie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rt with C, then earn B, then 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7F195-2E9C-413B-93B8-EEF3481602C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B619447-9A3B-4FFB-BDF3-5A5BE3D28BE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9:04Z</dcterms:modified>
  <cp:revision>222</cp:revision>
  <dc:subject/>
  <dc:title>Fundamentals of Game Design, 2nd Edition - Ch 11</dc:title>
</cp:coreProperties>
</file>