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8B0CF-D5AA-463A-8E97-E1A55C76B5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A55DD-2185-409E-B1DA-B37B9326B8FD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061E1-D28C-495A-A68F-B3A99DC76914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73AC0-3925-4034-BBF8-783210CA6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32F5F-2877-4301-86D9-009AAFD7E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2B13D-F25B-48D5-B1D3-B69ADA1CA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EC310-AE1C-452A-B17F-815AF2505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7F3F4-4C16-4693-B3C1-14FBB04AD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A1911-0DF9-4718-9872-0B726E194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C966B-D1E4-440B-B3D0-AE6C8EBBD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0A8D5-4584-491E-B174-333656397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D3B0E-8C8D-4A2B-A8B7-0483576DA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C2F71-3845-4BDF-A1DD-906113BCC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44037-F2E7-4E05-8FCD-0ED5AE53F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7FB34-5802-4CAA-848C-6BC60D0D9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4F570-5868-4DD1-ACDF-2D6BEF0AB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0D497-2296-4532-A26A-A23827DC8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C18B3-6128-4553-90DA-650E724C0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85986-E56F-4FF9-A24D-7362D89B1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280DA-2471-4621-BF8C-247B865C8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2E069-287C-4E31-B155-3D2619C6C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629BE-AE4E-4611-B530-A6A7F2580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28053-E980-4612-AC32-849CAFF02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EEC7A-3922-49CF-B290-A023E5641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8A365-1378-482E-9BA3-B4B8DAF5F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821AF-0BA7-4DB8-BCB9-25FACA975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69BCB-E180-419E-B7D8-6D70C0FCE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8880" y="6248520"/>
            <a:ext cx="3759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20  Artificial Life and Puzzle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00890-BFCE-4DB7-B3E7-95486C79EAB4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7200" y="6244920"/>
            <a:ext cx="26416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</a:t>
            </a:r>
            <a:r>
              <a:rPr b="0" lang="en-US" sz="1400" spc="-1" strike="noStrike">
                <a:solidFill>
                  <a:srgbClr val="6699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B93A7-C149-4F21-A10A-9BDCEAC8B012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A40E8-F19E-4A2F-94CB-62439125FEA5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20: Artificial Life and Puzzle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is a god with limited powers who gets more power from simulated worshipp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mnipresent interaction model and an aerial perspecti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often share qualities with CMS (indirect control of population) and real-time strategy (compete directly against a rival god)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7CA1F-95B6-4AC5-9134-6DDE1D1EAAC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66209E5-D731-4E21-865D-7DC3666F445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d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economy of god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’s power (mana) grows with the number and prosperity of his worshipp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ize of the population influences the maximum amount of mana the player may have and the rate at which mana is restored when it is below maximu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ositive feedback can be limited in various ways: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eople do not reproduce instantaneously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aking land suitable for population growth costs man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ana cost of using higher-level powers rises exponentially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D9CF1-1E5F-46E4-B59F-BA5E527D6D6F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D6BB104-49FA-4E38-897E-BBC87C0FE05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d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n god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imary challenge is to produce population grow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e must also damage the other god’s worshippers and repair the damage the rival god does to the player’s peop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design a god game, start with the question of what powers you would like the god to ha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god game needs a lot of interesting animations for the peo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F6F77-6FFD-456D-AE04-4E886ACEA32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CE9EC41-116B-4161-8AAA-5E7F1B0F9C2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tic A-lif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are about managing a population over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tries to achieve goals for the whole popul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’t concentrate too much on individu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ing a geno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enome defines the creatures’ inheritable characteristics such as eye color, hair color, height, etc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eles are traits inherited from each pare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26240" indent="-31284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f parents have different traits, usually one wins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brown eye allele dominates blue eye allel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17A96-DAB3-42EE-A110-C536DCE86EA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4E10138-EE07-4BB4-85DA-1D5A25166BB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tic A-life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nge to the gene caused by an environmental fact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tations may benefit the population by introducing random new values into the gene po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fe span, maturity, and natural sel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creature needs a natural life spa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evolve through natural selection, creatures must have a time of immaturity before they can reprodu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Genetic mutations that cause death in children do not get passed on because children do not reproduc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D88B2-8D7F-472C-B7DB-27DB0477FBF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8E0B657-D3AC-4DDB-865B-3D75F21ED1A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tic A-life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does the player do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new individuals and add them to the population to see how their genes influence the popul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dd and remove environmental hazards that would weed out certain ge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 with the rate and nature of mutation by adding or modifying mutagenic objects or areas of the environme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te individuals to select for particular characteris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DD0AB-CDF9-4742-B408-9C3EA4D4318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4F3C329-4202-4178-B2CA-17B640EE450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puzzle games, puzzle solving is the primary activ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games usually provide related challenges, variations on a the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types of puzzles offered include pattern recognition, logic, or understanding a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uzzles give the player clues that have to be solved to meet the victory cond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80013-226B-4EA0-81CF-6771D6BD507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6D76DEE-D558-4AAE-85B1-57FFA389B2E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631960"/>
            <a:ext cx="4038480" cy="36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nd inspir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plif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construction se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2631960"/>
            <a:ext cx="4038480" cy="36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 the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ise a sequ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y attention to presen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159876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cott Kim’s eight steps in puzzle game design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FC5E8-B9BE-4F6C-ABB6-68673779044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F7F6A45-99E9-4242-9DB1-5120B150C66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at computers bring to puzz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able nonphysical or awkward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computation f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force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rd player moves and undo th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ucture the experi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bells and whist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able online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6A9E9-8CF8-4B63-B2CE-A0AE5FA4CD0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456DA85-02B8-44E7-8623-E825B55EE36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ecking the victory condi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th to the solution might be different than you plann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eck the solution, not the way it was reach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ED3F8-9E32-4EFD-8861-36F72D939A0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CBEDB0E-8BAA-4653-94DA-4156EEDDF48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t forms of artificial life games and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basic artificial life system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steps to designing puzz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player’s needs for puzz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2BD5D-27FA-4056-91D6-3C4C063F97D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58D3756-8D2C-42E5-810E-CC441E708DC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 artificial life game and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basic artificial life syst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steps to designing puzz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xplain the player’s needs for puzz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614E1-2BC9-498A-8BB2-EE9B4A65DC7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CB26C3C-9DE8-4C85-B59A-860E87EE2DC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 life is a branch of computer science researc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-life involves modeling biological process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-life is the study of emergent propertie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unanticipated qualities or behaviors that arise out of the interactions of complex system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A-life games typically focus on maintaining and growing a manageable population of organism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B7ED1-044A-49E3-943F-2BC489074B4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44F202E-8908-4C2E-8FDA-45628BD7687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 pe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can be simulations or fantasy pe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most always cute; seldom reproduce or di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concentrates on training, maintenance, and watching the cr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t needs a lot of AI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riety of triggers and behavi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w the pet's emotions through behavi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6208C-2527-4105-94D1-CF84D275533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804656B-59A5-42D4-9F8E-9ECF29F60F0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 pe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nfluences pet's emotions through inter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t should interact meaningfully with other pe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t must be able to lear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ich AI distinguishes artificial pets from other A-lif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ificial pet is a software to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 victory cond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685F4-91E3-4A10-933E-74EF4818571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CA9E7D2-22C1-4758-8C7E-FCC64D76CD8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he Sim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ontrols the sims physically and indirectly affects their relationshi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ch sim has a person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oss between an artificial pet and a CM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me has an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F8AFD-500C-46FC-A989-35069381761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DF384E3-88EA-4D58-AD4E-271D67FED86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he Sim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im has six needs that must be met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eeds drive the sims' behavi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eed-based AI is the heart of most simple behavior simula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ims (in the first edition) have six skills they can impro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ims teach themselves skil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ime management is critic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0B242-D77D-4958-8A8A-E39A6A29AEC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3BF859F-7899-4282-9EAA-1573617EBE1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he Sim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sonal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ame tries to simulate relationships among individu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riables define each sim's personality and how they react to each oth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ccess of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The Sim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is based on the unprecedented scope for creativity it offers and its emphasis on interpersonal relationshi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A7A5B-D8FD-404C-BF2D-C12E0E800C5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BCB0D42-32CC-44C9-94DF-C294E98FB59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ing affinity between two character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“I Can’t Stand” Rule – A character cannot stand another character who has an attribute above a certain thresho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irds of a Feather” Rule – Characters with high levels of one attribute are attracted to others with a high level of the same attribu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posite Attract” Rule – Characters with high levels of one attribute are attracted to others with a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low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lue for the same attribu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EC2E8-987A-477A-8835-168E69E81A4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B932C5A-2E1E-4D28-A048-D33ECE6A51A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12T13:24:51Z</dcterms:modified>
  <cp:revision>528</cp:revision>
  <dc:subject/>
  <dc:title>Fundamentals of Game Design, 2nd Edition - Ch 20</dc:title>
</cp:coreProperties>
</file>