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BDB39-6E29-4039-B6FC-47FC4CE56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EF3A7-1C68-45AE-8E44-3120708E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FBD62-4B56-46D6-9B20-38D0F883B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AF4C2-3A15-4888-A5B9-120D489E4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61ED-03D4-4C20-B06D-8E12C7BCF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175F-E5F7-4112-91CC-E830FB90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2441-15EF-4F8B-BEE9-35632292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25D6-699F-43E0-A401-8921DCA9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4BB6-FA84-4E43-A092-95846FFF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ADAE-6390-41CF-9902-4C904F2D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BAB6-8973-4E9A-BF29-D4120897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8D903-AB23-48A8-B0D6-0786FD7C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433E-5561-4B18-927D-82F68732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D08D-7640-4A82-AA95-B8C60860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D6EF-589B-47B9-8DFC-789B7852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0722-DA66-4954-A9B1-3E61CC7A2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B534-2ED1-4229-BF2F-DB00B64F8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7E6C0-BB49-400A-8FE3-A59F3D28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4E153-544B-49E8-B204-0F2F4C5B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62A39-C0B8-4654-AFDE-31CDA46F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3CD1E-0383-433D-A0FD-47C8CF45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5FDDA-8FFE-4FBB-BF3B-F7E9DB31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83E1F-7EAE-4ADE-A347-01441C6E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BE8D3-7E38-4F69-9E3C-F0FE2A86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5 Role-Playing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A999-2D73-45E1-88F9-CF7C185E9B6E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B176-56C8-481F-87FD-D442006E6217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34E1-6E42-4F29-9F7C-52A9F5BBAB61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5: Role-Playing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and comba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tions include setting a destination, designating an NPC to attack, and using special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vers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u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s dialog tr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d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y and sell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vento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ge carrie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BA485-243E-41EB-A312-699107E0C23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91ED53-8CA8-470D-839E-9613EC4FAC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olling di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k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w the probabilities to get the result you w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termine general abilities and qualities; change infrequent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x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cla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, mental, moral, and social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45ADD-8C8E-4077-B2C2-44D0689C0D5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D0C1A6-358D-485C-93DE-DEEFD21F5F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, experience,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ributes that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points and character level  measure the character’s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smetic attributes add richness to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BCB51-0508-4D49-A39B-D8A54FCF807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1B8D82-06E5-41A0-9A91-497D85A478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gic and its equival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 that allows characters to influence the world by means not available to us in real lif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ience fiction implements magic as “advanced technology”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of magic restricted by character cla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magic, how it’s invoked, how it’s 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often spend magic points,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n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ana system is more convenient and flexible than the D&amp;D “memorization” syst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91C3C-AFF8-4DA5-B3A7-4C36A3F5B8D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3D9868-F226-44A0-B0BD-A3DABAF3B1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kills and special capabi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taining new skills for a character is similar to upgrading a unit in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trees provide a growth path similar to a tech tree in wa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RPGs allow the player to create the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l dice to generate points to distribute among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DABA8-0D44-4BBA-B7FC-32392012EDA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A95AAA-2934-4211-87DC-45D4A109E7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nd to be fantasy and science fiction sett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appealing to explo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RPGs provide an editor to enable players to create scripted adventure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B8DB2-3959-4796-9E42-BFEF7F0B7D6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409D9D-CC2B-4723-9AA5-00101479FE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, determine the game’s overall ques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, design the episodes that the player experiences from the beginning to the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e an enticing ope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D686A-9E73-4370-96A8-53534251AB2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E00354-FCA6-483F-B0A5-135AB45920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 in single-player CRP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-based is becoming more common, howe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 in multiplaye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person or third person for avatar-based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allows player to see all members of the party at once as well as surrounding ter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08EA6-97A7-4381-9ADA-9A6EC8AB2B2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7DAD98-924D-42BE-AA02-D217693891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de range of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terface can be complex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de the mechanics to aid the player’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ve task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nstead of making the player try repeatedly, automate the repetition and sho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progress b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character has low skill at the task, it will take a long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the player to interrupt and abandon the attemp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6B7FA-FCD8-4946-BE0B-3CD1EE66BA8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4A155A-5A67-4589-A5F3-10EAAD6129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role-playing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evelopment of the role-playing game from tabletop to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a world and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xperience points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gameplay modes for 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612CB-B352-499D-BB53-7F0BBCD0191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0641CE-9FF5-4C97-ABA8-9EDEB33592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role-playing games and the game mechanics common to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history and evolution of role-playing games from tabletop to comput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character attributes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7D65A-4D8F-4A45-A345-44DFBE559B5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126AFD-5C99-4F47-9A1A-79C045E089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world and setting suitable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use of experience points and character level for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gameplay modes within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8C9FC-96C4-4D72-BBFF-6E5B5D6DA3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04F9BE-5213-4B02-BCF4-E075809A5A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ver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jective is to experience a series of adventures in an imaginary world, through an avatar or a small group of characters whose skills and powers grow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sential parts are the quest or story and character growt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ctory consists of completing th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just enjoy exploring and interacting, even without trying to w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58650-50ED-43B2-A163-A594D18FE31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1D3281-BED0-446E-AA92-AA372586A9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types of challeng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gistics (managing supplie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grow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sol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2FC13-7040-4595-8E18-34406926224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5F1A63-0084-48BA-9F83-BCC27948BE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war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include combat governed by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ll group of characters who exhibit growth; no factories to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r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ge group of identical units; factories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CA50D-8322-4DC6-8D46-C28CF14AA1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943735-5D51-4E35-8A40-19106596BB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 becoming more common in hybri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such as buying and selling as well as conversations with other charac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zzles more sophisticated than in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are rar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DCABA-6EDD-457D-B910-0E76B65CF61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3C4B59-D494-4FE0-A8A9-FF0367493C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br>
              <a:rPr sz="4200"/>
            </a:b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have rich storylines, highly detailed characters, and 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-defined character; characters defined by numeric attributes that improve over time; complex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tar provided by the game; concentrate on a single character; puzzle challenges; no numeric attributes; personal growth; simple internal economy (or none at all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719E4-7E33-40D8-B91A-EFDBF53B0B2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FA65E9-492C-4905-BF3C-A1CDF713A1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and combat make up a big part of most CRP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ing the world is an overused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find an alternativ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ng quest broken into epis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 challenge at the end of each epis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tional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31950-F2E2-45E6-99C8-10E176D24E3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25A047-3D3D-4F81-AB69-B25786BEE2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9:38:35Z</dcterms:modified>
  <cp:revision>280</cp:revision>
  <dc:subject/>
  <dc:title>Fundamentals of Game Design, 2nd Edition - Ch 15</dc:title>
</cp:coreProperties>
</file>