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DAE3-F273-467C-B601-0627F9A47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on sequitur is something that does not follow log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similitude means having the appearance of truth. Sports games must be reali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62906-F6E4-4092-A19C-193CDAB82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7A201-94EF-46EE-8B73-CB7527B9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DD9F2-0762-44E4-96FF-D036CCEA1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B1A84-39D1-4111-B730-A93B7E52A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3110-E82D-4D6F-AB70-B5E88A49E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7E03-12A1-4B5F-8145-FC471FC1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27C0-D3C5-41A6-B8D0-B866FB11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0D1A-39D7-45BC-B133-02BB1B3E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73B8-F6EF-4B52-8DAF-69427950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25ED-CAF3-48EF-B8D8-3555103A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48E9-F427-424C-BA3D-F8C353E9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02865-3FC9-4923-97A7-A0B5BA64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0B64-A10C-474D-9627-6AD9AF73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5B9B-5C47-4C28-810A-75CA31B2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A854-977D-4359-9A8B-809B0532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F5C4-FC57-473E-9DB5-C3C384E57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23C7-6DCF-4BB2-84E0-CAC0A584A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CA818-2F0F-4824-AB32-01D9148F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A62D0-9815-4C32-BECF-4F6E3D2C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0055F-68CB-4C9F-A570-77FA9B3E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4A50B-1552-420E-B827-C852CBA8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518DC-F8FB-4D3F-9B9D-81ABB379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09165-2254-4124-A281-84EE4959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54D1F-16F6-4A04-B305-2559BF58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37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2 General Principles of Level Desig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AE09-643A-4984-A6D2-B78F5C638062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B20B-7D57-45EB-B766-9C89D77C0A89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7193-42E4-4F16-AA1F-7EA2DF9A62A9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2: General Principles of Level Design</a:t>
            </a:r>
            <a:r>
              <a:rPr b="0" i="1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allel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odern variant of linear layou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ariety of paths can go through th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n reflect a foldback story structur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ing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ath returns to its starting poin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val tracks or twisting road-racing tracks are ring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for rac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49520" y="4191120"/>
            <a:ext cx="1457280" cy="2158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7913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9D0F6-64BD-4CA1-A3CB-D84FE2FC5256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F2D896-A7BC-4BA8-86CC-54E0272B54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twork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paces connect to other spaces in different way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ive the player freedom to take any path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ories must be able to tolerate player experiencing events in any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b-and-spoke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ntral hub is usually a safe zon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rovides some choice of where to g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k off some areas to control sequence a litt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4419720"/>
            <a:ext cx="1905120" cy="1857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638680" y="4343400"/>
            <a:ext cx="2286000" cy="1901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BFF0E-74A6-4D82-B44B-54779BCD0307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DB6A7B-BA49-425D-BD47-72DF1AB834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ations of layou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bines aspects of several layout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-playing games and adventure games often use combinatio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68760" y="3429000"/>
            <a:ext cx="3605040" cy="267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A6DFD-B4C0-4907-BCBC-4940F5FD271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42D274-2881-4910-981A-A732C76794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 assembles components to create the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gh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 palet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nd atmospheric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visual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bient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audio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C5C94-EFB4-4AD3-9BC9-A741A2FE048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D4F4CB-663C-40D2-8FD7-AB539A5E78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 refers to change o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esigning progression, consider these facto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505320"/>
            <a:ext cx="3886200" cy="23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c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durat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cillary rewards and environmental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actical gameplay reward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3505320"/>
            <a:ext cx="38862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fficulty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ons available to the player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ory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growth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45A02-842F-4184-8148-22BFBAD11D2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2786FF-8F7A-4B0F-8458-9390D1B511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cing refers to the frequency of individu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nre affects pac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deathmatch shooters use the fast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use the slow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with fast and slow peri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all pacing should remain steady or become more rapid near the end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8B8EA-1F16-44DE-B04B-9D24F4D8943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5DE070-A19C-4027-9526-0F3F403F47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utorial levels teach the player how to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what scripted experience that explains the game’s user interface, challenges, and ac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oduce features in an orderly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witch off features not yet introduc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game is complex, use more than one tutorial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ight screen elements when you introduce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 player go back and try things again conveni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iceover narration or text can expla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rule: Make tutorial levels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op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C4B90-5BCC-4C88-9D66-0087BFA5207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DDF5CC-26B7-409A-97E7-0C9A26CF4A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to level design handoff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st features in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rough overview map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pha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level in detai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sequence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cument the gameplay, art, performance, and code requir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C5586-0F5F-483A-A333-CAF646F475B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8F0EB9-150E-4AEB-8800-ED1AA2995E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toty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emporary models of the landscape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s serve as blueprints for the art tea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the proto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edback from the design, art, programming, audio, and testing tea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B1B28-3F0F-4EE5-89AF-529B99320AB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94F3BC-BCA3-4D1A-9CB0-C4752F7C63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finement and lock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corrections based on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and correct until the level is flawl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 to art handof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all files to the arti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l artists how the level should look and 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act the audio team for any needed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B372B-8281-4BE9-AEF7-6D2A6F5A77E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0BD42F-871C-47ED-93C0-7FDBF2EC6F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level design can enhance or undermine a game’s story and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 between universal and 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possible level layouts and understand when to use each and how to combine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E3C56-0D08-4874-A7EB-696189EE416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568405-821D-4432-AACF-30B07022FA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 art and rigging pa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 team builds the real artwork and rigg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might need to incorporate the new content into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 to level design handoff and review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 final art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duct a re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2CA97-EDC3-492B-85BC-C2327A78B6C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F6C5A5-828C-4F43-B093-1E119A1382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nt integ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semble all the assets into the complet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just any rigging as necess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g fix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for bugs and mistakes and hand off to Q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testing and tun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A creates a test plan and begins alph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oroughly alpha tested, hand off to bet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7DB27-B37A-4D76-B8DE-F94853DB9D9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D8FD07-2CFE-4846-8E08-6E560FED6C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t the scope righ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within your available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common to design something that’s too bi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events in a game make it harder to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rewarded, not punished, for using their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2DB3E-14E1-41A5-B393-424ADFD2BEF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8E2F82-089A-4DAD-A7F8-86819344A0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typical levels optiona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break the player’s suspension of disbelie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could prevent some players from complet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n’t show the player everything at o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w features gradu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ain the player’s inter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0F9DB-0156-4D02-B88A-0BBB877BA3B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EAF277-EF8A-4CC5-819B-5001822C12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ver lose sight of your aud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-centric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derstand your target audience and deliver what they w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d the “Bad Game Designer, No Twinkie” articles for more examples of design err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ww.designersnotebook.com/Design_Resources/</a:t>
            </a:r>
            <a:br>
              <a:rPr sz="2600"/>
            </a:b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_Twinkie_Databa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5A829-DF43-44FE-BE26-3E0CE917F9E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1AE40A-1B9B-429E-B67E-191ED9C412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pply key design princip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variety of layo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tmosphere, set a pace, and build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lete the level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common pitfalls of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40B22-95CE-475C-9B73-343B877779E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7F6E27-1AD8-4617-BFE0-4336C12EC9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atmosphere, pacing, and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aspects of the level design proc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some of the pitfalls of level design, such as inappropriate scope an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86BC3-56A8-40BF-B475-640E4C57BC5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2D5519-37BB-40BE-BEC1-293ACD93A3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Level Design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403848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pace in which the game takes pla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itial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t of challenges within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0" y="34290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ermination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terplay between gameplay and stor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esthetics and mood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: constructing the experience for the player using components from the game designer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s create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CCE61-51BE-47D8-8DA3-D7DAAC08603C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D6F51D-DB8F-421B-8AD6-6AA3F35C6A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the early levels of a game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e player surmounts a challenge that consumes his resources, provide more resourc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early inform the player of his short-term go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6773C-9817-45FA-A40A-C738649A62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8037E6E-4E88-42A1-BC7C-57C824D410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lear about risks, rewards, and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the player for skill, imagination, intelligence, and dedic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in a large way, punish in a small w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nd more resources (polygons, memory, CPU time) on the foreground than on the backg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rpose of an artificial opponent is to put up a good fight and then lo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multiple difficulty setting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502A2-C9E2-4BE3-B9F5-CD7223218C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4B057F-BAF6-47D1-9058-903D354361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y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-playing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opportunities for character growth and player self-express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risimilitude is vit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hicle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skillful maneuver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E02EB-F2F9-4E42-8E82-4DA79DE6AF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B130D2-76D1-4462-8E7C-F3EE20394C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 and management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an interesting variety of initial conditions and goa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struct challenges that harmonize with their locations and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lif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te many interaction opportunities for the creatures in their environmen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ve the player time to think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7AF25-6A20-4EBC-9762-E28DE555209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91D16D-626B-4284-BE96-DD0EFE4306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ow unconstrained move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rrespond to the outdoo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in war games and role-play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near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quire player to move in a fixed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 move only to next or previous are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traditionally in side-scrolling action games and 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4398840"/>
            <a:ext cx="2361960" cy="1928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8FB67-F3E8-4AA8-B544-CF7B8984CB51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1B430E-6DB9-4FAE-8013-37FC5819F1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45Z</dcterms:modified>
  <cp:revision>242</cp:revision>
  <dc:subject/>
  <dc:title>Fundamentals of Game Design, 2nd Edition - Ch 12</dc:title>
</cp:coreProperties>
</file>