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88861-6D51-48C5-8335-33FEEF0193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vatar can be a mix of the two types. Some characteristics are known, but the details are not fully fleshed 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505684-8CF0-46E6-9435-81F9AE131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E80E71-F538-4B2F-84A3-A1A126D0A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B95E79-981D-43F7-A6A5-0FD6BCBDC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34264-F48E-4071-90B4-07EA36B3D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B9336-B8B4-49A8-A621-1DCBD1570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D8929-B400-4B72-AD83-50B15F9B4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47633-7AC4-4BA8-88E2-337ABF390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441B6-3CCF-4C9F-B8AE-F9BAEE02F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7DF98-B55F-41A4-85CA-EBA9D426D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9C4EB-1E57-4CCF-A109-4EAE0652A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D7054-A1AA-4363-8DCB-A1B66B016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CD3E38-6016-4540-AB20-3E101E179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0FD5B-8CB1-43F4-BF9E-3653097E2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C2FC5-F2D3-4B74-B8A6-4C6BC63C5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95611-41F1-4FEA-9DEA-D7C3FEA8C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C1F55-697E-45DD-A82A-58038DDCD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6F159-C89C-4899-BA31-5927A8DB1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9A7ABB-9FF9-4D1F-B862-33A48CB5E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4A097C-FE6C-4D9B-B735-11ADD2D7B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02C54B-7170-40CB-A852-8EDEE5F75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C309C9-E8C0-4B59-A8AC-A2B7A1ED1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541163-49D1-46EA-A3BA-56CFD57D6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10210F-1F11-4391-B86E-4D5739922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C7D57D-347B-42DD-BF74-0CE6AB765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307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6  Character Develop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75D08-0C6F-4CBB-B1EC-41EB451EB9DA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34249-EB01-4F55-ABC7-77CD74D8A543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C8BB8-3CBC-455C-A207-D6AC28B39E61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6: Character Development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168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ing Your Avatar Character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ow do you want the player to relate to the avatar?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lect the control metho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lect the appearance and personality (unless the player designs the avatar)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re details create more independ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lect qualities the player will find appeal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8906C0-0534-424A-AECA-7AA70FE19E6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8C55779-85F3-436D-B962-D7C3684083D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Visual Appearances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t-driven character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st method for simple characters who don’t change during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-driven character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st method for complex characters or characters who change during the gam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9DBB3C-0CC4-470C-9420-97EB24A74EF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8DD7C66-D2D3-4B13-ACC8-A98C8487148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haracter Physical Typ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s fall into three general categorie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umanoid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physical features like a human’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nhumanoid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shaped like vehicles or machines, animals, or mons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ybrid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beings such as mermaids or human/machine combina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t-driven characters are usually stereotype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common character stereotypes are cool, tough, cute, and goof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1FD2F8-F25A-482B-8AA8-A998A5A1CBB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EB94EAD-EEFF-4508-96A0-1BCB904E6CB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haracter Physical Typ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ypersexualization is exaggerating sexual attributes of charact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oid hypersexualized characters because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are cliché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appeal only to a puerile audi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may turn off part of your target audienc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FB0AF8-7D4C-4529-B61A-81A05EDD63B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A195AE9-EE5D-4141-8B7F-47E0670E2E7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Clothing, Weapons, Symbolic Objects, and Names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ccessories reveal personal sty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oice of weapons can also be reveal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ransferring an object can symbolically transfer a power or rewar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ames can reveal a character’s personality or ethnic backgrou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f you overuse this technique it will feel cartoon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A7D053-B53B-4592-BE81-026D8F16F7D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F9B3400-8E5A-4EA3-B3C6-43E7F02ADF0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lor Palette and Sidekick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 a signature color for the main charact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oose a color palette to reflect character’s attitudes and emotional temperam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dekicks offer several benefit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allow you to give the player additional moves and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extend the emotional ra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can be used to give the player information he wouldn’t get any other w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3178A8-44E9-425C-8567-BFE425BA0FA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254E9CE-419D-46F7-B993-36A1154AD1C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reating Character Depth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can convey a lot about a character through appearance, but not everyth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f you begin character design with the character’s role, personality, and behavior, you are doing story-driven character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decide these things first and then let artists develop a visual appearan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5D4089-3A71-43E0-84BD-502531435888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712A755-7BAA-48D6-B63D-6015707E578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Role, Attitude, and Valu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very character in a game plays a ro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 design characters, you have to envision them and answer many questions about them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eate a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backgrounder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, or character background paper, for major charact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how character personality through appearance, language, and behavio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7CBC32-1A0E-40C6-AC4C-D3DD6C13CC6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0E83F37-B9C1-4110-AA52-15796C2EF9C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ttribut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ttributes are the data values that show a character’s location, health, property, etc.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ttributes can be divided into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atus attributes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that change frequent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Characterization attributes that change infrequent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  <a:ea typeface="Arial"/>
              </a:rPr>
              <a:t>Attributes a character needs depend on the genre and nature of the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F5EA4C-4493-4C66-9EA6-98B110368CA7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F110A44-232D-4CDA-A1C5-019A0286A9A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haracter Dimensionalit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s can be classified into four group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Zero-dimensional characters display only discrete emotional sta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e-dimensional characters have only a single variable to characterize a changing attitu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wo-dimensional characters are described by multiple variables that express their impulses, but those impulses don’t conflic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ree-dimensional characters have multiple emotional states that can produce confli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29B2FE-347F-4E52-B3F4-E7726E0379B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D276F5F-BA2A-449E-AC15-8EABDD5B1F6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basic goals of character design in gam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cognize the difference between a </a:t>
            </a:r>
            <a:br>
              <a:rPr sz="3000"/>
            </a:b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-defined avatar and a specific or nonspecific avata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issues involved in making non-gender-specific character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1CEFF5-3859-4EFD-A3C0-4A5C1172204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7E90C0D-DDA6-454E-9639-EE91D96C6D6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haracter Growth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game that aspires to be more than a simple adventure must include character growt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 build character growth into a game, decide which characters will grow and how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s often use physical growth because it is easy to show and imple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how personality growth through changes in language and behavio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D3AEBD-2406-4DA3-8532-E4133D8FD689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3A6721F-337F-45D0-9389-EBFEE2FDF15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haracter Archetyp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ny stories that follow the Hero’s Journey pattern include archetypal charact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racters fundamental to storytell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ound in stories from all cultu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y be fundamental to the human psych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ad the works of Joseph Campbell and Carl Jung for more idea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n’t implement them slavishly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05377C-09E1-474F-A330-47FB602513BA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3916A59-3ABB-49E2-9FD8-6DC6AA04D01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udio Desig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ounds reveal the charact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und eff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sical the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ocabula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rammar and sentence constructio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c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live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ocal quirk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AC1946-AB35-4F65-9EC3-A5EE4412B22B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C4DE8B9-2A3D-4E3D-A182-E6A8EFB75A3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a charact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istinguish among a player-defined, specific, and nonspecific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make non-gender-specific charac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visual and behavioral attributes to create a charact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reate art-driven or story-driven charac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sound to define charac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31076B-226E-4D34-8013-A7A195BBDA1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80F6D05-A4AB-41E4-B6DC-7CF172D1291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visual and behavioral attributes used to help create characters in gam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 the techniques of either art-driven or </a:t>
            </a:r>
            <a:br>
              <a:rPr sz="3000"/>
            </a:b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-driven character design to create your own game character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D62A34-42D0-4FCE-A0FA-3C3B655E99A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1314560-F769-4EE8-9729-04C5854C559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oals of Character Design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s in many genres structure gameplay around charact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s should be distinctive and credib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ultimate goal of character design is to create characters th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ople find appeal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ople can believe i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layer can identify wit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27A76D-C7F2-4F55-BFC9-74991A806E0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E32A1AA-33BF-4119-9A48-EF5CC5EF04E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The Relationship Between Player and Avatar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lationship varies from game to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ctors that affect the relationship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d the player design the avatar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s the avatar visible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is the avatar controlled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3C4F97-E72E-4A27-AF3B-BDED6AC5C6F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0673182-97E3-4079-9E32-3A02A4D0E79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Player-Designed Avatar Characters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creates the physical attribut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creates the personal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0E413-9506-433E-AA4A-D76E7953A91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E937749-4CD2-4803-8411-0F98BC959FF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pecific and Nonspecific Avatars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onspecific avata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 is assumed to “be” the player, so appearance, personality, etc., are undefin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ery limiting to the design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mon in early text-based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pecific avata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tailed characters with histories and personaliti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d in games with graphics and strong storylin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E20775-4CA3-48DF-B856-8EB922DE3FD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18B5666-998C-4836-B4F9-7E65EE6A796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The Effects of Different Control Mechanisms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direct contro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clicks where the avatar should go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is a guide to the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rect contro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steers the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i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the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AD76B1-CA54-401F-AFF7-9B8A6B40FE3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82839C6-125C-4E06-B40E-054635975FD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Male and Female Players and Characters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le players do not identify strongly with their avata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en tend to treat avatars as puppets and often use default avatar without customiz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omen identify with their avata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omen tend to treat avatars as extensions of themselves and an opportunity for self-expres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make a game more attractive to women, allow them to customize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2DD7DA-46C4-46CB-B167-92F457F3C9E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BF64483-AFC3-495A-9C05-4096F7AFD53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6:10Z</dcterms:modified>
  <cp:revision>152</cp:revision>
  <dc:subject/>
  <dc:title>Fundamentals of Game Design, 2nd Edition - Ch 6</dc:title>
</cp:coreProperties>
</file>