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67CB-D0A2-4B48-A8C9-CFCE4C7DC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known as m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represents the player in the game world. Frequently, players make avatars that physically resemble them or how they wish they appe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hat play is always limited by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93D30-E3DE-4C8E-A104-0F4CD6EAC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0B644-5518-4B18-9DC7-5528D7F6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2F592-0874-40DF-AF19-C9040B9CE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7C3A6-3F51-4B23-8DAB-039D2712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45D0-B102-4855-A180-FAF160B75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3D0B-30BC-477E-8678-439D247E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42E3-68BE-4DA6-866C-BF20FE5B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77C0-C302-4CCC-828F-5BDA4A53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92A2-F5CA-44E4-91F7-2E3DD964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56B4-FB94-482E-BA5A-DF873C01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4227-0B27-4851-814E-E2A29E59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F26B4-0DBB-4F50-B60F-2E3835AD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89FA-6C2B-45C4-9EA2-4ED79967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66EF-6ADC-4C1C-A9E6-50840358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A518-1BA8-47A8-B52E-601EDBBF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83DF-C889-40E2-B573-6164EB9E2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E4CC-715B-46CD-9D58-FB780EEDA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43347-1140-422C-AA6C-B0FEA8DB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778DD-D1F0-4133-82FE-83E525CA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3F162-135F-409A-9E67-20DCA8E1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84601-59D3-467F-B1A7-238338B7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BBD08-1014-4F91-B5B4-3A5FDE3C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C842E-67D6-40EF-AD92-A690287A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A84A3-FB3A-4D13-8698-831CE917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5  Creative and Expressive 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2ED2-3CFE-4485-B254-D3328430092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5E74-BA59-4FCC-812A-10F92F1806C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1033-9182-43FA-9324-09ED6B584B7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5: Creative and Expressive 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easuring Aesthetic Cre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like physics, computers have no innate way of measuring aesthe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must provide a system. Some possibilit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xed aesthetic rules (e.g. certain colors clash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ystem of trends the player can resear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ublic to vote onl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DE3A0-F10F-4560-B25C-11F5ED654ED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75FF3F-9CFA-4B8F-B9DD-C7EDA2713B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reeform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s unlimited time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itionally known as sandbox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ually offers fewer rewards or no rewar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C31B9-CD3F-4696-A7C2-BB66136B1F4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14CB74-6266-4863-A0BD-CB8C123373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features that allow players to create and share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ums and captured images assist this abi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398DE-9781-4EBB-AB38-CD7EA2F9D32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EB5387-17F4-4FD1-9123-F9B0F00CCF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Modific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utmost creative freedom, allow players to modify the game itsel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core gam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tends the lifespan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have no control over the m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players to create mods can put the reputation of your game at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7C84B-607B-4EAD-ABDE-3F652BD4D05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4C43BE-1F9A-49A8-AD54-9FDE62BFAF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evel Editor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construct new levels for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y be able to construct a new landscape, place challenges in it, and write a script for the game engine to r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ols must be included with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45A60-BADA-4975-96E7-0D8125A881A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9C76A3-C518-4D96-941A-C7D43BFD23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Bo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ly intelligent opponent that the player can progra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create tougher opponents than the original game includ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E87F8-378B-457F-81D0-1150C960038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3F1644-928E-43B3-A07B-4BCF2F2BDA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players express themselves through their avata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storytelling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players create m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8A129-0149-4F50-80E0-074B5D8A321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01D5A1-253D-4F7C-930A-4F0BE5542F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self-defining play as a way a player can project his personality into the game world by selecting an avatar and the avatar’s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creative play as a way to allow players to design or construct as part of th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51236-1B45-4A3A-A703-62414868CC1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94C19A-9C49-4FAF-B4EA-C67F4C97DB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fference between constrained creative play and freeform creative 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games can provide storytelling play by allowing players to create sto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ways in which you can provide additional creative freedom by allowing the player to modify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8D2B7-9079-4395-91C0-14E3CB1C99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B7BE34-1201-4A62-A515-12967ABB51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lf-Defining 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s the player project his personality into the game world by means other than gameplay choi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tho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ustom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A3C4F-1589-4FB0-B838-0F80B844B0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3EBABF-F611-40AE-BD09-E5102598D6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al attributes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e fundamental aspects and change slowly or not at 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ive the current status of the character and may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assign values to characterization attributes, they define themselves in a creative w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75603-284F-4BBE-832E-C854E07688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B1A3CD-213C-4833-8E6F-45D05D47F7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ing players to set all functional attribute values may introduce bugs; inste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players a fixed or random number of points to assign among all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 set of default or recommended settings for new players who want to get started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earn the right to set their character’s functional attributes any way they lik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56756-DA05-4B9A-BCAC-CC4711CE9E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B2F668-8629-432C-AD95-1844A35F88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smetic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do not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make a game more fun at a low implementation co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ical cosmetic attribut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eadgear, clothing, shoes, and jewel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ir color, eye color, skin col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dy type or siz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 color, decals, insignia on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FA6D3-16C2-4D11-8AB7-2318532277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A307DD-040F-45CE-B35D-9BBE64FF2B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save and reload cre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rized creative play can be categorized a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ained creative pl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reeform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2D17D-B749-404B-A8E9-A763DE36455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3083F2-9C03-43ED-9C2D-9A2A0F1E6E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nstrained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layer can create only within artificial constraints imposed by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 can be limited by the econom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physical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aesthetic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25FDE-EE60-4076-B22E-0DE2D8743F5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F021C3-B6ED-4A2E-B22E-20AE5243EA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38Z</dcterms:modified>
  <cp:revision>136</cp:revision>
  <dc:subject/>
  <dc:title>Fundamentals of Game Design, 2nd Edition - Ch 5</dc:title>
</cp:coreProperties>
</file>