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89EF-C72E-4386-89CA-429D2425D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deo game will not respond to player actions that it has not been programmed to recogn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layers compete, there is often a winner and a lo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, the behavior simulations are very simple. The goal of AI research is to create ever more realistic sim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C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layers learn how to attract a larger population and meet thei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ultiplayer games have a communication method built into the software. However, players often use communication software such 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amSpea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ntri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s and puzzles can be used to play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that can be made while playing are limited by the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BA1A9-F6E8-4C71-BA03-0ED96DDE7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8D6AE-9D5D-4C5A-98E1-329D102B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76E83-7CE8-454A-83CE-2DDB11B3E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A014F-0581-44C8-9982-BA6248A8B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2408-4D1F-4219-9D45-3787E9F1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4069-C707-4EC0-A3B4-5DFD60BD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AED5-74A9-4EA1-BAD6-9F56D6CE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2799-0500-48A5-9023-6F3729D5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A175-96D5-44F7-8FB6-DB6AA4DB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CCA2-ECFB-4B3A-8008-71C2DEC3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34E4-2D5A-4032-97BA-6C07E3BD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6AA9E-B637-4EED-B98C-56F276AA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E4CD-5760-4C1D-9A9E-D14C5BC5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BB0A-688E-497E-940D-76AA3FB7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C97A-C488-4D51-AADD-97AE6392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8355-EE5F-428A-BD42-42C3AD0B6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E101-C02B-4256-8ED3-B898A5430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2EA44-2CA5-4B3E-ABC2-202F67FF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81299-1EF9-4994-A4E8-CFD0CB0D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3B806-DF8C-4FF0-85A1-6FDDE07C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4F543-4B3E-473B-B5BE-54DF8A10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AF450-676A-4D8F-999F-7DDB0767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78F90-1EB3-429A-B000-47E71017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FD53E-A2BA-4B36-BC92-24C9E97F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  Games and Video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DBB5-5B06-44AC-9D86-33CCEA7B161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17A5-9BBD-4869-993B-FFA8D4FBC168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0657-208D-49C4-81FA-9E13A71F86E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: Games and Video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must overcome a nontrivial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require mental or physical eff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hallenge can be composed of several smaller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can be required to reach the goal or optional to add gam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5EC29-E499-49AA-8A9E-B25DCAC23F7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E1203A-8F9B-4BFF-9AFD-8E89ECB421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rules determine what actions are available to the player(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fferent actions may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mitted by the rules, o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d by the rules, 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hibited by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permit only actions that are programmed into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E3953-54A8-4380-944A-881933A678F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17CBA9-A620-439C-B280-ABFB93D4EF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therefore consists of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allenges that a player must face to arrive at the object of the game, a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actions that the player is permitted to take to address those challenges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plu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possible actions that are enjoy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18754-03F1-4A5E-A5BD-8BA75D812C2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222F06-7E73-4D42-B58C-BA8FC0FFBB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airn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expect that the rules will guarantee that the game is fai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irness is not an essential element of a game, but a quality of go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often change rules of a game if they perceive it as un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irness is particularly important in video games because video games seldom allow rule cha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0B11E-93A0-4295-B0C7-1EB91DAC6C1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8ABAA4-F49E-470E-86DF-20E9FF64C1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ymmetry and Asymmet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symmetric game, all players use the same rules to accomplish the same 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n asymmetric game, different players follow different rules to accomplish different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7DA36-EA06-43E4-A17C-38BE7290481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9A4CED-D717-4D48-A94C-246E5E8485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etition and Cooper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mpete, they try to accomplish mutually exclusi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operate, they work together to accomplish goals that are the same or simil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 are ways to build cooperation and competition int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9FEB5-0F13-4DB4-B81C-A38007131E1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6A63AE-3308-4E0E-84E4-35689C4CB5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Hiding the Ru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do not require written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enforces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’t chang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adequate clues for players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ing trial and error to overcome a challenge frustrates many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948BB-91F9-4C73-AE2A-CFF2DF69F43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E3ACBC-7202-4303-B444-5ED1F3EE3A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tting the Pa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software determines the speed of the events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can’t affect the speed of the game unless the software has to wait for player inp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mputer allows for modulation of the pace, so players can rest between periods of intense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86856-EE93-44A8-9575-CFE0B813067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797275-5EFB-4C5D-9C55-A2A505F379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resenting a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present a game world, video games can u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i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xt and subti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2D34D-6F9E-4B8B-9C6B-771DDDF4C36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5A769E-1A2E-47FE-A037-DC83F0FF80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Intellige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day, artificial intelligence is used f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fi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ng the behavior of people and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rtificial intelligence advances, games will add more uses for i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par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gene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tern recogn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E5148-DDC8-4811-B3B0-2DEE54C4A64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385504-A61A-4DC8-B7C1-5F67E61328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essential elements of a game—rules, goals, play, and pretending—and what they do in the context of playing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formal definition of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nature of challenges and actions, as well as the formal definition of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F8DB5-9CD5-4FC1-8A55-782B781FF95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FE0F5C-49AE-4036-BE8B-8BFFA5B1EC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esthet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 elements should be high in quality and present a harmonious look and fe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look includes the quality and appearance of the graphics, movie clips, animation, buttons, and fo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eel includes the music, dialog, user interface, and objecti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rmony is the feeling that all game elements are part of a coherent wh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B6FC0-7BE3-43DF-B444-9391E6CEA84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8BF998-79E8-433B-9629-2C689F6A7A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games incorporate some kind of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mix storylike and gamelike entertainment almost seamless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make player feel he is inside a story and affecting flow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is one reason why video games are considered a new medi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806E5-61EF-4053-A9D5-219C88AE651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4F5DD9-8DA5-4079-BA7F-72C90DB16A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isks and Rewar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isk is created by uncertain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the player overcomes the risk, a reward should be give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size of the reward should match the size of the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0781B-31BB-480E-B2B5-AACDD52F3ED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2F79C2-D517-4EFB-9F1F-5EF92CB2A9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velty and Learn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offer more variety and content than any traditional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velty alone is not enough to sustain player interest, howev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enjoy learning when it takes place in an enjoyable context or provides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should supply both enjoyable context and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80AD0-81EA-4277-BEEC-EF5F3206A7B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9F8B9E-AAC4-4F62-AA58-985E0A41BE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and Express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love to select, design, and customiz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s activity can have a direct effect o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video games reach a wider audience, creative and expressive play become increasingly import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5231F-05A4-42B4-8796-94CB6CC5E20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1E57B5-99D4-4F74-932A-094D4A22DA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mmer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ed players lose track of the real world outside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ion can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sense of being “in the groov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bserving, calculating,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feeling of being inside a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64545-6394-4C69-87BC-86E539F7A14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BC80E0-D3B6-4341-8E36-517B2CA310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ocializ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traditional games are played with other people, making it a social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ral methods allow people to play video games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layer loc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tworked play (multiplayer distributed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N pa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9E150-3447-4A33-9F26-AA51452CB9F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3ED82E-DCC0-4777-BF10-D74BE33D27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lements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interaction of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ole of the computer in video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rious ways that games enter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54AF3-4120-4EDB-B0A9-3CC1F51E783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78836A-6285-499A-BD11-BC7F80FED7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concepts of symmetry and asymmetry, fairness, and competition and cooper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arn the various benefits that computers bring to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ways in which video games entertain peopl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DD94E-0FC2-4009-9B70-F4363F6D51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2EB631-F27C-49C6-B262-396A860E6D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ys do not have rules or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s ha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have rules and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12063-A24F-4A9D-B1BB-999435F311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8B339D-C1A7-4284-AD97-48A6B0E506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must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tended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ontrivial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81009-FDB7-4AA6-9FAB-6FBCA780D0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52D336-C367-4D0F-B927-EC54F4DBAD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requires particip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ing different choices while playing the game a second time affects the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tend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s an artificial reality known a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importance is assigned to events within the 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leave the magic circle, stop play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13CFC-B102-4BD5-995A-5F1F51C34A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A34D71-DB9C-43C3-92DD-FA31A5A267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ery game must have a nontrivial goal or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ules defin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designer sets the rules, thus defining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overcome one or more challenges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achiev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oal is often a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ctory condition, but victory or defeat is not required in all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427DD-DC56-45DE-A41E-49D3EB13AB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9E4E15-990B-4002-A5D0-0E18A62ABF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are definitions and instructions that players accept for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define the actions the players may select that will help them achieve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designers must make the rules understandable to the playe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D5CA8-728B-47EF-89C2-D051F59B98F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809758-AA88-4E3D-B5CB-6CB4CC16E4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ings That a Game Is No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does not have to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tertai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se are qualities of some games, but not essential to the defin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rious games are not necessarily made for entertainment or fu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2AE44-0038-4E9B-86C9-6814FF94136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DA06A5-41FA-4A99-A669-40FD800AED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3:54Z</dcterms:modified>
  <cp:revision>96</cp:revision>
  <dc:subject/>
  <dc:title>Fundamentals of Game Design, 2nd Edition - Ch 1</dc:title>
</cp:coreProperties>
</file>