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7DD2B-2136-4E59-9BB4-9DB464641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known as m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vatar represents the player in the game world. Frequently, players make avatars that physically resemble them or how they wish they appea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students that play is always limited by the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55C71-D166-4E83-8CD1-FA805ADA9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2888F-7E2D-4882-841D-01BAAAEA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A0AD4-D766-45E9-80CB-D71D4B432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9473C-9FA7-4966-8487-6EB527F7D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0A6CD-F69B-40F1-8A4F-DD9749664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50A75-9C94-493D-8875-79E0E2272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0D725-B3DA-49C3-AF60-822E59950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F145D-BB06-4426-BBB4-98A47E36E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4E148-7220-42B5-99BB-A4509ED99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F03E7-80B3-40A2-B579-01E2FF3F6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920F0-3829-4A08-92BD-2C149235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3614D-2F6E-469D-99C0-E4ACD54D0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96CDE-55CD-402E-9529-3E1796DA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1437E-BDA5-49B0-B417-F4E821BA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6BA1C-ADB6-45B5-B7BA-8AC78C3A0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54992-C7B7-46AC-984B-4257AE49C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9250F-1EF0-4288-AB5A-AC2587722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EE18F-9C18-4623-BB4D-9ECBA2D13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6FE44-5EDA-4A55-B8F6-440D0C655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E7ED3-F647-4A84-9E5A-9FA669344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114AB-E2D9-4C7B-9768-0527E66E1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4160B-E210-4A2E-821D-4C3CA9AB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21448-AF1A-4DBA-89BB-55DB627C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01D15-E250-45E3-9EE6-49DC9554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07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5  Creative and Expressive P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C006D-E0DC-4A17-9865-1682F542F4F9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43144-C934-4EB3-946D-0D5820A8221E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D0B64-3CF8-4181-A06F-29FFDD89C13F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5: Creative and Expressive Play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easuring Aesthetic Cre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like physics, computers have no innate way of measuring aesthe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must provide a system. Some possibilit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xed aesthetic rules (e.g. certain colors clash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ystem of trends the player can resear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ublic to vote onl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E2349-085F-4950-B9CE-06EB80F593D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3DD5168-B9A3-444C-B90D-06FA982AD1C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reeform 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s unlimited time and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ditionally known as sandbox mo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ually offers fewer rewards or no rewar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88FAD-29A9-4479-8EBF-9ED231128C1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FD947AE-959B-49E6-88AA-07F9EF3B782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torytelling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 features that allow players to create and share sto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ums and captured images assist this abi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7B925-4697-43EC-884D-E3A8D236046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E4E2B6E-459C-40FF-BCF0-5D5971F6723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Modific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 utmost creative freedom, allow players to modify the game itsel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with core gam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tends the lifespan of a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You have no control over the m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ing players to create mods can put the reputation of your game at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48F51-6518-40B7-83B8-9C295599E66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1950585-7792-45F9-8DE1-329BBEE72BA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evel Editor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 players to construct new levels for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may be able to construct a new landscape, place challenges in it, and write a script for the game engine to r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ols must be included with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574F8-5D77-44D3-9B10-EDB24D58D7F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DB11DF8-414E-43F0-AC94-8A05F25E62A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Bo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ly intelligent opponent that the player can progra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create tougher opponents than the original game includ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B372F-76B2-4057-9EF9-F330DE77893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75EE1BF-7A10-4856-8326-C3E5A4CFB60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players express themselves through their avata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provide creativ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provide storytelling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y players create mo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24F41-C3A6-46F8-8E81-851E08529F3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D95E0F1-0D46-4981-95FC-F4CB3069166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self-defining play as a way a player can project his personality into the game world by selecting an avatar and the avatar’s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creative play as a way to allow players to design or construct as part of the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C0285-123E-4DF8-8A0E-8A5503FE1EF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D2F9ABA-9A75-425D-B3C9-3621A6D9B18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difference between constrained creative play and freeform creative 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games can provide storytelling play by allowing players to create sto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ways in which you can provide additional creative freedom by allowing the player to modify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081F3-CAEB-4AB9-90DA-0DC5E025A27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2E8D886-4DEC-4230-9918-BF6ECA8831A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elf-Defining Pla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ts the player project his personality into the game world by means other than gameplay choic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tho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sel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customiz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constru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D9F14-B983-4F45-84F1-1AB7F0F784A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565E7EF-9E32-4E83-AA24-EBD71FF93BA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unctional 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nctional attributes affect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zation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e fundamental aspects and change slowly or not at al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ive the current status of the character and may change frequ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assign values to characterization attributes, they define themselves in a creative w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3C94E-8AA8-421F-8C23-A01FB5B3D09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38104D1-EA48-42CE-9D15-1FCD43BAC2B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unctional Attribut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ing players to set all functional attribute values may introduce bugs; inste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players a fixed or random number of points to assign among all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a set of default or recommended settings for new players who want to get started quick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earn the right to set their character’s functional attributes any way they lik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7CA92-5430-44F2-93AA-28080213F03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67A7B8E-3083-4B46-94F9-50D150DAE43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smetic 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smetic attributes do not affect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smetic attributes make a game more fun at a low implementation co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ypical cosmetic attribut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eadgear, clothing, shoes, and jewel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ir color, eye color, skin col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dy type or siz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int color, decals, insignia on vehic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C5DEA-B7D6-4F23-8AFD-1E64E23D123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D367137-2448-4CA5-8559-866F8871D06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 players to save and reload cre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uterized creative play can be categorized a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ained creative pla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reeform creativ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F7F1D-56DD-49E3-83F7-94D35F0ECD3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DE7D81E-86E6-440A-97F4-EBE81ECDDF6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nstrained 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player can create only within artificial constraints imposed by the rul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 can be limited by the econom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n require that the created items meet specific physical requir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n require that the created items meet specific aesthetic requir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97674-4668-4AC5-9C96-6F4C8522FF8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FA154A2-483C-4EB2-BE49-D749523D9B0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5:38Z</dcterms:modified>
  <cp:revision>136</cp:revision>
  <dc:subject/>
  <dc:title>Fundamentals of Game Design, 2nd Edition - Ch 5</dc:title>
</cp:coreProperties>
</file>