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5C16E-E8CD-4A06-A0B3-66BECA4C3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AEAC4-D143-4CC9-9220-BADEB569B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BA4ED-EB14-4C3E-8121-D84BAC1C7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57879-CCE5-4AD9-A690-0FADF0643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C5DD6-2F28-4E35-852C-714D9DE5F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436D1-8A44-428F-A7BE-894D177E1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1AC3F-E8B4-4AD2-BA2E-84D5CB31B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7D452-9779-47EB-846C-80D132C73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AA73A-02B1-4B36-ACF3-6E71CB15F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A68DB-05E6-4E72-800A-F8437E3BF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C5BF4-613F-41E7-8DCF-EDF98E031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D15A9-1B67-4273-94D0-35304D8ED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6A317-6A02-4878-A232-F8D8C9EBF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FD7B0-F6C6-42A6-9D21-47F68F3CE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69B58-6674-4A5C-B0F9-0A86B0E89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42F76-BEBF-459B-8756-6AF545C5A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BD343-4FF6-44F1-ADB9-BD08CD2F9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BEB48-F68C-4AA4-A925-752DF992E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E0358-6FB5-48FB-99E1-A23ACB762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C27DC-6F10-4BD3-8AC2-ED7E71128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93804-79BA-4291-A427-3870AEDE6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61BDC-4067-4C32-9CE7-2EE6AA36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78D7C-6508-4FBA-8574-E15314F17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6168B-3618-4BD1-B246-C3E938DCE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2841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4 Strategy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E3A9D-8339-4194-BF73-0B5ED2830B9B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70DD0-C4EA-4756-BAA2-4B4F8B8BF7E1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A98D2-7637-468A-A04A-547B76A7CB71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4: Strategy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nits usually fall into types so that all units of a type share a set of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units will also have special unique capabiliti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ck-paper-scissors (RPS) model is suited only to simp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not be balanced for complex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esn’t take into account battlefield condi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D2986-A863-4EF1-898C-6979B9B9E3A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711AF74-48F5-4E94-8E9C-EA7978F09C9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358128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eal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eap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n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t mass and velocity (or power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curac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8320" y="358128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ensive dodg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pe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urn ra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ss and acceler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nge of vis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  <a:p>
            <a:pPr lvl="1" marL="636120" indent="-30888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rn war games use numeric attributes to describe unit’s abilities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  <a:p>
            <a:pPr lvl="1" marL="636120" indent="-30888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umeric attributes used more often are: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14142-382B-4996-B61F-9AC5B6412142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08FC532-2AAF-4616-8776-3D5F78718A1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 capabilities include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eal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lying or sail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pai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nspor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structing buildings and production of mobile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adership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r every special capability you create for one side, you must also create a capability of similar military value for the other side OR a way to defeat the special capability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C9DB9-F0E2-430D-A82C-28E74682F85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9C856C0-0D6F-49C6-BB69-CB5D6C18862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596160" indent="-289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uting the relative value of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909720" indent="-31212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lue based on time and resou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909720" indent="-31212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quation for attack units: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ttack unit valu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= maximum health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shot power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rate of fire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theoretical accuracy 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range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maximum spe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909720" indent="-31212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quation for defensive units: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ense unit valu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= maximum health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shot power 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rate of fire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theoretical accuracy 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(range</a:t>
            </a:r>
            <a:r>
              <a:rPr b="0" lang="en-US" sz="2200" spc="-1" strike="noStrike" baseline="30000">
                <a:solidFill>
                  <a:srgbClr val="003399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÷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2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56A89-CD53-43DD-B3F4-BBD3E342C91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1EC31E5-1AC2-4924-B22A-6BC5B7D99D1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duction rates, unit numbers, and Lanchester’s law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anchester’s Linear Law: In hand-to-hand combat, the relative strengths of two armies are simply proportional to their numbers of troop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anchester’s Square Law: For units that can aim and shoot at one another from a distance and can concentrate their fire, the strength differential is proportional to the </a:t>
            </a: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squar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of their size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BE6C4-D865-4251-B136-1400EA0D008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9909C37-4D2D-41DD-84AD-9A1CCFEBDE3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ealth, morale, and fighting efficienc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nits normally fight at full efficiency until their health points are g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you allow efficiency to be harmed by poor health, the feedback loop will cause injured units to die very quick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ale is represented by a number that increases or decreases an army’s fighting effectivenes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rale also usually produces too much feedback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adership bonus works better, because leadership is unaffected by health or morale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BE07C-A400-4B0E-B973-B37A4BEEFF8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5062941-F2C8-4F6B-8132-4C691DC006A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pgrades and technology tre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searching upgra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must initiate researc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rganize upgrades into a sequ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 to choose which upgrade to researc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pgrades can be applied to single units, unit types, or global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pgrades can be temporary or perman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technology tree to organize large numbers of upgra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4DBF5-B7D6-4E65-A1F5-B57DA46C8EA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855C6DC-BF56-415C-A8C7-732426CFE29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agement of supply: the production, distribution, maintenance, and replacement of personnel and materi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 games usually have simplified log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pplies and consumable it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n’t track food and fu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ammo is cheap and quickly expended, provide unlimited supply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ghly destructive ammo should be rare and track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B9DD6-9C85-4AD0-9F88-BE059DD3A59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AAD516C-6211-44D3-8F70-8D6A9E55DAF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pply li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ute over which fresh troops and war materiel must be transported from their source to where they are need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utting the supply line is a classic strateg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st computer war games model movement of troops accurately, but not materiel such as fuel and ammo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s don’t want to manage suppli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ealistic supply lines mean creating transport units and modeling the supplies as individual objects 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BD54D-1871-48B1-86C1-4C4463FDEF4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812C274-C593-4C4B-97C7-2D8257BC407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tracting the distribution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supply is “magically” available wherever it is need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pletely abstracting distribution can cause explo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ternative is verifying that supply routes are open, but don’t actually require transpor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ad-buil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 roads to access resou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ads provide supply ro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wns with no road cannot receive suppl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5F947-1A0D-484C-B94E-C2905434801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42A1D8C-E9B1-46FC-AB41-49750C5FA6D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a strategy game and be familiar with the types of challenges that strategy games off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the set of orders that a strategy player will be able to give in your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a balanced set of units for use in a war game, including defining the attributes that govern their behavio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1FDBA-87DB-4AE4-B3C5-8FA3CD98D90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1EC2E18-CB10-4CC4-BC6B-7A132DC3052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fluence ma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ny unit within a certain distance from a supply depot can receive supplie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obstructed route not requir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D9C65-7712-45C4-B7EE-1904C13B664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BA459D8-E923-4757-AFEF-88A5ABA8593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storical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strategy games tend to be set in the pa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storical setting will be scrutinized for accuracy by players familiar with the ev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orld War II market oversatura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 a less popular time period or unique appro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44187-4A3C-4098-813A-38186D66CD6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E84236E-71DB-4997-9012-2A70C4CACA7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dern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isks generating controversy and negative public opin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be rigorously accurate and politically neutral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 use modern, but fictitious, settings to avoid thi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address the issue of battlefield scal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battlefield scaled for fighter planes would take weeks for infantry to walk acros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e solution is to exclude units that don’t fit the scale, i.e. leave infantry out of games about fighter pla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B93BB-295A-4FD8-BC88-42B4865D64F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6F65F35-6851-48ED-8AB6-6D010E49410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uture (science fiction)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pular and allow a lot of scope for inven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ght not catch public’s imagin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technology careful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erminolo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address the issue of battlefield scale agai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6EEA2-A83B-4A17-A057-17BEA8C4C6B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CE970AD-9100-466A-8D2F-0592E793803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ntasy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magic rather than technolo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emphasis on close-range and hand-to-hand combat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E0CBC-CFF0-4BBB-A6A7-A0DDF652AD8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80C5A69-2800-4060-8796-82D0D3B9F6E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most always multipres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rge scal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ndirectly controls units and has godlike view of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quad scal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maller group of 20 individual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need to see the big pic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erial perspective need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47FD0-3DDB-4CCB-9C30-DC6CC980954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45CC0ED-59A3-46DE-AEAB-945FB1B386B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must control action at different sca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ually present related data in separate window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 unavailable options gr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beginner and advanced modes for comman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oup commands by fun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B17A8-DB21-4E97-BE02-9BE9263CFD9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1619385-B8D1-45B2-8B41-A70E9FE80C2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Opponen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 tree searc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 tree is the set of all possible future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s approach works for only the simplest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eural ne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mics the brain’s ability to recognize and correctly identify patterns of dat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currently used in consumer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40527-0DDB-4C1B-99B9-736E97B071F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5D01638-E4AB-4DEC-B8B7-B0B3CA61D75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Oppon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erarchical finite state machin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successful mechanism for creating AI opponents in war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is a finite state machine?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ceptual machine,not real mechanical engineer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s rules establish a simple behavioral system for an individual automated charac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unit has a set of states that it can be i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each state it continously executes certain behavi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tate has a list of events or conditions that cause it to switch to a new state, e.g. guarding to attack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9EAF8-62B3-41B3-8834-725E4C5AAFF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A8166E7-6E1C-40F2-95C2-1AB400A1832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Oppon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erarchical finite state machin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erarchical finite state machines i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es higher up in the hierarchy give orders to the ones lower down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gher FSMs can order lower FSMs to change sta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I alone usually can’t beat a human player except in simp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st AI opponents get other advanta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uman doesn’t know where his enemy i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er gives AI more resources to start wi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D33DE-8CB0-4BD3-ADF6-8DAAC1F4F45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4C31061-5478-4622-AB3D-263334AF51C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ute the relative values of offensive and defensive unit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Lanchester’s laws and how they affect the relative strengths of forces of different siz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a technology tree of upgrades for the units that you have designe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3B557-60CA-4340-8C91-0B6F7A90943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3F921FF-2DA6-4C3F-A9F1-84787619B7C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strategy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fine the orders a player can give in your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balanced set of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Lanchester’s laws in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 technology tree of upgra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nact log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tilize artificial intellig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1C216-2E16-4B0B-8672-C4D229151D6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BEC47F9-9286-413C-BC62-841CF2CD3FF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e a system of logistics for your game and design the mechanism by which it work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most common types of artificial opponents and their strengths and weakness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A61BD-F6D3-485A-B8D1-117B838264D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BA326B0-8130-4457-8DB1-26671C56074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Strategy Games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majority of challenges are strategic conflict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hooses from a variety of potential actions or moves at most points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is attained by superior planning and taking the best actions; chance must not play a large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ther challenges may also be present;  physical challenges play little or no par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BA711-48F5-46DE-9715-737BAF560D3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599A556-CD18-4AE4-B7E7-C72D8225450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wo main subgen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lassical turn-based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ure strategy games tend to be turn-bas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multiplayer turn-based computer games, players often choose their next move simultaneously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l-time strategy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veloped after turn-based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TSs add time pressure to strategy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8EC00-9BA9-45E4-BAEB-A0DAAEF6E19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B3D64AA-6F88-4F0C-AAEA-390980AF664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ic confli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flict is combat between groups of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actories generate more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n choose from among a variety of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plomacy and espionage offer alternatives to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C7164-1D7A-42BD-A119-D5A47648A0E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067EA68-2DC2-4D87-894B-91B7BDC22FE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oration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s to investigate unknown terri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g of war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unexplored areas shown in black, and explored but unpatrolled regions shown dim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conomic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n collect resources to buy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the economy is complicated, the game is actually a hybrid of a strategy game and a construction and management game, e.g. the </a:t>
            </a: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Civilization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r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267D6-C740-4A4F-BC19-B96FF7F02CF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48673DC-E008-4094-B606-74BD9CAFAD0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actions involve giving orders to uni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e to a loc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t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p mov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ld a pos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 a 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duce new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treat, dash, and patrol are variants of thes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02D28-A359-4CDF-B96B-1CF5EE23591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DFDD024-077D-4D5F-B5CF-884E3DF56A7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7T17:23:32Z</dcterms:modified>
  <cp:revision>274</cp:revision>
  <dc:subject/>
  <dc:title>Fundamentals of Game Design, 2nd Edition - Ch 14</dc:title>
</cp:coreProperties>
</file>