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2ED0-635A-4791-93D4-CE81B5E12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ing errors, tuning, and polishing are the same practices any professional uses when crafting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play is the heart of a fun game. The player is the so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2195F-6D00-4F9B-ADB5-1CDAD2D05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5E9F7-6EB4-4987-9FD4-BD3BFB9A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C8526-1D55-4AB7-B546-C0CDEDCDF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66624-C02A-4055-834C-CE2A4BC09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B377-A0E2-4BD9-BB9B-CEEBDF462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DA9E-AC8F-44BD-A7BD-59A2E868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D54A-AE80-4726-916C-615951C6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1BF9-8F02-45C9-9CA2-3EABA6FC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2B32-A5D2-4AA4-8710-00699240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C261-7615-4C2B-B296-A61F515B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0F480-10CD-46FC-8ACE-62F90E3A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1146A-AEFB-4B69-8341-DA2E3BCA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6D6C-332A-47F3-B271-15BC537F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ACF4-B6C6-4776-A074-9343886E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8280-7E1A-4734-A30F-F29597DC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498F-A650-4FBE-B781-D719BC849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7E9E-F9AA-4E3D-82D0-C405DCC0E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8E2B1-B2D6-4AA6-A8B3-23901E53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01643-056E-4D01-840B-21F60E8E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BAC49-5532-4C8E-9A80-93B22436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20B29-1BA2-4919-A64D-C3A1EB76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DD758-0FDA-4047-94C7-C18554DA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958D1-A329-4CF9-A067-5D6E9FC2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CA34F-79C6-4500-AFD8-7E2F5B99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9 Game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26C7-40DD-4CF1-8CA5-5EA696D9842F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FF8F-E9E4-47D6-A2DB-B7144D9C6D4A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B25C-2064-4A46-9361-E6ADC94A4141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9: Game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coordin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speed and reaction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ccuracy and prec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intuitive understanding of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timing and rhyth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make combination mo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 time available to increas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40A47-3BE0-4EE7-A828-75EE9723778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9DEC01-B31C-49AA-AF18-554800A6F7A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c and mathematic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al logic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outside knowledge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increase difficulty, increase the number of objects and the ways they can be manipula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normally get all the time they need to sol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puzzles that can only be solved by trial-and-err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hematical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s require players to reason about probabil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educated guesses with imperfect knowled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CBEB5-CD7E-4881-878B-985183A6F22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70A7F7-E2D6-4020-8D18-3353CEC3117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ces and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first to accomplish a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combined with other types of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 pressure increases stress o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ual knowledge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rect tests of factual knowledge usually occur only in trivia and quiz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ther kinds of games, all facts must be present in the game or you must make it clear in advance that outside knowledge is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FC9E8-A655-44DD-9F4F-66503EDC216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DC95EF-C90C-4076-9DD7-CB05D775B68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mory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all things seen or heard i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it easier, give players longer to memorize and test them soon after they have done s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ognize visible, audible, changing, or behavioral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increase difficulty, make the pattern longer, more intricate, or more subt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CFF0E-9BEF-4B55-BF79-FB06904D640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29C95A-4CD2-49AA-9E41-DE9E6D869B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atial awarenes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learn and navig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decrease difficulty, provide a m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obstacle that prevents the player from proceeding until he disabl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unmarked switches far from the do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F7928-E9A7-4B7C-98B5-E9BA4435D6D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9A502A-9762-4E48-8705-246A02BF77E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ice that harms the avatar when trigge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n comes from outwitting the tr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zes and 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ry place looks alike and player must discover relationships between the are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implemented as logic or pattern-recognition puzzl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AE513-7CEA-4805-9982-FDC14A96898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A6E21C-492B-43DD-B886-A28D7F1129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sm that transports player to a new lo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make the challenge easier, make the teleporter predictable and revers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ing hidden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reasonable places player can deduce from clu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obscure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Easter eg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are special rewards in particularly obscure loc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EA7B5-EA29-4115-BEB3-FA269CA4620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476643-0C6A-4F31-9A35-C660D32A848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direct opposition of forces, some of which are under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 challenges can be broken down into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c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rvival and reduction of enemy fo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ding vulnerable items or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68AE0-1615-405F-BB0A-7918BE1D9B7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0E5C5E-9620-422E-872E-03220A3C1FD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ehavior of resources creates 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mulating resourc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wealth, points, or anything valua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ing balanc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a more interesting challenge than simply accumulating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ring for living thin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hallenges the player to meet the needs of each individ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FEAF0-843D-4D85-935C-BA81B8DAE0F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E5CC53-6E99-4964-8125-43EF54C536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ual reasoning and lateral thinking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reasoning puzzles require reasoning and knowledge to solve a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ral thinking uses extrinsic knowledge in unexpected w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8F9AF-F2ED-4F44-892B-D3047F027B8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01F0D1-35B4-4631-8586-6A990ED2E20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basic principles that a designer should follow to make games fu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hierarchy of challenges requires players to complete atomic challenges, sub-missions, and missions to accomplish the ultimate goal of winning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quired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d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nd discuss how these factors contribute to the difficulty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0AFCD-4EB4-42DF-97EB-7C38DAC8144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DAD421-F9E4-432A-BB73-F0F9B3D66C6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fo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intended to mee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fer fewer actions than challenges to limit size of user interface and animation co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can address more than one type of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ased on player’s role and actions to overcom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28632-7F2D-4CF9-825F-9EAB97F75A6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E57449-E6A4-45EF-A346-63F6216F9F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that serve other fun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not related to challenges include actions for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structured 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ion and self-expres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ticipating in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ing the game soft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28D2D-172D-4F32-AF92-23FFE0BEB57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6E2FE7-F686-4745-8C87-803E1F13B93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son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leave and return la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player recover from mistak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courage player to try alternate 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equences for immersion and storytell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rm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s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1D139-50E1-467A-B564-F51F968BB96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483645-3BA9-4988-ACFF-793106D09CA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ays of saving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word to restart a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e to a file or save s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uick s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ic save and checkpoi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ways allow players some way to save and rel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87B93-2D9B-41C8-9570-343D728A364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4A4AD4-07D4-481E-8DBC-3FB44A9161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the heart of a game’s 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can be organized into a hierarch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and stress determine absolut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ly used challenges test different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w actions can be used to overcome many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allowed to save and reloa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BBF1B-4869-44C0-84EE-D7893EC5130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407A37-0269-429F-84D3-7E7B3332BF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challenges commonly used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 in the context of the game world and describe how actions are selected to meet specific challenges or serve other function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arguments in favor of and opposed to supplying a saving mechanism and explain the most widely used method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E42F4-2535-473D-B4A8-056A236FAC4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03916B-D12F-4F30-8CB5-23B97A635E7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ecution matters more than innov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ief reason a game is not fun is that it contains elementary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pects of game development that contribute to fu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ing errors; basic craftsmanship is most import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ning and polishing is seco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Imaginative variations on the game’s premise is thir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True design innovation is only 5% of the source of fu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B7AF2-D795-4AF1-96FA-848D488492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125898-FAB5-4CED-B647-93008E0B59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nding the fun facto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mes fir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t a feature right or leave it ou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around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now your target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or automate parts of the game that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ren’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true to your 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ive for harmony, elegance, and beau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F401B-E2A6-4F48-8DAF-4A89CE89887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DEFDD7-18D2-4166-BF34-6CD626B9E7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y from lowest to high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omic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-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2CE6B-DB0C-4358-9753-8720CD0808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85C003-B28B-4357-86F4-ACC50B1CEF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forming the player about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tell the player about explici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discover implicit challenges on their ow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icit instructions are given about the victory condition and lowest-level atomic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mediate-leve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st interesting games offer multiple ways to w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gnize and reward victory achieved no matt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h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achieves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7D5D6-3964-4F8E-A11C-7CCD244D90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56C975-709F-4D5F-B625-1D75AC8967C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taneous at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coming several atomic challenges at the same time increases th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way of doing this is to bombard the player with enem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games (such as management games) present more complex interrelated simultaneou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re simultaneous atomic challenges a player faces under time pressure, the greater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t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4B419-8B6B-4C43-B9E0-8FE505476E2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A9A2BC-95FF-49AA-9583-B9D23CA4C3A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kill, Stress, and Absolute Difficulty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 required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skill needed to overcome a challenge in an unlimited amount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effect of time pressure on the player’s ability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skill required plus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020BC-8632-4956-8EFF-9AE5F0B86AA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80C7D2-CE51-4690-A085-B0E6191C40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7:59Z</dcterms:modified>
  <cp:revision>185</cp:revision>
  <dc:subject/>
  <dc:title>Fundamentals of Game Design, 2nd Edition - Ch 9</dc:title>
</cp:coreProperties>
</file>