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1907-0FBE-4EDB-87FE-04CD210D3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telling engine works with the core mechanics to create the complete storylike 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tar’s death is usually regarded as a temporary setback rather than death in the real se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matic tension is based in the story. Gameplay tension is based in the interaction. For this reason, they are not analog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mechanics and storytelling engine constantly inter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E8CB6-4C9F-4610-80EC-BF0F0149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E40CC-6FF0-4309-9524-1DF79120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D5460-331D-4273-9422-93805832D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F281B-BB69-4CF6-9AB0-30AFC847A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9EE3-4699-4442-A0C7-BC38EF326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5861-B084-430A-ADEB-A3C386C9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0CE4-A69B-4A32-B77B-272B1F6A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655A-A8A2-4127-B166-5F6E16DB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DFC0-3174-4C91-BB41-06845443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20B1-2040-4DFC-B1C1-4803FF21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C4C5-04E2-43EE-825B-8536B438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81E00-24FF-49B1-A132-52698456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55B8-2048-45F2-BD8E-41AEEF94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E45C-5B22-4420-909D-17EF3E26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8389-743F-4D5B-BBFF-414F6633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C5FE-89E4-4308-B871-235B412BC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578A-3CE3-40A4-BC01-3402A9B86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06F37-301C-4C4F-801F-D794C300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05B24-70FF-4CAD-982B-47C196E0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3E407-9038-45B2-8F25-36C65B66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47596-1D81-4315-8489-9D5D9FD3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15E7D-2871-4A2F-BE6A-E273C294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5AF25-AECC-4737-ABA1-832CEBD9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3BE59-1384-415D-903A-954FA4E8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14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7 Storytelling and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9C35-20AA-4A63-8D0C-44DFABB3EACD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B279-A289-4639-B69C-7598CADE330D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27AD-BB60-4D48-BA90-60AAFC137F35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7: Storytelling and Narrative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81000" y="1600200"/>
            <a:ext cx="71820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B624E-91D9-4074-B8EF-9E3EA0E37C3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D1A651-7430-457E-9195-0A6B452598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301920"/>
            <a:ext cx="40384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quire less content than nonlinear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storytelling engine is simpl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less prone to bugs and absurd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capable of greater emotional pow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3298320"/>
            <a:ext cx="4038480" cy="28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deny the player dramatic freedo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duce the replay-value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an’t change the story – no agenc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are part of the stor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 and cons of linear stories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D5CA2-1D3F-46CA-988F-454C93946884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D5A946-12CD-4406-A8A1-2C33D41FB1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ranching stories – a lot of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different experience when different choices are ma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has an immediate, deferred, or cumulative effect o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xpensive and complicated to build than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play repeatedly to see all the con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7F944-9D76-43A5-963F-2A87A275798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18A27C-B00A-4218-9CF3-D3F15C9D62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ldback stories – limited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romise between branching and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branches, but the branches fold back into a single inevitabl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players some agency without the cost and complexity of a branching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siest nonlinear story type to devise and most commercially success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E2FF7-1661-4E76-8ACF-05FC6FB7B99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62AE78-376C-426F-AE00-E3D65F5F3D2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ergent narra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produced entirely by player actions and in-game ev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tory emerges from act of play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More agency because the sequence of events is not fixed by a story stru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ts a perhaps impossible burden on the core mechanics to produce credible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 present, no commercial games use purely emergent narra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4CFB4-E028-4B6C-AC52-B698B863480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1E77D8-B968-41AD-9F6F-9B3B3D7F9A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multiple endings to provide an outcome that reflects the player’s dramatic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provide an emotionally satisfying conc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ultiple endings if each one will wrap up the story in a way consistent with player’s choices and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nclude them just because you can. Have a reason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CEE4F-1BDB-411C-88D5-0A4EDF7E0BA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820835-621E-4233-AD1F-6AD553B20F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ranular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requency of presenting narrative to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rge granularity reflects less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mall granularity reflects more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13292-314F-47FC-A7A8-7CC76EBCDCB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2C738D-DEA0-41AF-95B9-B862B49EAC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series of challenges or cho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advances as the player meets challenges or makes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method of plot advanc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journe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riving at a location triggers plot mov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s nove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6B7CE-15F1-4667-8298-E47E27691F1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9CB323-5782-4A92-8F76-2397C56401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dram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engine advances the p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not control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common meth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D09C7-7813-46CA-B5A8-68DF2DA94D5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8245A1-4A4D-409B-8844-1A90A7A5329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Emotional Limits of Interactive Stori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needed to arouse complex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nonlinear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e endings might not be the most power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s often create a single ending so players experience emotionally satisfying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avatar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hould surv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nions can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51C6C-CAA8-4C9B-B79B-77F2CF3821C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500CC6-847B-4B02-91E9-4891F1195A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why stories are important to video games and know the definitions of story and narrative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in player actions, in-game events, and narrative. Understand how to use story, character, and narrative to engage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DB6C2-E106-47C9-88A5-23BB3719B40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953366-8D3B-42F3-B0D8-E38EE6A07C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cripted Conversations and Dialog Tre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dialog tree to design scripted convers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ing from several possible responses injects the player’s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’s choices can affect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character attributes can affect what happens in the dialo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D9D39-8872-4274-BE40-74952E693DE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3F4F60-D81B-4EAF-934E-261DEBFCD5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en to Write the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 list of episodes or levels during the concept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rite the story during the elaboration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DBCB9-62F5-4CE4-9143-FBD58C8E8FA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DE77F4-DA99-4848-B5D0-F8A21E2380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member that you are creating an interactive game, not writing a no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quels are a vital source of inco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episodes and delivery systems could provide more income in the fu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82206-08C8-4C57-BCF2-3AC3B438179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CD28BA-98CC-4324-9756-513BF53196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stories are important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tory, character, and narrative to immerse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linear and non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oldback, nonlinear story with multiple end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pisodic storytelling to encourage playe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04C91-D107-47BF-ACC7-837AC03A011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A5FEDD-5803-4602-BADD-3A2C18D3F4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ce between linear and nonlinear 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foldback, nonlinear story with multiple e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you can use episodic storytelling to encourage players to subscribe to additional versions of your franchi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0EAAE-7507-4F64-8DC5-1D51ECB47BC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0C6803-4C18-4AD1-B088-8E318E5E8E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dd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ttract a wider audi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maintain players’ interest in lo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help sell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41E84-E396-41F9-A63A-8D46046E87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8AD5FC-AB96-4DF4-A3E5-FF44D47647F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should not be more important tha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when considering how much story to includ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ngth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cus on individual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gree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motional richn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4C0F4-9B18-45EE-8DE8-858E576B51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09DFEB-232C-417A-8E03-C58CF2757C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tory is an account of a series of ev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quirements of good st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od story must be credible, coherent, and dramatically meaning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interactive story includes three kinds of even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-gam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8D00D-7B2E-4843-86B2-DF098133C0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A79D24-3EA3-48D5-AEB9-4510DE9CF6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is the part of the story told to the player by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function of narrative is to present events over which the player has no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ay be in the form of a movie, cut-scenes, scrolling text, or voiceo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ust be interrupt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lance narrative with action to keep players interes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gency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player’s power to change the future of the story. Also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dramatic freedom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16B39-5913-4B6E-A647-E2F1588DB56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C791CA-48CE-494C-A54F-43928B0F3D7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matic tension and gameplay tens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ramatic tension comes from the pl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des in the presence of randomness and repet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play tension comes from the challenges (gameplay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lerates randomness and repetition for much lo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921B5-6765-46D3-9BAD-5FC5E82C2FD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DB1A2D-26CC-4EB9-9F01-B9C6B60D7A6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ves together the gameplay and the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es it work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s triggers from the core mechanics to track the player’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s each narrative block at the correct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nds triggers to the core mechanics when the current narrative block is d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BA0E7-642A-4651-B056-55EC968BC21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E48AF0-833D-44D0-90D4-44B25449E1E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38Z</dcterms:modified>
  <cp:revision>162</cp:revision>
  <dc:subject/>
  <dc:title>Fundamentals of Game Design, 2nd Edition - Ch 7</dc:title>
</cp:coreProperties>
</file>