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F39FC-39EC-4A08-A27D-1272FB21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C389C-EC9C-4381-9CC0-5B810A28466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CE1A-85D5-4576-8E16-CF4E12B934D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8C2A9-0A96-4488-A787-198874B7B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27FF-E38E-45EA-89AA-05BDCB9E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6D3DA-04D8-433F-97A9-67F36DB2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9246-C12F-44E6-81F1-B0B85EBF2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F425-BBD6-44C9-8927-D4ADD72F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D8324-209E-476B-B207-C2E52C81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9B1E-08C6-4D5A-A410-4D368101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71AE-2207-4C2C-9D45-AA40DDFB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F7AE-343B-454F-8448-457E9C7A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9AFD5-5C59-4188-93A4-26605E1B7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C863-E161-415A-8877-C82F8CE6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4A460-FCEA-4900-B6B2-13FDF57B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63AB-1794-4EBE-AC72-B518F24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525A-3EE1-4D52-9EBA-9B138C4B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14AB-4A3B-491F-A90B-9A9848D1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2586F-CAE9-485C-99E6-01DCBFE1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9F5A-F0B6-42CD-AB32-900083F8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674DC-6297-4F6A-9CB2-9FB586A5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FE7F-646D-4693-8B43-C7B0CBE5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A4D35-C48E-4AB9-B53B-51CCB647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784C3-F615-4A44-8E3D-911EF8EB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ED0E-E723-4A02-9F53-A061FDC1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FAD3C-02EF-46CE-8DB2-B10A1BEE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E58C8-F579-4665-B297-3983E944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1  Onlin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291D-2224-41D3-A8D8-37C4359980A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012D-C8B4-48C7-B06E-CE4EAC3CE23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B68B-0107-4DF5-89B6-064D0999A25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1: Onlin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t’s harder to suspend disbelie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sbehavior can ruin the game for oth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ed to produc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earn money through advertising revenue o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keep players interested, you must produce new content on an ongoing bas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s require more customer servi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expect different things from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3978-3030-4EBB-B0EF-3ACB1C0C8A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43EC0F-EBFC-455C-97A6-938B7B7FCA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riving 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rt new matches at frequent interv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lounge for waiting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eed a matchmaking service to form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ersistent worlds, late arrivals are at a disadvantage. To assist them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have a victory cond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 competition between experienced players and newcom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 sure that direct competition is consens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34D88-E79A-46CC-9B7C-2B60FF5F82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C9B22B-AFCF-492C-90EA-F9F8138100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ppearing players—choose a fair way to deal with disconnections when they occu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nishing player forfe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alty less severe than forfei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ward victory to leader at time of disconn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t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as a “disconnected gam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andon game entir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refere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approach has weakn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2F7C-26B7-453A-A46F-BE6C149AD7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7D3CC8B-0342-4E86-BEAF-AA1E908D68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provides more freedom for the player and it’s more immers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urn-based is less immersive and requir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ed number of players in on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limit on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ault action occurs if player runs out of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do other things while waiting for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some games all players plan action simultaneously, then server computes the results for each tur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B06E8-F0B5-4570-9183-3230B0FE7D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3EB5F9-32B0-4809-9124-C111F39076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is a mechanism that enables players to send messages to one an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t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vate message to one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your tea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the players nearby (in the game world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ssage to all players in the game at the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usive behavior is a big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have a strong system to protect childr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B1AA-64BC-49EB-8E17-CC6D31892F6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E40A10D-8617-419B-A319-0544F1CAD3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s to prevent/reduce abusive chat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 chat to certain words/phras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fanity filters (don’t work very we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aint and warning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mplaint button reports offending player to authorit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ffender can be warned, disconnected, or bann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gnoring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gnoring enables player to stop receiving messages from a specific play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sets ignore, so there’s no staff cost involv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live human moder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xpensive, and moderator must be impartial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real solution in spaces designed for childr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54EB-08FF-468C-A42F-E5C3EE87E0C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D11BD6-3351-4E3C-8723-910FA9A4E3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 of cheating in which players who are supposed to be opponents work together in violation of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enforces rules but software can’t detect certain kinds of collusion such as instant messaging or physical communication outside the game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5ECC-8398-4CE8-B6BB-812D7CD20D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AD1BB01-32A5-4A5D-96CC-CC7485D1E9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llusio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to reduce col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’t prevent collusion comple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can only try to reduce the eff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ider these questions as you desig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will happen if players share knowledge supposed to be secret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 there any mechanism to transfer assets between players that they can abu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hat can happen if a player deliberately plays to lose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2A88-AB67-40F6-B0D7-BC637F4792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64C675-62C9-4BBB-8720-6BAD24003D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Issues for Online Gaming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se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a secure telecommunications protoc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rypt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 heartbeat mechanis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unique sequenced serial number in packe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tore sensitive data on the player’s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send the player data he isn’t suppose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let the client perform sensitive 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FD99-6360-477C-AAF1-1BEC2F4318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893A54-3FB0-4E29-91FF-1CB0971671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s of persistent-world gam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1978, developers have played text-based persistent worlds called MU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commercial market for MUDs tod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persistent worlds differ from ordinary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doesn’t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an change their ro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expressive and active, not rea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699DF-D5E0-4D88-A82B-789B129716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843544-D822-475A-BDCC-F59D587CD4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advantages and disadvantages of online play as compared with single-player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key design issues for online games, including handling arriving and disappearing players, real-time and turn-based play, chat mechanisms, and designing to prevent player collu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F5FD2-4B25-40E6-A705-38641EC3AD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7C4504-DC45-4C68-A965-D7B3E629E5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ard Bartle’s four types of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illers enjoy acting on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ers enjoy interacting with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rs enjoy acting on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lorers enjoy interacting with th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0640" y="3346560"/>
            <a:ext cx="5562720" cy="293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93B03-8101-43A4-8E17-6D2E9001C0B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407408-600C-4810-B1A5-A678260579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n avat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rst thing a player does in a persistent world is create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intain profiles that include information such 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ique name or hand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appear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story or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utobiograph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159AA-4FC6-45EA-8812-346F2EF3A45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72B2D19-FF52-4E8E-986E-F5A33CF958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ph Koster’s world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ive classic world models ar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aveng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Dungeons &amp; Dragon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-versus-Player (PvP)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er mod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1EB3F-40BE-4916-80EB-B10812C3F6E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186DA4-6846-431F-BA09-8E20F269BC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dea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death must be accompanied by a disincen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ys to deal with avatar death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reduced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urrection with some property miss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81E9-6E0C-43D1-940C-E3A41D3760F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8E23BD-B9C1-4352-B3AD-7F6ADFC87E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more interesting to fight another player than an NPC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rry better loot than NP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social experi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fight better than AI oppon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Ultima Onlin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experience—without imposed limitations, players preyed on each oth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95EB3-679E-4612-9E30-0EE6B80E5A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2DA4C7-D92B-4AA1-AE96-2F5E1A95FA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ous justice mechanisms to regulate PvP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automated reg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agging of crimin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utation sys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vP switch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ly consensual fights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afe games; no PvP allow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tion-based PvP enables players to attack members of enemy factions but not members of their own f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C89E-9FDD-4BF0-88FF-5DBB90BEF6B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459877-BFCB-496F-9B72-71F13071C8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-killer (PK) problem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ottom line on player killing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’s a fantasy world, it needs to be fun for everyon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ople pay to play—their cash expenditure mat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ature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time can be paused, sped up, or skip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nline games, time must run at the same pace for every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EF11-DFA7-4365-A71F-6E19AE29F4D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2D227D-3B90-414A-A90C-22742D9099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istent World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sistent world econom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nd tuning the economy in an online game is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not be able to create something for not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with all other games with an economy, do not create any system that allows players to generate runaway prof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68CDD9-884D-4B4C-A7E7-AE84D28C441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B2C356C-EDCD-410F-8EED-02672EC244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are advantages and disadvantages of online play and single-play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handle key design issues fo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solutions to some technical security problems faced by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persistent worlds and conventional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online PvP combat issu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90788-95EC-4CE0-BEFF-81273AA1155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2EB1A4-AC78-4A96-8BD0-D841C86592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some of the technical security problems of online games and some solu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persistent worlds differ from conventional games and what this implies for storytelling, avatar creation and death, and the internal economics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issues surrounding player-versus-player combat in onlin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1A45-AB11-4466-AA54-B05E4E4C98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8DB59B-5B96-482C-B114-6BD6BB05EF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Onlin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ayer distributed games in which the players’ machines are connected by a networ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network can be the Internet or a local area network (LAN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497F5-7BF6-4701-8676-6D6C65AC7B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D0803A-AECA-4F65-B2D6-9231DE31F3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socializ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games offer opportunities for social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games offer chatting (conversation restricted to typing text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games are including voice commun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 the creator of an online game, you are a social archit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183C-8B16-40B3-A3BA-4D5066A164F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BF5154-ACCA-4FBA-82C4-85C28D094F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uman intelligence instead of artificial intellig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players compete against each other, less AI is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NPCs when necessa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I-controlled enemies can fight a team of onlin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AA82-CF99-4729-8155-B72BDBDC42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EAEA71-E7FF-4BBC-B663-1A1335D543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gameplay can be purely competitive, purely cooperative, or team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online play, players are usually in separate pla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cal play can be two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area network (LAN)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milar to online play, each has her own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al play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ayers in the same room using the same equipment, all looking at one scree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7A2A8-CF81-4DAA-AC00-FDE1D76FFCC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4DC413B-0EC9-484B-8987-46B4FA9273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dvantages of Onlin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line gameplay versus local multiplayer 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blems with local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st display UI elements for each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hide information from other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mits the number of simultaneous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ine play solves the local play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player has own screen, information, UI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vers can handle thousands of play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2E9E3-5E29-48D8-B0B4-CB1027EC8E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3B8FA71-0DD3-43F2-8354-065DABF658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isadvantages of Onlin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chnical iss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unication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lient/server—player runs client and game company runs ser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er-to-peer—players’ computers communicate direc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ncy, also known as transmission delay time—players with a faster connection could have an advant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opped and garbled packets cause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848A-F882-4F43-A9F8-FEDE4887B0C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37518F-A7CC-4CF3-82CB-FEE6B3F949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4:02:41Z</dcterms:modified>
  <cp:revision>582</cp:revision>
  <dc:subject/>
  <dc:title>Fundamentals of Game Design, 2nd Edition - Ch 21</dc:title>
</cp:coreProperties>
</file>