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A4F4-59D6-4B3F-A5B5-B3E6EC711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9F8C-026E-4C50-9782-94D7D282BA12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6BCE1-0A23-4F92-A64D-E826E2EA9B84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FAA8D-A29D-4BA9-A227-1EFFB5C2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F92B1-7FDA-487A-9FA2-EBBE0721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34D7-B268-4174-BF17-A1B6CE46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A38EA-07AB-4B13-8A2D-15BBDA5D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E3AD-27EE-4790-AA25-44C64049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72E0-3F5D-4C66-8C1D-17BC3B38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D173-7AC7-45CE-BEA2-8D81D33F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CB74-114C-4543-82E2-69B1B6E3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79C5-CAC1-40E8-8BDE-D1233445B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CC95-4F66-4864-AAF0-07A4D648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6C53-5647-4B02-A7C1-5AB638C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CE4A1-6219-46A1-A4F4-85A3CB66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7A04-D35A-4328-A74C-1B3508B2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7230-10DA-40F8-808A-2A4D65EF8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FFD2-6DB6-4F84-9867-B1E76AB4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8B1D-0496-474E-91C0-F94DB14B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BD47-7CF4-4415-BFCB-418C7A3E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D634-761D-4A9D-9E23-B7B0B18D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3902-4FCB-4F18-A1F1-DE86C7E9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8F181-ADA4-4009-A6FB-5A4D8C57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6F9FC-3B35-4E7B-A551-958B304C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5C06-9C89-469C-97ED-A468B2AB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D739E-A0C6-4932-89B2-8C1F115E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B106-CEAE-4402-9594-9DDF3F9C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3759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20  Artificial Life and Puzzl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DADC9-2E0E-4971-9ADE-C723EF72342E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9E151-92F7-4D07-93C3-74AEDD4F765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E4B1-62EB-4E52-A01A-55A64D904CC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20: Artificial Life and Puzzl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a god with limited powers who gets more power from simulated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mnipresent interaction model and an aerial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often share qualities with CMS (indirect control of population) and real-time strategy (compete directly against a rival god)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9156D-DB5F-4FA3-B004-D1B7EF8506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74DA1B-91EC-4D95-B5C3-FB0DFECCEB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conomy of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’s power (mana) grows with the number and prosperity of his worshipp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ze of the population influences the maximum amount of mana the player may have and the rate at which mana is restored when it is below maximu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sitive feedback can be limited in various way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eople do not reproduce instantaneous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king land suitable for population growth costs man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a cost of using higher-level powers rises exponentiall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608E-1D80-4324-9F49-AD0402B7278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231176-C7B5-4556-9E12-EF9E09C181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d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n go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imary challenge is to produce population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 must also damage the other god’s worshippers and repair the damage the rival god does to the player’s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design a god game, start with the question of what powers you would like the god to h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d game needs a lot of interesting animations for the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714F-4F09-438D-A74B-CA79C440031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34CD6E-C9A9-47D5-AE15-4A113A5D5E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about managing a population over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tries to achieve goals for the whol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’t concentrate too much on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ing a geno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enome defines the creatures’ inheritable characteristics such as eye color, hair color, height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eles are traits inherited from each pa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f parents have different traits, usually one wins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rown eye allele dominates blue eye alle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8A294-B9A4-436E-8C9D-0B7A363E97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34CFA8-AA44-41F6-9CF1-70D74DFD7C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nge to the gene caused by an environmental fact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tations may benefit the population by introducing random new values into the gene po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fe span, maturity, and natural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creature needs a natural life spa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evolve through natural selection, creatures must have a time of immaturity before they can reprodu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enetic mutations that cause death in children do not get passed on because children do not reprodu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B252E-7132-4FCC-BBEB-E94E7E5A62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DA2A0B-0151-4DCA-9EBC-370285BC0D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tic A-life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does the player d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new individuals and add them to the population to see how their genes influence the popul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d and remove environmental hazards that would weed out certain ge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with the rate and nature of mutation by adding or modifying mutagenic objects or areas of the environm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te individuals to select for particular character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758E0-EFAC-43FF-95D8-11C8194DA55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B76823-4D55-4905-BB99-F5CD7344E0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puzzle games, puzzle solving is the primar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s usually provide related challenges, variations on a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types of puzzles offered include pattern recognition, logic, or understanding a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zzles give the player clues that have to be solved to meet the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28F9-BBD9-4561-A0B8-FA35AE57681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A59D44-2C41-451E-B638-E541449C86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inspi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construction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2631960"/>
            <a:ext cx="4038480" cy="36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he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se a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y attention to pres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59876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ott Kim’s eight steps in puzzle game design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9A146-9D19-46EB-9A85-A8233966D31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8FEF65-0DBE-45FF-B658-3C44DBC18B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at computers bring to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nonphysical or awkward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omputation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forc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rd player moves and undo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e the exper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bells and whis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able onlin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0ADE-BA8A-44A2-9AD2-E0D56F98ACF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90E129-8ECF-4B56-986F-8048DA4397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uzzl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ing the victory cond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 to the solution might be different than you plan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eck the solution, not the way it was reach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0929-8B03-40C3-AEE7-A74387F35E9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C333CC-CCB2-41A2-877B-EBC4E71D0C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forms of artificial life games and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basic artificial life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steps to designing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player’s needs for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CC652-A61E-422B-B437-7E9E0F36F1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86ADD4-C87B-47B5-97BA-3C664BD6DD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rtificial life game and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basic artificial life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steps to designing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player’s needs for puzz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EB45-F344-4CF1-8964-FF190515D6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2432A3-EE0B-46FA-9D46-DF725EB9A9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life is a branch of computer science re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nvolves modeling biological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-life is the study of emergent properti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unanticipated qualities or behaviors that arise out of the interactions of complex syste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-life games typically focus on maintaining and growing a manageable population of organis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E0F2-E038-4E0A-A5FD-0775FF38FF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5D019A-D067-453B-9A43-B7B552B456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simulations or fantasy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cute; seldom reproduce or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ncentrates on training, maintenance, and watching the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needs a lot of AI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ety of triggers and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w the pet's emotions through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D9A95-B364-48CA-B60E-2DC401E2F1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6D14DA-A592-4214-931A-FE3BF82E0F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 pe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fluences pet's emotions through inter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should interact meaningfully with other p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t must be able to lea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ch AI distinguishes artificial pets from other A-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pet is a software to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 victory cond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A5F0D-5E2F-4D8F-9C71-0A0FC09886D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66C86E-CF04-4F38-BD72-962CB92E4F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sims physically and indirectly affects their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sim has a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ss between an artificial pet and a C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has an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DEC75-3EF3-47ED-93C8-6E6D7E8888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2B50AE0-EEF7-4D2F-9A59-36AD6B915D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im has six needs that must be met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s drive the sims' behavi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ed-based AI is the heart of most simple behavior simul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(in the first edition) have six skills they can impro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ims teach themselves skil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ime management is critic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8CC5-0DEC-40C7-A387-B03C79571E5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B7247CA-C397-4F97-9CF0-551653C47B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 tries to simulate relationships among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iables define each sim's personality and how they react to each oth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ccess of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he Sim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based on the unprecedented scope for creativity it offers and its emphasis on interpersonal relationshi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19C2C-BA80-46B1-A5EA-3C5C583548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A3D7C3-A4CE-48D6-82DC-5FF444E2EC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Life Gam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ing affinity between two characte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I Can’t Stand” Rule – A character cannot stand another character who has an attribute above a certain thresho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rds of a Feather” Rule – Characters with high levels of one attribute are attracted to others with a high level of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posite Attract” Rule – Characters with high levels of one attribute are attracted to others with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lue for the same attrib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86A34-338D-420F-AE89-FB6FB4A811A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03DBD9-83DD-491B-8566-14AAF1E367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2T13:24:51Z</dcterms:modified>
  <cp:revision>528</cp:revision>
  <dc:subject/>
  <dc:title>Fundamentals of Game Design, 2nd Edition - Ch 20</dc:title>
</cp:coreProperties>
</file>