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526-6871-41FC-9506-CA9111CA3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D4D1-9B1B-4931-9591-75027A59626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40B3-10A1-46E6-8913-DA61189FFDBD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406C-CF56-4A28-A66C-AB9845C5E70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D005-8825-4A58-9E9D-C54C2EA6BAC7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31F58-995B-443D-BDB5-19C83361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F51B-7B6E-46CD-85C1-864E5602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9A28E-CEFE-454B-A49B-B9643D75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DB6DF-E29B-44BB-8EB3-AF0BC680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A8B3-0CE2-4C04-B168-DD68E0F0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8485-0E1F-4A18-8A5E-51EE206F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FC71-E761-45B2-AC40-3C6F6C15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5D20-C07A-4296-9648-8B732B6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5AB5-138A-4C55-AF5F-D8CE85A35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DCB8-2683-4CFC-ADAC-650C064E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9A09-2D51-4D1E-A2CF-DB2A4608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FD05-20B9-4C96-A4A4-B778234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F94F-7053-43A3-B652-B5B1604D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F1CB-1129-4064-BC88-72225986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74ABC-688C-4226-9420-FFAA4A07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4814-BD78-4A31-874A-E6F657D3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2D0F-06DE-4A5D-A6D9-55A8B618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E493-960A-4DF3-A843-4AF47D6D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B708E-F746-44F7-B2BD-EA87B80E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BA5E7-F95F-415F-AA34-786AFA3C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8717-1A9F-44D7-ACAC-4DB884F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C565F-4E4A-42E3-A76D-72958A68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1317-DB5D-4854-AE51-582573E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0C005-2E52-4BD5-9851-0719BCA3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9 Adventure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C95F-063F-41BC-BA68-1F47657E58C0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50A-FFB4-4C1C-9FF7-F31372ECF5A6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6D34-CA61-4C27-8786-D79817AA9B8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9: Adventure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eeps the avatar 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mon in action-adventure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est games allow the player to move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79B7-8DB1-432E-9209-B8828B7492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E06039-B5D6-4CF9-A7DB-32C5F1F668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 of the player comes from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dventure games treat the story as a journe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relationship between locations in the world and parts of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 became more linear in action-adven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C4C08-68A3-4A99-899F-E0FF0E458A0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DAB9F3-C27F-436D-A157-608C66D755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rises from an unresolved situation or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dramatic tension, start by presenting the probl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resolution of dramatic tension occurs at the dramatic climax, usually near the end of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can have several different dramatic climaxes for intermediate problems until the final climax solves the final problem and ends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7A3FB-DCAF-4C17-8D20-A99FF001DAE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7EFC33-3C33-448A-9343-4A5F048120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heroic qu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majority of adventure games are heroic quests: a mission by an individual to accomplish a great fe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iggest climax should be the last major climax in the game because anything that follows seem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uld be periods of quiet to rest and he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495D-0236-4136-81D5-706BEB41F7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6E477A-41D8-4138-A786-D7994AD092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roblem of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genres (RPGs, combat flight simulators) death is accepted and players know what is likely to cause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dventure games it is less cle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adventure games adopt a fair warning approach, making it clear when something is dangerous and usually offering a way to neutralize the da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an autosave feature to save the game at intervals so the player can restore it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50403-FAB2-4109-9361-1283F7D9CA5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2E64B8-C13A-448F-BFAC-479D42E73C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Shape 26630"/>
          <p:cNvSpPr/>
          <p:nvPr/>
        </p:nvSpPr>
        <p:spPr>
          <a:xfrm>
            <a:off x="45720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nding keys to locked door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guring out mysterious machin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taining inaccessible object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anipulating people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avigating maz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4" name="Shape 26631"/>
          <p:cNvSpPr/>
          <p:nvPr/>
        </p:nvSpPr>
        <p:spPr>
          <a:xfrm>
            <a:off x="4648320" y="3546360"/>
            <a:ext cx="403848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coding cryptic messag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lving memorization puzzle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llecting thing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oing detective work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  <a:p>
            <a:pPr lvl="2" marL="981360" indent="-33696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nderstanding social problems</a:t>
            </a:r>
            <a:endParaRPr b="0" lang="en-US" sz="2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5" name="Rectangle 26632"/>
          <p:cNvSpPr/>
          <p:nvPr/>
        </p:nvSpPr>
        <p:spPr>
          <a:xfrm>
            <a:off x="457200" y="160020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hallenges are conceptual: puzzles that can only be solved by lateral thinking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include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7BBE-EA73-4F47-8EB3-110ACE03F20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5425F-7B42-48D0-BB6C-433B93F111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sations with nonplayer characters (NPC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 NPC’s conversation is defined by the NPC’s role, such as blacksmith or tra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games try to sidestep the problem of conversation by setting games in underpopulate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ripted conversations became stand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5593-D26F-456B-88AB-23ECD02A44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1F76F1-8E7E-47B8-AB64-8E7CA5FF7F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p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ics provide cues to location and how that location relates to other areas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pp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p fills in as the player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see the map at any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compass as well if appropri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tomatic journal keeping is comm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0BDE-4FCC-436E-B08B-2D6217CF1B0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4E97828-A1C5-4B02-A64C-D742EA1664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ew things to avo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solvable only by trial and err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s requiring outside knowled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ick-the-right-pixel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backward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o many FedEx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A21E5-4C6D-47B4-86DC-D52B2ECEFB3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1F0BC8-A6FB-4DD7-9F67-B285B03A95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 mov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ment interface depends on the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perspective uses point-and-click or direct control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int-and-click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 contro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yer steers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both walk and run 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FE272-1EAF-4201-9D73-44757F792B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979CEE-90A9-4A6F-9E73-C531E28CE7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n adventure game and the common game features of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character and story in the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t interaction models and perspectives common to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puzzles and inventory in designing an adventur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3493-3EEE-40CA-ACAC-606BC3212D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07903B-DCBD-48C5-AF90-C0D1C37D4F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ying activ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nt and cli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anent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ynamically highlighted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cus-of-attention highlight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59A1-D1DB-42AD-9E46-D62304ED80D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CCB99D-2B44-4C82-A939-4823FF0E64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button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troller button or mouse click correctly manipulates the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u-driven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nu gives player the available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right-click an object to see a pop-up menu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E1502-6686-4537-93AF-377932B14D8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CD428E-378A-49F0-87B9-14EAB60551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ipulating objec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ing inven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games limit the amount that can be carri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isible inventory mechanism like a backpack or box is comm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inventory management eas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and close inventory with a single click or shortcut ke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B130B-A9F9-41BC-B192-FF122CBD98D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44BD6C-2C4D-45DB-B372-CF8FC05E6B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xplain the importance of character and story in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t interaction models and perspectives common to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puzzles and inventory in designing an adventur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3122-BEE1-41C2-9446-07549F844B4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FF062B-D1FE-4699-9ACB-E2E7F07098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dventure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ve story about a protagoni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telling and exploration are essentia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 and conceptual challenges form the majority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at, economic management, and action challenges are reduced or nonexis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2E92-86F3-48C9-AF38-AB54E2A031B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55012E-590B-4FAE-B6A1-9D0E30A1B3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original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dven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was a text-onl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o give the player a credible illusion of freedo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computer game that spoke to players like a person rather than a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A6F8-0D10-444C-BFD0-0138DBC599C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BC2124-56B4-45E5-908A-A8A3EA023D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rowth of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popular in the early days of personal compu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ving no graphics made games inexpensive to develop and allowed scope for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ers added graphics when the technology became avail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66D64-BF60-43EC-9BA1-F84B0743C6A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ECB4000-6415-46D1-AF5D-05CE49D14A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Adventure Games? 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(Cont.)</a:t>
            </a:r>
            <a:r>
              <a:rPr b="0" lang="en-US" sz="2800" spc="-1" strike="noStrike">
                <a:solidFill>
                  <a:srgbClr val="0b050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enture games tod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rket for adventure games has grown less steadily than the market for other 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ment of 3D hardware improved graphics in 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-adventure games develop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s hybrid is now more popular than action or adventu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ive solutions improves replay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never 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24215-DCDD-465E-95A5-231C59C131B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255DD20-07FB-4152-AA9B-BC610DFF03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 and emotional ton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ting contributes more to the entertainment value of an adventure game than settings in any other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move slowly, which gives designers the chance to create a world with a distinct emotional t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ADBA5-7948-484E-B70E-D4BBF8B131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0540DE-B8F7-4C90-BC84-24C0F9B434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ways uses an avatar-based interaction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rly games used nonspecific avatar, but now avatar possesses his own person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approach is tradition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rd- and first-person games are becoming increasingly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744C-D2AD-4F40-91F3-A4629E4FB7E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D29B905-EEB0-435A-B36F-E97A08B8B2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 is shown from the camera angle most appropriate for her current location in the game worl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s the designer play cinematographer, using camera angles, composition, and lighting to enhance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ncourages a more action-oriented approach to play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ewer opportunities for visual dram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1C17-DB98-4BA0-BCA6-7CB8544665D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FE3A61-03B6-4093-9395-AAF48CBC1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9:40:29Z</dcterms:modified>
  <cp:revision>423</cp:revision>
  <dc:subject/>
  <dc:title>Fundamentals of Game Design, 2nd Edition - Ch 19</dc:title>
</cp:coreProperties>
</file>