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462C-1465-4CA3-8471-BEA183A0E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A8AB-7040-492A-92EA-4D1C790CA7B0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-value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rack a character’s degree of happiness or unhappiness and a set of needs that the simulated character desires to ful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hap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E71F-EE48-47B3-AEED-D45F78FA257E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A24D-8927-4A3D-918D-5E037723959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DBDA-5D1C-4700-B3CD-0409A45DEB49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B780-D56E-45F9-92D3-3EBD5DF3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18E07-63C8-4FE7-B236-F6D31A67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3733-F268-4E31-85CE-D9173CB0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C2E68-8B15-46E3-AF69-466EB097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15E2-5B86-4919-8AD1-6E8094E0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9D22-CAE8-4E2C-8DE5-846A82FA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165A-1B93-46B6-A81F-DEB86CB4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176E-A918-4718-BAD4-C1799574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94E0-6FE0-4BA6-9D6C-02E680E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3ADC-2871-45C4-A0D4-EA590033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EB9-D039-450C-99EE-FDDFF264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84C12-8F63-4073-86C6-D742F6FC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C293-269C-4E06-9876-8D142BD7D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0A51-0C30-47D3-99E7-FEF103F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560B-107D-47C7-AFCB-3A0D1AC5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60B53-C216-4C83-957A-E7A4DD160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8639-8879-4DFB-A03A-AEFC0CD70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580F-8140-455E-8E61-72960B46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96C11-EC47-41DD-A945-B2BC559D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6B66-E999-496B-9CFE-9F043533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6BFC-094E-4A28-8D14-825F46E0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5D72-00D9-4694-B75A-3C16FE67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EB42D-DE03-417C-AE9B-E790288A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4C069-8CFD-4CB5-B2E9-A3CF9207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984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8 Construction and Management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DFA-E336-4836-B1A3-062A3132C83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0D95-7BE9-41DC-A679-B27A292472B2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161F-9F65-475C-8C12-CA69A1FE36A0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8: Construction and Management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gle-player unless it’s a hybri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individu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MSs model behavior statistically for the whole group and do not simulate individu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ing individuals is more difficul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behavioral model for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variable to track their happin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se happiness on player’s skill at meeting their nee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stics can be computed from all the individu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CDD2-0B3C-4D69-A86C-5DFA72461D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3D906C-995A-4DD9-9EDA-AD18EDA8C1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d reading enables the player to see an individual’s needs and fulfillment stat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vis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lerts about local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ify the player of general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a threshold level at which the advisor will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the advisor to add to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C7DF1-88F0-466D-AA4D-EE4EC8F40DA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F37954-6E06-459E-8D0F-B6439E155D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construct financial fortunes, not visible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ise an economy and mechanisms for manipulating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 challenge is to make the subject visually inter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unaway profits by controlling when and how a player can buy and s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BA57-BC76-4F08-B749-8FAD2BBCB0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E4A2CE-763F-4D7D-A0A2-47F81CB4B6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economic, exploration, and conflic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the economic aspects before adding other el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ther elements usually depend on the econom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mistake in the economy can ruin other parts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471A1-92A4-4339-A0E7-CB65DE01F54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4513AC-2CC8-4C4A-AC2A-4ED76CCA53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Usually m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y and peop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ilding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ngible entities in plan-and-build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angible or not a resource in purchase-and-plac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C5DE-DB45-4D19-8E6B-D9478CBBB7D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4B7232-4916-4501-995A-03BF97A0D4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struction converter changes labor, money, and materials into buil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and mainten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in permanently removes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cay is the usual d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enance can be autom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asters force players to 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9C94-7391-49D2-B369-9EA31BE92BF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06476A6-D2AF-4FEE-8BEC-6D19E3B5E1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d physical space, usually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set in 2D or 2.5D worl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re business simulations might not require a physical 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65CC-470E-4A69-892D-96707F405B5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680030E-6CF4-4937-88D9-788AE42849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usually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lkthrough mode allows players to see the world in first-person persp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ometric perspective is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environments allow players to zoom in and out, see a broad overview, or focus on a local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2E01-8B6E-4B64-99EC-DFF2808CE5C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905586D-54F5-4D9C-9DB1-04C8BA48EB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can be more like standard computer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important scalar variab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ph can show values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ctor variables describe related data, such as the amount of water available in different loc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7DEC-89C4-4A77-BD25-B8778F84C44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288764-D5B0-4044-BB19-BEEA25A9E5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construction and management simula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ifferences between plan-and-build and purchase-and-place gameplay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basic gameplay modes and artificial behaviors common to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6FFCC-0861-4F63-87D5-FC7B1E62435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B35E095-C421-4601-B3B5-3B7A01DD67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construction and management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between plan-and-build and purchase-and-place gameplay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ameplay modes and artificial behaviors common to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55F87-17E0-4D1B-B36D-536CED16A1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959836-40E9-42CA-98A2-DAC9FA65C2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issues facing a designer for user interface for this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the core mechanics of economies, construction, and manag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9EDE7-2FB4-4C0C-99BB-BFB397DED1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45084A-A0D9-4B2B-B82E-F765DF9E7B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ssues facing a designer for user interface for this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core mechanics of economies, construction, and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30E6-4D66-459F-A20A-A36038BFEB4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AEEF9D-2320-46B0-827B-958A921693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What Are Construction and Management Simulations?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economic, concerned with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truction activity is an essential element of any CM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and exploration challenges may also be pres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MSs avoid physical challenges, as well as conflict challenges, unless they are hybrids with another gen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22825-FC72-437E-A05D-BE93E42CD8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B02E0A-4D48-4BE8-9C2D-45EC2EAA1E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not easy to define the player’s role because that role seldom corresponds to an actual activity in real lif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desire to create is in the heart of a CMS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3193-A776-4718-AADE-31919AC0231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99F913-CF89-4D7C-917B-B8FC84082D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levels or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begin with an empty space for players to start in from scratc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ten have no victory condition, only lo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also offer different scenarios for player to t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are partially built when player starts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enarios may have victory conditions as well as loss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EC28-1A2D-468B-B36E-28147E0F65A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DD120A-C64D-49CE-95CE-980BFAC8F1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CMSs are games of indirect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ame simulates a process that the player can alter only in limited wa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owever, some actions, such as changing prices, use direct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ost CMSs, actual act of construction is not a challe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llenge is in obtaining resources needed for constru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AA41-4A86-4626-887B-820C1693E2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B823D1-B905-47E3-9DC4-023C6EED4D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chase-and-place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ys an object and plac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t is immediately ready for us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can build objects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sources used immediate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-and-build construction mechan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alternates between building and mana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plans where to build, the computer then buil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bject not ready for use until construction is complet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builds objects slow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manage the resource flo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9D40E-A140-4882-8BB2-7D5F8CEBCF3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BB05D2-9A31-4A0C-A5F8-03A7A9E41B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mol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demolish constructed ite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t the cost for demol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CMSs do no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ss condition is bankruptc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scenarios can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0E17C-D44A-4704-994B-BBCBD67D97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A02B97-AD93-470F-B1B3-682F7FB2EE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4:10:02Z</dcterms:modified>
  <cp:revision>420</cp:revision>
  <dc:subject/>
  <dc:title>Fundamentals of Game Design, 2nd Edition - Ch 18</dc:title>
</cp:coreProperties>
</file>