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9531-8864-40C0-8FF0-5BCA4619A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6431-6D06-4DEF-8094-21CD4EE5E59C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A872-8B9A-415B-8903-0376735383A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8578-231C-4AFB-89C0-6E42829C507B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C60CD-F932-49E2-8B5F-2A6D35478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73FBE-687F-4800-B917-56BAEB4A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E309C-E2A5-4808-B90F-26955A60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F3CD3-2D13-481A-B37E-84822852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83D3-608E-42A6-BE80-927894F5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8989-A2DD-43FF-A99F-E05320B8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BC8F-A14C-4B15-90FC-B05DC90B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8998-A143-4860-8E17-466FB15B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6226-1FAF-4C29-9F9C-D3AEA2722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56E5-BC36-4508-93AA-F8B5A3C5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CBC1-E3D1-4901-A29C-96995044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7BE56-4AFC-4DF5-AF54-A9754E08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FFDA-0528-4BC2-9FA8-142EDA07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C165-D8DC-423A-A91D-763E98AC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60F6-4D6E-439C-BBEB-278F3C11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3B58-0821-4369-89B3-7FF84E74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7CFB-936F-4EB1-A33B-7BED688B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CAF5-A8BE-4CB2-8A23-6A6F33C2D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D6AE-2BD1-4479-AEFA-E9FF4664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A8DCA-B93F-4217-991E-294736F3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C6FB5-0645-451F-9675-7D324D53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E0B92-A7BE-44B0-B3F0-462C1C3B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51FFD-E8C9-4EFD-B64D-212D221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CB58D-9044-42FB-B4C0-10E235C0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7 Vehicle Sim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BF50-352A-4EB3-BDC6-B249946F00CB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4B7A-0488-4966-87D9-B0744D83346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A4FE-438E-47D6-AA85-D52EEFCCC414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7: Vehicle Simulation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ehicle simulations are technologically oriented, so the core mechanics are almost entirely about phys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oppon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different vehicles with different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the behavior of individual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5ABF6-1F7B-4186-9114-94A87C7434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073119-835B-4AEC-843D-3B1995E792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m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ildren’s games can ignore damage to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amage can be modeled as a single variable like health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modeling divides the vehicle into ar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s damage in each individual are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utes damage’s effect on vehicle performa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AD79-B024-408D-93EF-BF91F58E518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6D0BB8-307A-4515-93B6-23E79D9502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br>
              <a:rPr sz="4200"/>
            </a:b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ndscape is an important part of the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—setting is the plane and the 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—racetrack, road, or off-r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 affects vehicle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der adding people to racetracks and airports to enhance immer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3F4F-4AC0-45B8-AA08-FF51C960E7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5689CF-B655-4421-BDC4-E9773E87FF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ats and ship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uid medium changes handling characteristics, making it different from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warships simulated as parts of flee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marines are popular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iling simulations are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cean is not modeled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reline is usually correc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pth, tides, currents, reefs are n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93A0D-0BAF-48AF-B072-C4835D8E494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422432-E198-41A9-81F7-A2108375BD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Vehic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nks and mech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tating turret on tanks adds complex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 is an invented mechanism unrestricted by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craf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ity of spacecraft simulations are science fi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modeled accurately—similar to fighter pla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1432-C6CF-4D78-BCDC-F755DAA62B9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65C03F-31F8-4B57-9489-FC5345FBD5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llectual Property Righ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ly, you can simulate military equipment without obtaining permission from the manufactur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simulate an existing car or other civilian vehicle, you need a license from the manufactur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88C4-A12D-44EC-8168-DAC117F4497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459355-ECED-4E8A-8E3A-119E3D73AD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—vehicle is the avatar; view through cockpit wind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common to driving and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’s/driver’s view—defaul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ckpit-remove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s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ar, side, and front view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05D6-390B-4F61-920F-F069B6D3ED2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D96F56-3A34-4F05-A71A-1626648B99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military flight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ound target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omb or missil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ews unique to driving simulat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ck-side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randstand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limp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43568-751A-4ED2-B7FB-ABD7851776F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5E39F1-9294-47DF-8772-AD6DE4C9BC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iggest challenge is mapping vehicle’s real controls to those available on target mach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ifi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simulators require some simplifi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ight simulators commonly simplify navig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light simulators produce automatically coordinated fl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B061-0EA9-4C2F-A7AC-26A13D66E3D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72C805-DA7B-46A8-9943-1969E74A7B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sense of speed—critical in driving simul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play a speedo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ry the driving surf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 roadside objec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soun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-fo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ilitary planes can show a G-force me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ilots can black out or red ou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764B-1C54-4490-95D4-CDE7D10671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C78AEE-3D16-434E-BBEC-5526F741D9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ifferent types of vehicle simula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how the design of the game world influences the player’s perception of sp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ways to design artificial opponents for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F313E-46DF-4970-B9F4-56F27A6B2AC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824871-22CB-49D7-9ADF-58B61AE0A7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different types of vehicle simula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vehicle attributes and character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I op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st the requirements for a military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the UI for a vehicle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2A6D7-2E58-4E34-BC23-B402CD3FE7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725011-F717-4C44-AE15-BFAB8143FC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stinctions between military and civilian flight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familiar with the various views often used in vehicle simulation interfa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A1E9-7BF2-4F18-8B23-39D10275E42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646F88-B254-4F2C-A9F1-E26DA64F62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Vehicle Simulation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ls like driving, flying, or controlling a vehi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ons vary from realistically handling the vehicle to adding game mechanics such as combat, racing, and speci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ce and water vehicle simulations follow the same fundamental features as flying and driving simul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CA771-42FB-45BC-9C31-EF83F57A18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DCDAF1-B3C5-44CD-9C4B-CA67B087E2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 are realistic and don’t include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re simplified but provide tactical conflict as well as physical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iving simulat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is driving in an existing racing class; requires licen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aginary racing uses imaginary situ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E4722-DD89-4BCF-BB2A-E9EACBB746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9FD569-5562-4214-B6E4-3056290338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rists demand highly accurate simulations of real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players don’t care about the details as long as they can fly or dr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687C-7563-4B9E-B26B-870ABE3EC0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00E905-7564-4D41-A9B4-22236EDC8F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’s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light simulator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lot or military positions such as navigator or bombard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cing-oriented driving games—driver or mechan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AA880-A930-401B-B6BC-9B1F332005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13794E-810B-4FE4-B717-A50A68DE97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—similar to first-person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ulators—single-player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iving simulators—single-player games or multiplayer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ulators and organized race-driving simulators—often include career mode and campaign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5D9A7-10AD-4CB0-B717-8A2D314888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DB93E4-2C42-4AE1-8CEC-076D1E9312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challenge is controlling the vehi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flight sims must also achieve the mission objec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ype of plane determines game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a series of miss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ivilian flight sims seldom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ganized racing sims take gameplay from the real r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C7ECA-4FD1-4533-9610-893546DE510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99850F-AA24-42AF-81DE-4AE875E02C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51:43Z</dcterms:modified>
  <cp:revision>383</cp:revision>
  <dc:subject/>
  <dc:title>Fundamentals of Game Design, 2nd Edition - Ch 17</dc:title>
</cp:coreProperties>
</file>