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CCAA8-6FE9-4EAF-846A-4C600B29F1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C57B9-7AF7-48B2-ACE2-0E20614D82DA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93E3D-2906-4B7C-BF42-EC9F7684ACA5}" type="slidenum">
              <a:rPr b="0" lang="en-US" sz="1200" spc="-1" strike="noStrike">
                <a:solidFill>
                  <a:srgbClr val="cccc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B4984-0AD6-41BF-9BE1-762247D30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534D9-4B59-48D3-8CBD-2AF2525EE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49922-56B3-4427-99E1-982F35545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09CA9-9E50-44BD-9584-D1DB0D917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B60C7-580D-4FE0-989D-8BFC8DA73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85119-4694-49F9-AA26-2D1AB422C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5B46C-781D-4D0D-A25C-705B464A6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9EB20-FBEB-439E-9225-B1B7AC71F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77A16-1BE0-4666-9232-FFBE3ADF9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A7E55-6C5F-41D3-BD38-3670E1EE7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93273-3E48-4E9E-8C5C-7268941C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5EAA6-D379-4BBF-9B91-CD7FA1709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4C127-29E2-478C-AFE6-D7FF8369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C29A8-6188-4631-88FB-23DB9DDC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008BF-E223-42F3-BF0A-8B2AC8C81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1F76F-D01F-4F1E-99A1-D288A12B7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E5909-4BFA-4F1F-8A19-8EF67C484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348BB-362F-431C-9B26-1529F08B0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1B9F0-AB98-4D7D-85AC-CE6AD8A08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B0848-C09F-4381-A213-36CE58FF9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44F0E-8FFF-4B8C-BD70-0FE46AA9C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1C033-7771-43E6-BCE8-E5CAEBC0E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0CBBF-9D03-4FDE-B747-555FD2C8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A5CDA-E7DC-4EF5-89DA-475B9D35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6 Sports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AE7CD-162D-434F-AD9B-11EFD004677F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BF563-2A7B-43DA-B786-8A67B7B150D1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0304F-491A-4AAD-98B5-5AC800742508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TextBox 12290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6: Sports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pportunities for creative 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am cre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s create their own te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 desig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s can create their own strateg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ing field desig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s can edit the shape of the playing field if sport allows this op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74D82-627B-4308-9F4A-056482871BB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753F901-5025-44F6-839B-49DE8C0AFED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venting a sport is a risky option that is hard to sel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eath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can invoke special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affects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stant replay is an essential fea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all usual video forward/reverse f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move camera arou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locking the camera to an athlete or the ba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A1C65-2FBF-425C-A064-29AF50DDE5C7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47226AA-C4DB-44F1-B2B5-B6592028E32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s for sports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hysics engine determines the behavior of moving bodies in the mat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hysics should not be perfectly realistic becaus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does not have precise contro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is not a professional athle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C4D59-B547-4305-857A-1108F09459D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F04AE78-F816-435E-984E-6A207CCC254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ating the athle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eloping ratings is a big ta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tings provide data for the physics engine to simulate the athletes accurate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ratings are provided for all athletes—speed, agility, weight, etc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ized ratings apply to specific positions—passing strength, passing accuracy, etc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09D06-445E-4D32-82DA-190F4EC1E11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4EB2255-49F2-4B9E-9E75-5700044974F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thlete AI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he state s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 in a match is broken into states defined by rules and strategy (e.g., fly ball, foul ball, grounder, strikeout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e a flowchart to map the game’s sta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collective and individual goals in each st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dividual goals are what each athlete tries to achieve in the course of playing his pos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llective goal is what the team is trying to achieve as a whole; the collective goal determines individual goa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7111A-2A9A-482D-B746-0771EF75532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C9CAACA-76BE-4DCF-8822-CE33412A9AB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ju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juries introduce some cha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s to turn off inju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cade mode versus simulation mo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cade mode increases action and decreases realism; produces higher sco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ion mode increases realism but probably decreases a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D7E41-A4E9-4C2F-A571-90ACA9041D8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26E2F6C-6D3F-44FE-A635-D5FC66D5DE6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ing matches automaticall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uter plays out matches and records resul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fake results quickly, roll dice to generate game sco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ores must be restricted to a credible ran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esn’t generate other statis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ing a home field advantage is not recommend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6D6B3-6AEB-4354-8FB1-D500DFE2D1A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2BA9D0A-1A44-44BE-A9AD-24F1C7C278C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urate copies of real stadiums and aren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significantly affects games played outdo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owd noises contribute to set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AC76D-E0C9-4DED-8FA9-B4666302DE4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F4C7E4D-9DD4-4DF2-920F-68C44D820FC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censes, trademarks, and publicity righ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am and league trademar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America, the league holds the license to use the team and league names, logos, uniform designs, etc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variety of governing bodies manage individual spor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vents are owned by the organization producing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diums are now asserting trademark rights too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sonal publicity rights owned by the athlete or an organiza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20327-344B-405A-84B6-FD210BF97A2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A481D91-0880-432A-BBBB-FAAEF045437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udio commenta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ed to feel like you’re watching the match on televi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-by-play and color commenta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e the events that should trigger a specific com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27266-4CA1-4B8E-8771-D4DB741F0C7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A683939-FCD7-406A-8AA9-8DD9D628520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hape 1331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F5527-36FD-43FA-A7AB-95EF480136AB}" type="slidenum">
              <a:rPr b="0" lang="en-US" sz="1200" spc="-1" strike="noStrike">
                <a:solidFill>
                  <a:srgbClr val="3366c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definition of athletic sports games and be familiar with the types of challenges that these types of sports games off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the challenges of meeting players’ expectations about a real-world game in a video game implement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D2E22-DE01-4DCB-8E62-E14BAB7DB1B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E37F8BC-3A5F-46B6-B2C6-2A2262E08A6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usually controls an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ich athlete is being controlled can change as the play progresses (in team sport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use first-person; players watch the athle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verhea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i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dividual spor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d view or side view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m spor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icture-in-pictur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ports with more than one focal point, e.g. baseball or cricke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906B5-7C9A-43F2-929B-E9FDEACB345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AE280DC-8628-4465-B8C3-9CE2AB9B270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tion-sensitive (e.g. Wii controller) best for spor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team games, let the player press a button to switch control to the most appropriate defending athlet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play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r interface can change every second, depending on conditions in the matc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tate requires a set of op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rk the controlled athlete with a lab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 overlays rather than pull-down menu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7FDA5-8180-46F8-828F-C1BD51CC5BD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E31D788-FE19-400F-8684-D0648CB2F96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sports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player’s expectations for a sports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dapt a sport for a video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rate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flowchart states in a mat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license teams and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 user interface for a sports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3D4F0-1177-4B59-81AE-3BAFD7C0EB9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5BC7E9E-0680-48D9-B153-AC81F01ACDA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hape 1433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B5716-2755-465D-B54F-E0DAFDE54A55}" type="slidenum">
              <a:rPr b="0" lang="en-US" sz="1200" spc="-1" strike="noStrike">
                <a:solidFill>
                  <a:srgbClr val="3366c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basics of adapting a physical sports game mechanic to a virtual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the design complexities for physics, AI, and player skill ratings required for a sports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se flowcharting to help define AI states within a sports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91D83-ED87-4D71-B92F-9D11D185B6A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6ABD458-954D-4BC9-BF96-53093043B37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hape 15360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524AD-C5A5-4A0A-9A0A-EF6063DC64A8}" type="slidenum">
              <a:rPr b="0" lang="en-US" sz="1200" spc="-1" strike="noStrike">
                <a:solidFill>
                  <a:srgbClr val="3366cc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Know the issues involved in licensing sports organizations, teams, and players, including the use of names and imag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Courier New"/>
                <a:ea typeface="Times New Roman"/>
              </a:rPr>
              <a:t>Understand mapping known physical game play mechanics to computer-human interface devi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2C8DC-5814-48B5-B3A4-3466230150A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0F9DE1F-D08A-458E-B077-D888861FFC1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Sports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sports game simulates some aspect of a real or imaginary athletic sport, whether it is playing in matches, managing a team or career, or both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tch play makes use of physical and strategic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management challenges are chiefly economic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B4BBA-B826-4D90-BCE2-1EE01E61D19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735012B-1215-42AA-95E7-FAFE48B933B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 struc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 gameplay mode is match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utside of match play, game’s modes relate to other aspects of the spo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use the game for coaching tas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ro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hlete is most common rol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yer follows the action rather than a single athlete in team spor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may also take role of coach or manag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BDD21-4BCA-446F-A0FD-C65A7910DAE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7751A0B-1AFA-4FD3-9294-3ACFA65A031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and 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and actions match the spo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thlete—Physical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ach—Strategic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 might have to be relaxed because controlling athletes onscreen does not correspond exactly to real-life sports experien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 to decide what to do about athlete mistakes outside of player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s to set referee parame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46340-751C-454A-B8C0-7F9412BEA2C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F5A6D5D-7642-4FCA-BA55-6055BF1FEF9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 competition modes are allow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orts games are more popular on consoles to permit multiplayer compet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 mode should include computer versus itself so players can watch a mat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344AB-90B5-4F4D-965D-A79736B706A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F7186E0-E4F9-4689-B2F1-15C707D04C4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and loss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tch real sport’s victory and loss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ason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hibition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udden dea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und robi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urnament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ranchise mod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162D6-2853-450C-A252-576EC43DB83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C26F70B-84C8-4FD3-8FB9-1FA7932707D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8T13:43:47Z</dcterms:modified>
  <cp:revision>327</cp:revision>
  <dc:subject/>
  <dc:title>Fundamentals of Game Design, 2nd Edition - Ch 16</dc:title>
</cp:coreProperties>
</file>