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3D3CD-3AB1-41FE-9F76-B2C2F818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FB60F-46A8-4CDB-B57C-C8734D99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FB84B-C819-4FD1-ABE2-0A7DA9CB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1F7BD-B78E-48A2-A8FD-AA4D371D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DD6D-28B3-4999-BE65-20BDA60E9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7994-4A4D-44B6-8D02-AAB21040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60A4-5709-41B9-BA66-A3C1C6A9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E3CD-7FA9-4A11-88EC-5C4439E5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2E0A-16D6-4048-9AEB-DAF36C6A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76EC-AFCD-4F23-A04A-9C76AFAE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CB35-A6D5-4A5C-B41F-44B3DA87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23FAF-9945-4309-8FB0-A3F19EC3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FE5E2-0733-4F15-AA1D-DACC3E64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0EB4-404E-47A1-97A7-2D89B052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E35E-47D1-46D2-8E15-93F64508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CF64-5006-4AD4-92BC-630DB315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13E4-E104-4673-9B47-E529810E4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10E3C-3127-4EAA-B589-90678521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A4EB0-ED70-4992-A722-06C79CAF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6BD69-F539-457B-BC04-69317D58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9DBD8-2BEE-4B55-B79E-8711DD13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E5D99-8B50-402D-8D73-C5A9DA42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3451E-F916-452C-86FF-36C68B39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D3026-22D7-4E8A-81DB-1FCA9BF6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5 Role-Playing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3DD0E-8856-4362-8DC1-1EE03128F55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FA25-C212-4C58-B703-C00F00290C0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FDEF-A7B1-4DE2-8322-39AA16CB5F53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5: Role-Playing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mod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and comba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tions include setting a destination, designating an NPC to attack, and using special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rs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u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s dialog tr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d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uy and sell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ventor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m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ge carrie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413D2-9449-4121-9E59-D23E80F2688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C1DB09-B7EE-47A5-88DD-BDC403D9F0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ing di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w the probabilities to get the result you w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termine general abilities and qualities; change infrequent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x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cla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, mental, moral, and social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F80D8-1D9C-40B5-B4E4-B74DE33B419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CCF67B3-1E78-4CCF-94D7-C6062953C6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attribut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, experience,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ributes that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points and character level  measure the character’s grow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smetic attributes add richness to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E581-910B-4778-8331-EFF1A6216EB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0C2097-A418-46ED-9B27-1C8C7E1D31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gic and its equival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 that allows characters to influence the world by means not available to us in real lif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cience fiction implements magic as “advanced technology”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of magic restricted by character cla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magic, how it’s invoked, how it’s 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 often spend magic points,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n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ana system is more convenient and flexible than the D&amp;D “memorization”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95108-331A-4D60-8196-AA34773A173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83839F7-9A5C-41BB-8042-7119513114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kills and special capabi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ing new skills for a character is similar to upgrading a unit in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trees provide a growth path similar to a tech tree in wa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RPGs allow the player to create the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l dice to generate points to distribute among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BA0E-31D5-45C9-AF7D-E854427431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C02A3C-BBDE-475B-A54E-1EC819F574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nd to be fantasy and science fiction sett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appealing to explo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CRPGs provide an editor to enable players to create scripted adventure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0F487-01B9-42A1-9AFB-F93E148F060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B82970-67B5-47D3-86AA-C03552C823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and Story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, determine the game’s overall ques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, design the episodes that the player experiences from the beginning to the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e an enticing ope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D7E00-8113-474C-9BF0-0631384C180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DA0B73-08E6-474C-8B72-0789A2EAF8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 in single-player CRP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atar-based is becoming more common, howe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 in multiplayer onlin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rst person or third person for avatar-based mod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allows player to see all members of the party at once as well as surrounding terr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26232-38F2-488D-A8AD-A4A92E257BF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9D4CA12-8A6B-4B42-BC8C-91926287E1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de range of ac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terface can be complex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de the mechanics to aid the player’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ve task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instead of making the player try repeatedly, automate the repetition and show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progress b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character has low skill at the task, it will take a lo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the player to interrupt and abandon the attemp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7B811-2A3D-403F-8B93-72A5B5D2BAD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7C4508-92E4-40DB-B200-4C8351C069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role-playing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the development of the role-playing game from tabletop to compu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character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a world and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xperience points and character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gameplay modes for 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D9E16-3B73-4361-ADC3-97A2CC967FE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5647D4-EAFE-4F1D-8D30-3A4A5D2629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role-playing games and the game mechanics common to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history and evolution of role-playing games from tabletop to comput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character attributes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E030E-9A47-4ADE-9B08-F060127F8A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F24B55-6D90-4273-907E-C3E374FE92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world and setting suitable for a role-playing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use of experience points and character level for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t gameplay modes within this gen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2A914-C7BB-40E5-9174-C994D60C11D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103DD2-1E5F-4E40-82C3-0E2D03B0EC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jective is to experience a series of adventures in an imaginary world, through an avatar or a small group of characters whose skills and powers grow over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sential parts are the quest or story and character growth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ctory consists of completing th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y players just enjoy exploring and interacting, even without trying to w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5D8C1-6DE7-4D01-A190-B337EEA2C2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BDCE28-DA72-4475-844E-DCD94D44F2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Role-Playing Game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types of challeng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gistics (managing supplie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grow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sol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5F958-45C4-4F28-986D-EF24154B5F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C32C56-27B8-444D-AC78-E6A6D2D276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war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include combat governed by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ll group of characters who exhibit growth; no factories to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r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ge group of identical units; factories produce more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84FF4-B819-4169-B574-D50A8C7F340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6AA015-EB6F-4675-A859-278CCFF806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 becoming more common in hybri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such as buying and selling as well as conversations with other charac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zzles more sophisticated than in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al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n–action-related activities are rar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C1B8F-4577-4137-B62C-07FEA05CF6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2245B34-FA13-4B59-8B73-E6E4ED3F0F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arisons to Other Genres</a:t>
            </a:r>
            <a:br>
              <a:rPr sz="4200"/>
            </a:b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PGs and adventur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th have rich storylines, highly detailed characters, and 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P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yer-defined character; characters defined by numeric attributes that improve over time; complex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tar provided by the game; concentrate on a single character; puzzle challenges; no numeric attributes; personal growth; simple internal economy (or none at all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8198B-F30B-4F04-A459-B93A2C45D20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89567F-5DCB-430B-A226-6DC309C33A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and combat make up a big part of most CRP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ing the world is an overused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find an alternativ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ng quest broken into episo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jor challenge at the end of each epis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tional side que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AA218-AE0F-450A-9ABE-985FDF153C0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28641D-7F28-4921-958A-046FFD0216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9:38:35Z</dcterms:modified>
  <cp:revision>280</cp:revision>
  <dc:subject/>
  <dc:title>Fundamentals of Game Design, 2nd Edition - Ch 15</dc:title>
</cp:coreProperties>
</file>