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FCEC7-B47F-44C2-92C0-3EF0DB31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4818-ABEA-4E5D-9424-11116716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ABEDF-0554-46D6-8A2C-2E33B066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5C11E-F0E0-41FB-86EC-39BBE12E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E4CD-0C10-4061-968D-3FF1C0C6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B865-AA5A-4609-BAA2-A8FDF720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9B3B-5863-4094-906C-235FC4A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F45D-FE8A-4ECC-B442-180417D6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1CB2-BFF2-478A-9B52-E3EB935C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1ACA-F1A4-427B-BA6A-37C0EDBC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CFEB-D7FB-47FF-80FA-011DB737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FBF6-A146-4EF8-B826-29DD688A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89D98-2E78-480E-BE27-E6585457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F3E0-D340-44FF-83A2-789EC577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4AE6-3737-40F2-90A9-FE361C0CA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2540-68E5-4726-B029-548BFEB5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5DB7-087A-4E88-9E7C-99D8263CB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38A6-F9ED-4377-B1E6-036FB0BF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8EB8-0663-44D0-A931-130F2D5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B511-56CA-4526-905D-41319EB0A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7AAA-30F3-47F7-8E13-88157DD3D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1E556-0E3C-45B5-BAD4-FF9F9044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D4E7-08E9-4E8D-BBE4-AEEA3B83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600E2-5ECA-4285-8C0B-C0B224CF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4 Strategy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19B2-EF1E-4326-94E1-E026B3C75204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32DF-744C-46E0-BF8E-04A3498A1975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933B-00F9-4BF5-B252-210237EF45B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4: Strategy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usually fall into types so that all units of a type share a set of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 units will also have special unique capabi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ck-paper-scissors (RPS) model is suited only to simp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not be balanced for complex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esn’t take into account battlefield condi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76F4F-070F-49FB-9D1E-90F3CEEC224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BA9110-C3E0-402F-AF5F-49E3F2E7C5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hot mass and velocity (or power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rac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358128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ive dodg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rn r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ss and acceler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nge of v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rn war games use numeric attributes to describe unit’s abiliti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36120" indent="-30888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umeric attributes used more often are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12E8C-7F99-4492-8CB1-C63D06E6888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8A76C3-32CD-4C39-B99D-5053334C5B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capabilities includ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lying or sai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pai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structing buildings and production of mobil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adershi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very special capability you create for one side, you must also create a capability of similar military value for the other side OR a way to defeat the special capabilit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84565-2198-469A-9266-429EEF0511C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F0EA91A-AC3B-4C0C-9204-A93068A64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596160" indent="-289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uting the relative value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Value based on time and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attack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ttack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ng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maximum sp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909720" indent="-31212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34290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quation for defensive units: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se unit valu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= maximum health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shot power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rate of fire 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theoretical accuracy </a:t>
            </a:r>
            <a:br>
              <a:rPr sz="2200"/>
            </a:b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(range</a:t>
            </a:r>
            <a:r>
              <a:rPr b="0" lang="en-US" sz="2200" spc="-1" strike="noStrike" baseline="30000">
                <a:solidFill>
                  <a:srgbClr val="003399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÷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2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27F5D-E9E9-4B55-912E-0485575D651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BAB616-5B38-4F99-B138-16B475FF82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ing unit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tion rates, unit numbers, and Lanchester’s la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Linear Law: In hand-to-hand combat, the relative strengths of two armies are simply proportional to their numbers of troop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anchester’s Square Law: For units that can aim and shoot at one another from a distance and can concentrate their fire, the strength differential is proportional to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squar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of their siz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5C91A-B7FC-4CF2-B45B-145E8F5A8FA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4EF453-2252-48D0-87E9-3C7CF570BE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lth, morale, and fighting effici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ts normally fight at full efficiency until their health points are g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you allow efficiency to be harmed by poor health, the feedback loop will cause injured units to die very quick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ale is represented by a number that increases or decreases an army’s fighting effectivenes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rale also usually produces too much feedback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adership bonus works better, because leadership is unaffected by health or mora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9F47-1C86-4F4D-A695-51BDA37E5A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5C8E04-B713-4B73-9F78-82097C8DA7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pgrades and technology tre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earching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 must initiate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rganize upgrades into a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 to choose which upgrade to researc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applied to single units, unit types, or glob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pgrades can be temporary or perman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technology tree to organize large numbers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5F9DF-D673-49F9-B72E-E35EB2D2C75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0BA19F-5C3B-4990-B2F9-F770028F05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nagement of supply: the production, distribution, maintenance, and replacement of personnel and materi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s usually have simplified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ies and consumable i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ack food and fu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mmo is cheap and quickly expended, provide unlimited supp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y destructive ammo should be rare and track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FEBBC-7B3F-45F8-B568-8724AF5A94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6C921A-5E2F-4567-BC16-3F78EAD9EE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ly 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ute over which fresh troops and war materiel must be transported from their source to where they are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the supply line is a classic 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st computer war games model movement of troops accurately, but not materiel such as fuel and ammo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don’t want to manage suppli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alistic supply lines mean creating transport units and modeling the supplies as individual objects 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C5980-E667-40E4-BEF4-76149E02A6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34CDB6F-19F6-4155-B7D6-AEC3411A3C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ing the distributio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supply is “magically” available wherever it is need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pletely abstracting distribution can cause explo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ternative is verifying that supply routes are open, but don’t actually require transpor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ad-buil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roads to access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ads provide supply ro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wns with no road cannot receive suppl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6C08-5337-47E4-AFC4-E2CAEDBEEE2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F60A82-1163-43B6-8E72-4A45C6D0ED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finition of a strategy game and be familiar with the types of challenges that strategy games off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set of orders that a strategy player will be able to give in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balanced set of units for use in a war game, including defining the attributes that govern their behavi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1A34-2C92-4770-B42D-0F8876059B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1B3523-D552-483E-91E7-83D468A75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st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 m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unit within a certain distance from a supply depot can receive supplie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obstructed route not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83EA-27CE-48B8-81A7-C2412033F6A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8B26C7-5396-4EA3-81A0-CC97B93C15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storical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litary strategy games tend to be set in the pa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storical setting will be scrutinized for accuracy by players familiar with th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rld War II market oversatura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a less popular time period or unique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D4BF9-D826-4940-B77D-BC392D25AB1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17CAADD-7743-4368-B988-86F0E42043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dern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isks generating controversy and negative public opin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be rigorously accurate and politically neutra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 use modern, but fictitious, settings to avoid thi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battlefield scaled for fighter planes would take weeks for infantry to walk acros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 solution is to exclude units that don’t fit the scale, i.e. leave infantry out of games about fighter pla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B9B22-D0CE-4376-A542-B475F67692A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C42806B-4EA4-40B0-B789-425DEB4528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ture (science fiction)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and allow a lot of scope for inven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ght not catch public’s imagin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technology carefu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ermi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address the issue of battlefield scale agai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016A-4CAD-4187-B980-B14546401F7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C31E5B-E22C-4A03-8780-0C81735F6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ame World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ntasy sett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agic rather than technolo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mphasis on close-range and hand-to-hand comba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EC08-34B2-4B99-96EB-8F29CC45219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48DA9A-E81C-4D27-96D8-611C180EE3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most always multipres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rge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ndirectly controls units and has godlike view of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quad scal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ller group of 20 individual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need to see the big pi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erial perspective need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AE50-2172-41CF-B117-6720D2E65A1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823558-82A7-4024-967D-0FF6F20371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resentation Laye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must control action at different sca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present related data in separate window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unavailable options gr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beginner and advanced modes for comma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commands by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46545-C8CE-41DE-9C3D-68F439A8149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3C05E3-94F7-45A0-9925-509D05B151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 tree searc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tree is the set of all possible future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approach works for only the simplest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ural n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mics the brain’s ability to recognize and correctly identify patterns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currently used in consumer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EC61-ADC4-4CFF-858A-56D3A7372DE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BDD342-1BE4-4A91-B8E8-52E480F95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successful mechanism for creating AI opponents in war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a finite state machine?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ceptual machine,not real mechanical engineer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s rules establish a simple behavioral system for an individual automated charac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unit has a set of states that it can be 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each state it continously executes certain behavi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ate has a list of events or conditions that cause it to switch to a new state, e.g. guarding to attack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644BC-C009-4556-BC5F-CFC281C7A58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F5CD51-54DD-4232-8F65-52DBAC1B8D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Oppon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ical finite state machin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erarchical finite state machines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nes higher up in the hierarchy give orders to the ones lower down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er FSMs can order lower FSMs to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I alone usually can’t beat a human player except in simp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AI opponents get other advant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 doesn’t know where his enemy i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 gives AI more resources to start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7E98-0C90-43C5-9BA4-F97A07E025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F1D579-957B-4902-897A-1A9A56E014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 the relative values of offensive and defensive uni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Lanchester’s laws and how they affect the relative strengths of forces of different siz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technology tree of upgrades for the units that you have design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E4D13-69B4-4B8D-BBD1-FCD1B481F2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65E17AB-946A-4DC3-B701-808D642F52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 strategy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fine the orders a player can giv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balanced set of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Lanchester’s laws in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technology tree of upgrad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nact logist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tilize artificial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1C01D-5AC4-4702-A3AC-2F2EF9B1A8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59DCB9-C730-471E-A664-13112A7886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ystem of logistics for your game and design the mechanism by which it work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most common types of artificial opponents and their strengths and weakn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CDE6-039D-49DE-8EAC-482363D3C7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E168FB-D5B3-453B-8860-44F443876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Strategy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majority of challenges are strategic conflic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hooses from a variety of potential actions or moves at most point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is attained by superior planning and taking the best actions; chance must not play a large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challenges may also be present;  physical challenges play little or no par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74FA-DF89-4D6F-B1BB-AA2038B6FD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F06366-8E5C-4B43-9B03-661BE10774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main sub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assical turn-based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ure strategy games tend to be turn-bas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multiplayer turn-based computer games, players often choose their next move simultaneously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l-time strategy gam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eloped after turn-based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TSs add time pressure to strategy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8EF0-EB3F-4EF1-B960-008F10A4AC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55AFE6F-559B-4B36-B2F4-B351030E69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flict is combat between groups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ctories generate more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hoose from among a variety of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plomacy and espionage offer alternatives to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B2D2C-E32F-4A8F-815C-5BFC4B854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702F64-E61A-40F2-9752-F81EE088C1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llow players to investigate unknown terri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g of war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unexplored areas shown in black, and explored but unpatrolled regions shown dim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can collect resources to buy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economy is complicated, the game is actually a hybrid of a strategy game and a construction and management game, e.g. the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ivilization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D867-C25F-4B7F-9639-7E55F308C0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7C575C8-73D8-4891-B5E5-260F3F951A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 involve giving orders to un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 to a loc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t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p mov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ld a pos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a 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duce new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treat, dash, and patrol are variants of the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DAFF0-1747-47FF-957D-E10387E0F24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D78664-80D3-4886-A475-04A0B71366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7:23:32Z</dcterms:modified>
  <cp:revision>274</cp:revision>
  <dc:subject/>
  <dc:title>Fundamentals of Game Design, 2nd Edition - Ch 14</dc:title>
</cp:coreProperties>
</file>