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370B-D60E-44D7-9678-2812884F2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ers must lose arcade games to keep putting in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E7E58-FF53-4148-AF8B-2B46741A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3041-3221-4FAC-A521-299397E3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BC62B-0419-40D2-8C5C-FECA2B2E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F913-2D1D-4D60-93C2-20692C632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A36C-A180-4673-86D4-3E555BB7C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38A7-F836-410F-B9FE-454D1A63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CB0A-8178-4808-8695-DB2406F5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5B1F-C67D-4FA2-9738-26DA6512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DDFE-5C59-465B-B228-0CCAC758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99F66-9F11-4D68-B52E-C3514F5B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CCD6-895C-4372-BEBD-D67A7654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794D-3ACD-4268-AF17-16A7C966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9B94-2607-44F8-A06E-F0DCE62B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D131-4A4C-4533-9E66-ABABB1E3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0D63-0F0D-4F3A-9856-5C7C8728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CB21-260F-41A0-AF89-E4974C9A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CE23-28AE-493C-B1B8-3A279549F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5629D-0AE7-43D5-A7B8-27AB2849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AADFD-F775-40D9-87BE-D3E3F8F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0B3E-F13C-4CAF-B571-CC01A2DB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E7E4A-FF0C-4922-8722-58ED2AB2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D98D-0916-47F4-8309-0FB93267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E3FB5-FB27-4B81-AA03-7919890A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18FD0-D95A-4945-AA4C-4BA9747B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3 Action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FA4E-D044-4FDF-9CAE-B47C849653E6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EFEF-3BDE-49C8-9CF4-81525CAE61B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7DF7-9C16-48F6-85A0-3C2DA193076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3: Action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actio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 shooting, hand-to-hand fighting, or abstract puzzle-solv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skills such as maneuvering and path plann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4337D-232E-4B8B-B4D2-84D5371F0C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09311A-66E0-4D83-9DCC-56EA66CB99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s usually completed in linear sequ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s often grouped by theme and end with a bo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ixed challenges are easier to build, but repetitiou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killed, avatars reappear at a checkpoi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exits, level warps, and 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exits lead to the next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evel warps exit the level and jump ahead several level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leporter jumps within the sam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512A2-A4FE-4D17-A0F5-7E7B6C1B79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3D707F-51D9-45B2-B91C-C41ADC7D04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nning your pac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ainstorm ideas for moments of excit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der ideas by prior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a story framewor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key events for intensity, and sequence th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te and sequence story plot poi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ime between high-intensity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aluate the tre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constructing leve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eratively test, review, and adju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839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82AF3-7525-4955-A9BB-42ED73CD3A3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3FBB619-0A03-410F-A5D6-C92ECFED67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s typically faced by three kinds of probl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ssive obstacle impedes movement without threat (wall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tionary danger attacks approaching avatar (electric fence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tive dangers attack and move arou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061F-1215-4ECF-8EF8-CFF9DC7136D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727E77-C44D-4A19-BC5E-ED38EEF691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v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mies attack in gro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ig boss guards the end of the themed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ildcard enemies break up the predictabi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 partition levels and control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nster generators or spawn points cause new enemies to appe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1436D-50D5-45C2-BFC4-333EA3287C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CE7A29-06BC-4B9C-8611-063B11CEE6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outine actions include maneuvering an avatar, aiming and shooting, collecting and selecting, manipulating objects, and fighting mo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mart bomb clears enemies from the immediate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perspace escape immediately moves the player at the risk of unexpectedly entering a dangerous are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9DA76-7FB3-475D-9209-F1DB9643080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8B64A34-7FF2-4441-A9CD-3D8BAB4203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re simple and obvio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ves provide several reprieves from dea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ergy is replenished by collectibles or poweru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werups increase streng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lectibles are common but not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rease the sco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ock secret levels or cause special bonus even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FBA7B-AC9A-4DDA-99DF-D7E060EC787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127FD0-BEF9-4646-A8EE-EC6EC85BED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counts down time to events and catastrophes or the amount of time left to finish th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ore indicate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5A8C5-C8EF-4F35-AED9-9E3ECA28C5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39C460-C1E9-4B88-956E-DB80946894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ctory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ly arcade (or arcade-like) games don’t have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ing a structured story means the game will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action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most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zzle manipulation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or omnipresent model (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emming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) also us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E9692-F00B-4FD6-A136-1BB8F819574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298E2E-96D7-4139-8735-9CA72E5E20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camera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cludes side-scrolling and top-scrolling perspecti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inuous, variable, and parallax scroll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first person is tied to the avatar with a limited field of vie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third person lets the player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ny offer both, switchable at player op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Resident Evil 4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ines these somewhat, moving camera to just behind avatar’s should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507CF-6327-4916-BE34-CAFAB239884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4FE0F7-CD9D-4165-AC74-23C279558E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dentify the qualities that set action games apart from other gen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stinct subgenres of action games and their particular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characteristic features of action games, such as levels, lives, and powerups, to design games of your 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esign limitations imposed by placing the player under time pressur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3AAC-ECD8-49E8-8C94-EBCC6B281C5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1D867D9-1C31-461D-99D9-33EFF65846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mera model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mplications of 2D an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it is difficult to tell the speed or distance of objects that come directly toward the play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3D games use the environment to present challeng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3D, enemies can hide and sneak up on the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xt-sensitive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mera moves depending on the circumstan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a good model for fast action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dden changes of camera position are disorienting during high-speed ac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7B6F0-72AD-4E00-ADEC-70DBE18F862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5C81BB-CDC7-4B71-BCDD-F102411BCA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Featu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fea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play only as much as the player needs to kn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on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ndicators rather than numbers or t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w attention to critic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s and mini-maps can be shown as transparent overlays; keep them si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olor to identify character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rols should be as simple as possi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DB95F-DC08-4562-B053-CE85659EE16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0CBE25-4713-4F90-BE6D-19018B9089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recognize action game subgen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and use characteristics of an actio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cribe design limitations of actio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0C00F-43A5-4D1A-899C-6DE19F8EE1E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582FDD-4FED-406C-8F80-7805EACD72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Action Games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ction game is one in which the majority of challenges presented are tests of the player’s physical ski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-solving, tactical conflict, and exploration challenges are often present as wel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est action games are called twitch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C6341-2155-4C2F-BDE6-EA409530801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CF54AA-1D5E-4EEB-A267-485897FA83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familiar and popular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use a ranged weap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or side-view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are under constant attack so shoot everything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limited ammun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realistic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68EE-2612-4FDA-B334-C65EBF5376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37864D1-6459-4E94-B0AF-5283BDF575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oter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shoo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utting edge of game hard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hysics are more realistic than 2D shoot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first-person or third-person perspecti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rther subgenres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il-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ctical shoot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urvival horro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rena gam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4B354-AE27-47A2-A665-94F62CD4AC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5C1052-25A1-4FF4-AA33-82DF06079B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tfor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rtoonish games in which an avatar moves through a vertically exaggerated environment, jumping on and off platform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jum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ighly unrealistic phys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2D side-scrolling games with humanoid avatar are platform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uper Mario Bros.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classic 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685BF-090B-42F3-96D5-E5B7921A8B9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3894F4-EFA5-44BF-9EFC-0D27E72D9E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ghti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hysical challenges test reaction time and tim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e hand-to-hand comba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y use a few ranged weap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wo major categories: one-on-one and mêlé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rious boxing games usually classed as sports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include maneuvering, attacking, and defe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bo moves are comm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is largely 2D in the plane of the video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10EB1-9E8A-47F3-A1BC-3EAB2A9A67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5284FDF-1DBF-4919-AB66-4410A4839D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st puzzl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 player to solve problems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ple, abstract, limited control se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etr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is the archetypal fast puzzl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sual gamers enjoy this sub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al for handheld devices and cell pho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936BC-9759-41C4-8DF2-EF211ECB96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1F3E1C-C389-48C3-93BA-A305C6E936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 Game Subgenr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-adven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 combines action and adven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include physical challenge, story, inventory, and 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nce and rhythm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player’s sense of rhy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s buttons to make the avatar d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pecialized hardware common: dance mat, conga drums, marac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girl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ss pointless viol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CA13-A24A-42A6-A52D-A5D5B55626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34B45F-C331-4393-9966-D85F83E5D7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7T15:17:29Z</dcterms:modified>
  <cp:revision>247</cp:revision>
  <dc:subject/>
  <dc:title>Fundamentals of Game Design, 2nd Edition - Ch 13</dc:title>
</cp:coreProperties>
</file>