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0814-2214-4626-A2B3-5674A2176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on sequitur is something that does not follow log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similitude means having the appearance of truth. Sports games must be realis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494C-3CD1-44E8-B920-A3F942FB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C4BA0-09EC-4CD3-BA74-6F47FB08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7CE20-E49D-41F1-A407-84569CF7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C8ED5-3652-4FBE-904D-501F54D4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017C-1ADF-4568-8D76-22317CD0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47E1-A4C3-4F5B-9221-2C8CBEFD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0E7C-E1AA-4571-AE50-87F11D6E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FA16D-4AAB-47F6-AF34-FEF83174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4B4F-A5F8-4C9B-BAFE-9A339575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F07B-B6F2-4DED-9747-7AC1EA47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7CC3-7D33-4EA2-9563-2D31ED3C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CD559-053E-4457-80D1-E323653B3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4ACD-06A4-4493-92FF-E91AA3FB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74B7-D70E-4B20-A3C4-4E3A70F9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99C0-FE74-47E3-BCD8-0FD82C9F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B081B-FBF4-428E-9876-6EF4AE6F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D532-DCBB-4AB2-9543-DDE23513A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7B89B-8604-4A4E-9166-41DBBFBE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CB6B4-CBF3-4D73-BA9D-C30C2EEB7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3614-90C9-48A0-91EA-40003C9B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7D53-A28B-454A-AA1A-35EDA737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A2D4C-6623-4855-BE9D-5794CE5C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B8BFF-CEF0-4D8D-9640-86D060AA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12841-8D73-4ED9-B05E-6C287D29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37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2 General Principles of Level Desig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8980-CE96-4A49-B123-BFF6628F3ACF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D8C8-7DA6-4E16-8176-D97933C07AE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FDB7-2385-4451-99DD-0AF3DDB2339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2: General Principles of Level Design</a:t>
            </a:r>
            <a:r>
              <a:rPr b="0" i="1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allel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odern variant of linear layou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Variety of paths can go through th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n reflect a foldback story structu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ing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ath returns to its starting poin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val tracks or twisting road-racing tracks are rin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rac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49520" y="4191120"/>
            <a:ext cx="1457280" cy="2158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7913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7CF19-9720-42BD-B10F-373A8591E46D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9BFD49-72EE-4C52-8676-6C0C8F1722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etwork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paces connect to other spaces in different way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Give the player freedom to take any path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ories must be able to tolerate player experiencing events in any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ub-and-spoke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ntral hub is usually a safe zon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rovides some choice of where to g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ck off some areas to control sequence a litt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4419720"/>
            <a:ext cx="1905120" cy="1857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4343400"/>
            <a:ext cx="2286000" cy="1901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49F2C-4086-4850-AA08-002A3450FD30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7402B5-6A83-43D9-9A12-984A41A2F7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ations of layou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mbines aspects of several layout typ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-playing games and adventure games often use combinatio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68760" y="3429000"/>
            <a:ext cx="3605040" cy="2679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781F0-92E4-4CF1-88B4-D2ADBD6ED1B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B9BAA4-D0FE-4675-A9E7-19D3BD82EE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 assembles components to create the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gh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 palet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eather and atmospheric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visual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bient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cial audio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9530-A825-4C89-9D09-CAF08C3B1F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4F44856-8587-45B7-8201-60E834F3D2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 refers to change o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esigning progression, consider these factor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3505320"/>
            <a:ext cx="3886200" cy="23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c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xperience durat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cillary rewards and environmental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actical gameplay rewards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3505320"/>
            <a:ext cx="388620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fficulty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ons available to the player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ory progression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  <a:p>
            <a:pPr lvl="1" marL="507960" indent="-393480">
              <a:lnSpc>
                <a:spcPct val="105000"/>
              </a:lnSpc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haracter growth</a:t>
            </a:r>
            <a:endParaRPr b="0" lang="en-US" sz="22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70494-8894-44B0-9479-C02E1B30AE3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275321-47A5-47F5-B6CE-44BC9B4082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cing refers to the frequency of individu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nre affects pac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ultiplayer deathmatch shooters use the fast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dventure games use the slowest pa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with fast and slow peri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all pacing should remain steady or become more rapid near the end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F579C-BF9C-4AC0-99AC-F94E3737879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CCE8748-9FCD-4EA6-9110-A7BA0C3677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xpanding on the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torial levels teach the player how to 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mewhat scripted experience that explains the game’s user interface, challenges, and ac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oduce features in an orderly seque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witch off features not yet introduc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the game is complex, use more than one tutorial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ghlight screen elements when you introduce the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t player go back and try things again conveni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iceover narration or text can expla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rule: Make tutorial level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op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FAB4-10F8-4CDF-8040-7C3CCCFA778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DAC021-50B7-406D-A0D0-C199C73AA0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to level design handoff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st features in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rough overview map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pha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level in detai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n the sequence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cument the gameplay, art, performance, and code requirem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79856-6B87-4BA0-AB06-A058A39E1E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667A975-4AA2-4EFD-9690-9AC68A11AB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oty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 temporary models of the landscape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ls serve as blueprints for the art tea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the proto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edback from the design, art, programming, audio, and testing tea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21820-3E08-4A7D-9105-970763E6155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8CA1D3-FF94-4A21-9944-AA8536DA04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refinement and lock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corrections based on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view and correct until the level is flawl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 to art handof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all files to the arti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l artists how the level should look and 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act the audio team for any needed audi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B04E-4F45-4907-BE37-0B60D0FDE5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750B1F6-2064-43B0-A18D-8EC67C1A7A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level design can enhance or undermine a game’s story and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 between universal and 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possible level layouts and understand when to use each and how to combine the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0199E-D74C-41A1-B9C9-1AB28AD12F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48FA40-956D-42F3-92AA-35698E5A67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 art and rigging pa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 team builds the real artwork and rigg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might need to incorporate the new content into softw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 to level design handoff and review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 final art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duct a re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9AF12-6037-4ACE-BDA2-AB668A935A1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B6B6AE-0D1D-4103-A201-72FDA2E653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Level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nt integ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semble all the assets into the complet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just any rigging as necess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g fix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for bugs and mistakes and hand off to Q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testing and tun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A creates a test plan and begins alph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oroughly alpha tested, hand off to beta tes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EAD78-EA23-4A4F-8F13-2E471C3F940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146F4A1-A2AA-4243-AD88-6FC94FB54B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t the scope righ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within your available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’s common to design something that’s too bi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llogical events in a game make it harder to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rewarded, not punished, for using their intellig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E62AB-5BFD-4830-9222-FBB0A2131A7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217343-851B-4C87-92B6-BBA11A9D2E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typical levels optiona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break the player’s suspension of disbelie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ypical levels could prevent some players from complet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n’t show the player everything at o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w features gradual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tain the player’s intere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B9125-139B-4E57-A91C-851E7EF2A57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3FE096-370C-43E6-B59D-20DFEA1334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itfalls of Level Desig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ver lose sight of your aud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-centric approa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derstand your target audience and deliver what they w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 the “Bad Game Designer, No Twinkie” articles for more examples of design erro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ww.designersnotebook.com/Design_Resources/</a:t>
            </a:r>
            <a:br>
              <a:rPr sz="2600"/>
            </a:b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_Twinkie_Databas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79748-7934-4B83-B2D4-C5FBE309FA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09C7757-3BAD-4DFB-9549-7136BE7814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pply key design princip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 variety of layo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tmosphere, set a pace, and build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mplete the level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common pitfalls of level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25FD2-5581-45A7-8A3A-2E798549F3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FC26CAB-C883-44A2-BFD3-68C2422357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importance of atmosphere, pacing, and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aspects of the level design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some of the pitfalls of level design, such as inappropriate scope and conceptual non sequitu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A8576-2F70-4F03-B71C-881B1B5AE2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8B82752-3C80-418F-BF3C-1F0FE5F346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Level Design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3428640"/>
            <a:ext cx="403848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pace in which the game takes plac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itial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t of challenges within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0" y="342900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ermination conditions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Interplay between gameplay and st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Aesthetics and mood of th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: constructing the experience for the player using components from the game designer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designers create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587CD-F6AE-44B6-82FD-49ED0EFDF3DC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D7EC40-F9BF-4E50-888F-0DA9335746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 the early levels of a game tutorial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y the pacing of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the player surmounts a challenge that consumes his resources, provide more resourc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conceptual non sequitu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learly inform the player of his short-term goa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094F0-DE3F-4454-B330-CDC470781B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E4462C-A83C-453E-8C4E-FC2ECA3F36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iversal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lear about risks, rewards, and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the player for skill, imagination, intelligence, and dedic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ward in a large way, punish in a small w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end more resources (polygons, memory, CPU time) on the foreground than on the backg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urpose of an artificial opponent is to put up a good fight and then lo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 multiple difficulty setting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E3999-9533-495B-88CC-51836C7B3C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E084C0-78FE-4DE5-977F-009AE04382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y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le-playing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opportunities for character growth and player self-express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orts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v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risimilitude is vit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hicle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r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ward skillful maneuve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4AC84-A9DF-4E65-B262-42401F85276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429B902-8389-459C-988D-3692BE30A7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Design Principl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re-specific level design principl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uction and management simul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fer an interesting variety of initial conditions and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entur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struct challenges that harmonize with their locations and the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lif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te many interaction opportunities for the creatures in their environment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ga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ve the player time to think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B2B2-9DCD-4603-8B5B-2F4A30D711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CE75EB4-71F8-469E-AEE5-F981CC3C41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ayou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en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ow unconstrained move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rrespond to the outdoo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in war games and role-playing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inear layo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equire player to move in a fixed sequenc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 move only to next or previous are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raditionally in side-scrolling action games and 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791320" y="4398840"/>
            <a:ext cx="2361960" cy="1928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0F53C-5427-43CE-A2A1-8BA13A97D8A9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B528FCF-6B83-460D-AFFB-6A05D7F545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45Z</dcterms:modified>
  <cp:revision>242</cp:revision>
  <dc:subject/>
  <dc:title>Fundamentals of Game Design, 2nd Edition - Ch 12</dc:title>
</cp:coreProperties>
</file>