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46C1-C6EA-45A4-A5D3-5E40CB06A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occurs when the player’s abilities balance the challe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 from Chapter 9: Intrinsic skill needed to overcome challenge + stress = absolute difficul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graphs in Figure 11.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FA07D-5776-494B-BCB6-4DF8BC7B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EC2E-7B1D-41AF-8CC9-8E4B0710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477F8-A095-4FE7-92E9-BE82246D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A5DC-CB50-4028-A632-E66C27B2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1604-D76A-4A39-9F13-5C0DB957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F2BA-7518-436A-A32F-51253258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BE69-9735-428E-84F1-C80B8B6B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7A4-DF22-437A-9A49-7F6C6BBED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3325-DF06-4C13-9DB9-D63FD186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EFBC-B0A6-4E7B-A586-90FF435A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6C75-B787-491F-9FD5-C54FB553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7430-20EE-45B6-810D-7ABEBC5F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190B-0608-4F84-9FC7-716BAF07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522FE-5552-4395-B999-FEB729A5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0C46-166C-4312-B0DD-C3AD3DC2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EFD9-FF67-4977-B847-DD54AE87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4194-28A8-4786-ABD5-52326F30B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CB73A-BADD-4B31-BD3E-4A7F465A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18D9C-1292-4E6A-958A-B2546B58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8C70-9C1E-4DB7-BAEE-2927F146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451BA-09DE-40E0-87A0-8F49E597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72C8-9236-422C-A3F9-D7E3635A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7E17-C542-49F0-B1FB-4E82326C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AB3F5-E241-4668-BBE4-2884993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2841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1 Game Bal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E498-2605-4B5A-B2A2-E08E3F209FB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B510-D617-40DD-A56B-C564FAF3F40D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8270-D72A-48CA-AAC0-2D2748AC5A51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1: Game Balancing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ansitive relationships (rock-paper-scissor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beats B and B beats C, you can’t assume A beats C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ather, A beats B, B beats C, and C beats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PS model is simple but can be adjusted by modifying core mechan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rthogonal unit differentiatio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kind of unit should be unlike the others in some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t simply more or less powerful, but uniquely differe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uarantees each kind of unit has a unique fun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F8420-D309-4D87-A32D-F178D41EB3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923D12C-ED7E-4B35-96FA-9AEF11B741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PvE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plementing fewer actions in a game risks creating exploi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that can beat any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oroughly to eliminate explo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30277-4DA9-4747-83A0-632BFDC799C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1ACCD8-CC2B-4BBF-888A-FB2E064D10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Role of Cha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chance plays a role, how to ensure the more skillful player wins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sparing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in frequent challenges with small risks and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choose how much to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3F5C-214D-4C3F-BE87-2BFC12568A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ADDBA-7B41-4E7B-BBD6-46D9FBE53F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alance symmetric games, treat every player the s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me rules, resources, victory condi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games are harder to bal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 approach: give players identical quantities of materials or points when they sta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ints to build units as they wi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spend ponts to adjust unit attribut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udy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arcraft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 great asymmetric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1F2A-476B-415F-8A3A-9D75C0C586D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F975150-FC98-40B4-985D-FC8AB8787C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P Games Fair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e issues for persistent worl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sistent worlds are never symmetric and always intrinsically unbalanc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w players need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rebalanced on the fly by patch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40C67-B84E-447C-B587-60CCC42546E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BF76F47-1A49-4F09-B719-888170840F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PvE Games Fair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fair PvE game shou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challenges at a consistent level of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learn-by-dying desig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talem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information for critical deci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requiring extrinsic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challenges appropriate for the gen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4C100-A015-479F-8694-54D1D115163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C62437-E0E7-4C5B-9443-5D9C635FC6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lancing a game includes managing the difficulty of its challenges to keep players within a flow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outside the designer’s contro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vious experience facing challenges similar to those in you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ive talent such as hand-eye coordination and reasoning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requires cheats to be winnable is badly balanc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C76DD-6ADC-4785-B48D-4C39001907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933C02-7A14-428D-93DB-3BD1A56067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difficul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re amounts of skill required and stress to that of a similar trivial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– difficulty relative to player’s power provided by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991440" indent="-3402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ower provided measures player’s strength by means appropriate to situation (e.g., weapon strength in shooters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49800" indent="-31536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= absolute difficulty </a:t>
            </a:r>
            <a:r>
              <a:rPr b="0" lang="en-US" sz="26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(power provided + in-game experience)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AB1D-CBDD-4E78-936F-FDC39B7CA8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C52ABD-049C-4645-88B5-224C56BFBF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4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4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351160" y="1835280"/>
            <a:ext cx="4440240" cy="405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72176-CFF1-4667-B7C9-3CC823E392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45920C-F1FC-49E0-944E-5EFA7E2198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a difficulty progress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ceived difficulty of challenges should stay the same or ris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 games for casual players and young children, it should remain almost fla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lative difficulty must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rease over time to counteract the player’s growing in-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E763-4185-42B6-AE91-8BA79E180CA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8D8DCB-A4D9-43AA-8500-B6659AF87C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qualities that characterize 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dominant strategy and discuss ways to avoid dominant strategies in player-versus-player and player-versus-environment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to use the element of chance in a game so that player skill still ultimately determines the outcome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7DB0D-1E0B-4D46-8902-5EE3D2D3ECF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47BAF8D-4CE2-46D0-9347-FCAB86435D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Difficul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stablishing difficulty mod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ingle-player games, allow player to choose a difficult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 difficulty mode is selected, challenges must stay within that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can’t adjust the difficulty of a challenge, provide a way around it for the easy mode and block the go-around route for the hard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867AC-C2DB-4138-A67D-F43790BCA1A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FC7B38-F49D-4281-82E2-7CD5662E9F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itive feedback occurs when a player’s achievement changes the game state, making future achievements easi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nefits of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ourages a stalem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ewards succes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3776760" cy="26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61DB-17EF-4D1F-B8F3-E62D4ECCF48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F5AE275-7D56-4685-B4C8-EDD43BD4A6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Understanding Positive Feedback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rolling positive feed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give too much power as a rew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roduce nega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ements have a cost as well as a benef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aise the absolute difficulty level of challenges as the player procee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collusion against the leader in PvP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victory as unrelated to the feedback cy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chance to reduce the size of the rewa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49EA-5DCB-446E-A449-4CB100A2F90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783DE7-6F1F-4022-9163-B3E4C7E884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Balance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stagn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gnation occurs when the player does not know what to do nex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ide clues in plain sight about how to proce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Have the game detect when the player is wandering aimlessly and provide nudges in the right dire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trivial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the computer handle uninteresting details of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1F291-96F4-41E8-B334-8452E0AD18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A9FA73C-E607-4652-AD0D-E8EF823992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 to Make Tuning Eas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ize mechanics when poss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avoid creating special cas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parate code an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ggestions for efficient fine-tuning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ify only one parameter at a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modifying parameters, make big adjustm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onsequences are easier to se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cor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pseudo-random numb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656AE-680C-45C5-8508-603C1BDE6BB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7D4DF5-10EA-4008-B182-24F3E89034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air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avoid dominant strateg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cha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nag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ontrol positive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9D72-4D52-4A36-8670-1D809C903C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ED7C42-ACFB-41B7-9178-A43E069667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symmetric and asymmetric player-versus-player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strategies for making player-versus-environment games fai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ypes of difficulty and explain ways to manage difficulty to maximize the player’s enjoyment of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2AA6E-5311-4566-99D0-F75A5F1923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345428-757E-4DE2-8531-3D6AF9ACC8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phenomenon of positive feedback and discuss ways to control positive feedback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qualities of unbalanced games such as stagnation and triviality and explain how they can be avoide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design methods that can make fine-tuning easi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28A3-0CFA-4519-908B-8FD42B6BEA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A7C1EC1-920A-4159-9516-6FE874C160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balanced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fair to the player(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neither too easy nor too har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es the skill of the player the most important factor in determining his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 of balance differs between PvP and PvE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3160-0F72-412D-A54C-DC00D032BD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657F18-DE95-444B-9836-9881B25255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well-balanced PvP or PvE game has the following characteristic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t provides meaningful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t avoids dominant strateg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(They will be explained later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strategy must have a reasonable chance of producing vic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’s skill must affect succ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Role of chance should not be so great that player skill becomes irrelev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F977B-9975-40D5-B112-C77DF9E31E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7E41E0-8445-4DE7-8F55-2125D9B9E6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Balanced Game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perceive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player who falls behind should have opportunities to catch u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rarely ends in a stalem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itional balance requirements for P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perceives the game to be 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tion of fairness is differen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scussed lat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vel of difficulty must be consistent, without spikes or sharp dro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14203-26BF-42FE-B180-5647134D1C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4C436F5-2B1F-4739-A937-7F24E45836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y is a strategy that reliably produces the best outcome a player may achieve, no matter what his opponent do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are undesirable because a player has no reason to use any other strategy once she has discovered the dominant strateg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14CA6-FA6B-403D-A1D7-6E6D78BEB58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FF18CE-76D7-475E-A1A9-FBD8BFDDE8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voiding Dominant Strateg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ominant strategies in vide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nsitive relationships among three or more enti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f A &gt; B and B &gt; C, then A &gt; C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ver any reason to choose B or C if A is bes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orrect the imbalance, assign costs to each choi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create a more interesting choice, impose shadow costs for choi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hadow costs are costs that are not immediately appar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ransitive relationships often used to create upgrades for a player’s abiliti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art with C, then earn B, then 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2952-72A4-4EAB-9209-3919DE1190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CF4535F-C9D6-4174-B951-49FCEA1440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9:04Z</dcterms:modified>
  <cp:revision>222</cp:revision>
  <dc:subject/>
  <dc:title>Fundamentals of Game Design, 2nd Edition - Ch 11</dc:title>
</cp:coreProperties>
</file>