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1BC8-7876-4FC1-8B83-3E76EF9CD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ies resemble data structures in programming, but designers should not concern themselves with coding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is material is very abstract, use examples from the book or games familiar to stud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519D-2759-40D9-AC7A-222B6A9B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06B1-5F6E-4960-BDE8-75125922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08187-1A98-43E4-BE27-0C417DCA0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8246-C805-4BB8-9A9F-20D43A34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0D6-F599-4C3F-8BD1-54090978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802B-4F35-4A1F-9F14-37BCBBAF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4E7-7960-43F6-9C92-D8D9F7CE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5B8F-00AC-44AF-AD8B-7CA895C0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939F-589C-4134-BB2A-F0E2E775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8C07-E28F-40DB-AF5D-F26A3A6C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2B2E-DF98-4D7A-AAFD-00372835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8BB67-F649-401B-BC7A-F3E3BA4B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795C5-95DE-4662-9486-61F2E9EE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F2B6-EF4B-4D81-B7C2-10160628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BA5E-BB3C-4A9B-8D9E-48B7424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A16A-A140-4CE7-BBB4-BBD3A445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3592-C5BC-48D0-BDD7-CA119CA7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B536-0B70-411C-8FEA-EBB5D5F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64CB8-634B-41B9-AB11-10A160AA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98148-8FB9-4C5E-A901-CD516123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63B97-2166-47F8-9B34-C7C8855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5DDD-B83F-49DD-9D4A-B1A4129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63B37-1848-41E5-8ECE-56DBD55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9A99E-C155-41B5-91A8-1CCB0987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0 Core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9B79-D3D5-4ABF-9A78-735D51FBA395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20EE-6935-4708-8811-831AD7ED2DF8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73ED-895F-482B-9723-0F4E1620C91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0: Core Mechanic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umeric and symbolic relationship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umeric relationship between entities is defined in terms of numbers and arithmetic operation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lues of symbolic entities can’t be added or manipulated mathematical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You must define how symbolic entities change sta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ymbolic entities can control mathematical operations on other numeric ent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9C9F-F4EB-4ED0-91FA-F8B12502CD7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F03532D-EC5D-4BAB-B457-EB8422E81B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tity Examp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7925040" cy="46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EEA7-7AB3-4454-B3FF-F1BE7589BA9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838BF43-9B1A-4762-A7EC-FF3CAF3155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ourc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 mechanic that defines the way that a resource or entity comes into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“Go” square in Monopoly is a source that produces money according to certain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produce resources automatically or when started by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rces can be limited or unlimi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D0D13-A127-4901-8398-F399B36337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7E320C-6E15-47B8-92C7-A68133CEDC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ins remove resources from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verters turn a resource into a different type of resour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ers change the ownership of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tion mechanisms make a resource available to play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B8912-2E14-4825-99A3-D3D483E3ED6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6AF52B-0166-4AB3-B21A-FC18C0149D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tangible or intang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ngible resources possess physical prope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angible resources do not occupy space or require transpor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feedback loop, a production mechanism requires some of the resource that the mechanism itself produ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problem unless the system runs out of the resourc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is produces deadlo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BC8EE-226C-4083-BFB1-369156F53C5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CD41082-9098-4D3B-B585-E843347B7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Internal Econom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production mechanisms that require each other’s output as inputs are mutually depend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static equilibrium, the amount of resources produced and consumed remains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dynamic equilibrium, the amount of resources produced and consumed fluctuates cycl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76AF5-CCE2-4078-9C61-1E03C66503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24303E8-D28E-4AFB-97AA-74F9AE0671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present challenges to the player and accept actions from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implement the mechanisms to operat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perform tests to see if a challenge has been surmounte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ve challenges (such as static obstacles) do not require mechanics to ope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ve challenges require mechanics that implement their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93B72-80AC-40D5-B2E4-D665956EAEB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E840851-BF22-43D8-90C3-2EFCBBC45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re Mechanics and 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and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available to a player normally do not change much from level to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ions trigger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icated actions may involve manipulation or storage of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this case you must create both an event mechanic that implements the action and an entity that stores the dat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CCB08-614E-4383-A6C2-74710CCBCF4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BD4928-73F5-4F95-8450-CE5550B16F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s of core mechanics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t simple and elega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generalized systems from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iterative refin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on’t try to get everything perfect on pap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, test it, and refine the resul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cuss with programmers the level of detail they need in your docu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BC5D8-5250-4784-A461-1167608FAA6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3FA1E4-239B-4CF9-AB56-DAA7942D87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visit earlier design work on the project to identify entities and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uns in design documents will probably be implemented as entities or resources or bo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bs are actions that will be implemented as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” and “when” statements identify conditions that trigger and contro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AF84C-D806-44EF-A8EB-E32AFA4E32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FC1AF5-1DF9-4837-9D18-D44439AE34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functions of the core mechanics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key components—resources, entities, attributes, and mechanics—that define how a game wor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 game’s internal economy controls the way resources and entities are produced, consumed, and exchanged by sources, drains, converters, and trad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90672-FB8E-4D1D-AEDA-CF9A4E56DBF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8BDB576-1FDC-4674-901B-C48C02D261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entities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es a noun describe a resource or an entity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n entity, is the entity simple or compoun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a compound entity, what attributes describe i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9C35-D576-4E8B-95BE-61A6D9B3370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F491C06-2788-4493-870B-01E761EC0A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the Core Mechanic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 th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member that mechanics consist of relationships, events, processes, and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nk about your resour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udy your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alyze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for global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8362-E3FF-4134-9F56-F36CAB38283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B2C76B-20DC-473E-9174-2074FC8559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pseudo-random numbers, a seed generates the sequence of random numbers produced by the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uniform distribution, the chance of getting any number equals the chance of getting any other numb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metimes you want certain events to be rare and others to be common – for this us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on-uniform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tributions of random numb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56B2-1813-402F-AB28-8AC93F3CF52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29158-69AF-47EC-8610-DAC7EFAD26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Random Numbers and the Gaussian Curv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generate non-uniform random numbers, generate multiple uniform ones and add them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ding 3 six-sided dice produces non-uniform values between 3 and 18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10 and 11 are common, but 3 and 18 are very ra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ing nonuniform distribution creates a Gaussian cur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B62E5-C8A1-431F-AC18-1DADD5241D7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499C397-136D-464B-B576-9CC8F81497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onte Carlo Simul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means of testing a complex mechanic to see how it performs in different condi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 your mechanic hundreds or thousands of times with different random values in the entities it works wi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alyze the results to see if the mechanic is performing the way you exp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ten you can do this in a spreadshee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0BED8-5B32-4E8E-943B-EB09228D7D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0EE9F8-A0A8-4BB3-B833-03F6EB0A15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fun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identify resources, entities, and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core mechanics affect game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vert your early design into mechanic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generate 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use of Monte Carlo simul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D051-B14E-4208-B79D-DF0834D698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5828B35-498E-409D-9370-9CB51670C4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the core mechanics implement both challenges and player actions to manag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design the core mechanics of a game by writing specifications to document the entities and the functioning of the mechanic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to use random numbers in a game, and test with Monte Carlo simu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C9DA2-BCF6-46C5-BA0B-17F2D2F417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558BABB-47AF-4F6C-8EF1-46D9A05069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consist of algorithms and data that precisely define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ation of mechanics varies as project goes through design pro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does not experience core mechanics direc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game engine is the part of the software that implements the game’s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F5D19-9CB3-4800-B7E5-BADB57F41D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9AB062-DA8F-4437-8EFB-028F7AE3DA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s of the core mechanics in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internal econom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 activ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pt player’s actions and determine their consequen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ct victory, loss, and the termination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e the AI of  nonplayer character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witch the game from mode to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mit triggers to the storytelling eng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2D460-9C81-4EEA-A5A8-29B989F2F7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0B02EFD-8B2E-469B-8B41-B2756BA5DE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Are the Core Mechanic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games versus turn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real-time game, many mechanics are processes that operate continuous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a turn-based game, mechanics compute the effects of the player’s actions after each tur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level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should specify how challenges work in general but not which challenges each level will con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3E5A0-4535-4831-AD0F-6E23EEFF72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9CF8334-63C5-4312-8261-12484032CF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resource is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yp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of object or material that can move or exchange within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sources are handled as numeric qua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re mechanics define how resources are used or traded and how they enter and le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e: resources are not objects but types of obj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ncils” are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pencil” or “these 3 pencils” ar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entitie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D979A-BB86-4181-9C6E-EA204BD176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3350BD-76E0-483F-9E74-1A33DF2D34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entity is an instance of a resource or the state of some element of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imple entity is defined by one dat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.g. Points scored in a basketball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ompound entity is defined by multiple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character in a role-playing game has many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unique entity occurs when the game world contains only one entity of a specific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 football in a football game is a unique entity – there is only ever one in play. It is compound because it has several attributes: position, velocity, and spi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82D7-128C-4246-98C4-8E147714BD4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64215-08CE-4A99-95D7-DBF5B9BFB6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chanics document how the game world and everything in it beha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es the relationships among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lobal mechanic operates throughout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dentifies the events and processes that take place among the resources and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ck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condition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at trigger events and process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DAD8B-AB25-4D50-BF8A-B47AD14AD3C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3E5BC9-04FE-4DF5-ADF5-701CE24E6A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8:33Z</dcterms:modified>
  <cp:revision>197</cp:revision>
  <dc:subject/>
  <dc:title>Fundamentals of Game Design, 2nd Edition - Ch 10</dc:title>
</cp:coreProperties>
</file>