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9CAD-7A10-4EA7-A350-711516E6D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ing errors, tuning, and polishing are the same practices any professional uses when crafting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play is the heart of a fun game. The player is the so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7D714-3251-4AD5-B956-09F02D65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ADD9-4D9A-436C-95E0-4A914B32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D516-50C1-443C-8E9F-41EDEC45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221E4-35BC-4C9F-A367-C01268003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AE29-2969-48CD-9D19-365B120F4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1D43-EB83-435A-9509-26CFD41F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818D-9C0B-49CD-BCB7-F3673EF6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5BF30-EA5A-4C1E-BF23-31820240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F34E-3F29-4B04-9584-89C2A15D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40132-F16B-4284-B4C5-1068CFFB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C7BA-AEC7-4048-86C4-80DDCBD7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C8F6D-1351-4E06-B0AF-B4AD7217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4ED5-FC2B-44D6-90DA-051572CA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9D3D1-DAE1-43C3-BCA7-10E2A6B1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07C3-9273-4523-A3BF-971FDA6E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B220-8029-4974-956E-BBB34842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B298-0AB2-4496-881F-DA25FE31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386C7-5C1E-432E-B05A-5A42E50B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0BBF6-B3ED-42CE-8561-28A2B65D4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D92C1-DABB-4407-8D61-28054413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7AFAA-E2F7-420A-8A35-A2B4D17F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AC77-7718-4EBF-B52F-6E8CE616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639AB-9A7C-42BF-A93D-31C17753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FE639-EA18-4651-8AD8-474FE568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285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9 Game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8E53-B476-41EE-9DA3-757CB81CB558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1696-2C69-449F-992C-820BC388FA77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B18F-3335-41E6-A36C-36FE45C91E75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9: Game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coordin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speed and reaction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ccuracy and preci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intuitive understanding of phys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timing and rhyth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make combination mov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 time available to increas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83157-93C9-4E97-BF4B-8893C9B069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CD306E-7954-4702-9EE6-37D6564159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 and mathematica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rmal logic puzz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o outside knowledge requi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increase difficulty, increase the number of objects and the ways they can be manipula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layers normally get all the time they need to solv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puzzles that can only be solved by trial-and-err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thematical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s require players to reason about probabil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ake educated guesses with imperfect knowledg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29D85-29DE-4B5F-9592-B6A150BABB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635F82-80B0-433C-8183-4D1500535D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aces and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first to accomplish a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be combined with other types of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 pressure increases stress o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ual knowledge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rect tests of factual knowledge usually occur only in trivia and quiz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other kinds of games, all facts must be present in the game or you must make it clear in advance that outside knowledge is requir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BABA1-A5C7-4361-8F38-DDADBA794E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18DC78-704F-409C-964E-1B80A89E5F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mory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all things seen or heard in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it easier, give players longer to memorize and test them soon after they have done s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ttern recogni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ability to recognize visible, audible, changing, or behavioral patter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increase difficulty, make the pattern longer, more intricate, or more subt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770D3-AC55-4729-9E24-5CD75784AE9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B69F04-EC71-47BD-A7D7-F98553CBC0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patial awarenes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est ability to learn and navigat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decrease difficulty, provide a m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cked do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ny obstacle that prevents the player from proceeding until he disables i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 unmarked switches far from the doo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BCD3B-9048-47E7-AB0A-56065FACB9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AA1149-7127-4AC3-B302-3E66275D34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ap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vice that harms the avatar when trigger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un comes from outwitting the trap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zes and illogical spa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very place looks alike and player must discover relationships between the area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n be implemented as logic or pattern-recognition puzzl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AB0C-44B7-4498-BB4F-4BD9D61DED6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F65A46-32DA-46FE-9ED2-9692D240B0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oration challenges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(cont.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lepor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echanism that transports player to a new loc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 make the challenge easier, make the teleporter predictable and revers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ing hidden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reasonable places player can deduce from clu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imes hidden in obscure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Easter eg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are special rewards in particularly obscure locati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D71CB-F143-4BFE-B75A-3039B994FE0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3481B38-1480-45F8-A6DD-B0492CCBCC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direct opposition of forces, some of which are under player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 challenges can be broken down into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ac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rvival and reduction of enemy fo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ending vulnerable items or uni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tealt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8DD7-FF39-463C-BDC4-4AA61D4F0D5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A7BC54-A1AA-4950-B18E-1BA3DD78F4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behavior of resources creates economic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umulating resource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wealth, points, or anything valua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hieving balanc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this can be a more interesting challenge than simply accumulating resourc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aring for living thing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hallenges the player to meet the needs of each individua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99FE0-CD00-4FD0-9998-5D02A85267A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DAEF118-6D3D-4748-B509-D24A6B8174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monly Used Challeng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ceptual reasoning and lateral thinking puzz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eptual reasoning puzzles require reasoning and knowledge to solve a probl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teral thinking uses extrinsic knowledge in unexpected way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90A7-D22A-4DDD-BEF5-BD68EDBF3E4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840CC3-6D59-40C4-B03B-ED0706DC46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basic principles that a designer should follow to make games fu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hierarchy of challenges requires players to complete atomic challenges, sub-missions, and missions to accomplish the ultimate goal of winning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quired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discuss how these factors contribute to the difficulty of the ga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FD4C2-FF36-4486-B78B-A3DE3C0B83C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7ED5E9B-7DB6-40CE-8D83-4E3CAEE1C7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for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are intended to mee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fer fewer actions than challenges to limit size of user interface and animation cos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actions can address more than one type of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ased on player’s role and actions to overcome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67C9-BE87-4C32-A624-6A57235CC26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DF85A5-C00E-47FC-91B0-8B3799E3C8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ction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tions that serve other func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tions not related to challenges include actions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nstructured pla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reation and self-express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cializa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articipating in the stor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ing the game softwar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B9CD7-5149-4A2E-92C3-4A7C6F794C7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7DBF0F2-DEA4-4F18-93DD-A47A24D566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son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 to leave and return la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t player recover from mistak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courage player to try alternate 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equences for immersion and storytell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rms immer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duces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67A36-4401-4D89-9CF0-7C8B4BB143D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BE0F34-2E46-4A87-A359-0F620484F6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aving the Gam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ys of saving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word to restart a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ave to a file or save s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ick sa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ic save and checkpoi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ways allow players some way to save and relo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9DC3-0E9C-479D-B6EB-CEC8650D93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A256E84-79FA-42AC-83B4-44F5FA528F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is the heart of a game’s 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can be organized into a hierarch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kill and stress determine absolut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ly used challenges test different ski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ew actions can be used to overcome many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should be allowed to save and reloa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D8BFB-5342-41AD-968C-D1108D915C8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CBDC6C-E36F-4D62-A86F-A1738A1A23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challenges commonly used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ctions in the context of the game world and describe how actions are selected to meet specific challenges or serve other functions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the arguments in favor of and opposed to supplying a saving mechanism and explain the most widely used methods for saving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B75D5-FAF6-47C3-86FB-0B7B6054BBF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1CD8ED-1586-49BC-AE28-DFFDE3A252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 matters more than inno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ief reason a game is not fun is that it contains elementary erro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pects of game development that contribute to fu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oiding errors; basic craftsmanship is most importan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uning and polishing is secon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Imaginative variations on the game’s premise is thir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True design innovation is only 5% of the source of fu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FE6CA-5A73-489D-982B-F0B14BA4BE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A50D61-056A-4E4E-933D-83B65CC120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king Games Fun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nding the fun facto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comes firs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et a feature right or leave it ou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 around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now your target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or automate parts of the game that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ren’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true to your vi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ive for harmony, elegance, and beau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037B4-B264-4BAA-838F-0FC5D8EE374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E0318ED-F599-4367-B9DF-27BFD035E6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erarchy from lowest to high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omic challe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b-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let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A336F-EB66-4CE8-AC69-E3AD0EA08B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E293AB-AD71-44EF-BDD6-196832CBA0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forming the player about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tell the player about explicit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discover implicit challenges on their ow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plicit instructions are given about the victory condition and lowest-level atomic challeng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-level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st interesting games offer multiple ways to w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ognize and reward victory achieved no matt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how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achieves 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B67C-BB11-41E3-AA3E-FC595642E7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75403A-619D-42CF-ACED-84CCA77CCD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Hierarchy of Challenges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taneous atomic challen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vercoming several atomic challenges at the same time increases the difficu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way of doing this is to bombard the player with enem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games (such as management games) present more complex interrelated simultaneous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more simultaneous atomic challenges a player faces under time pressure, the greate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st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A9B5-1218-41B1-A1CC-B94992C33D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2E26F84-3F6E-4AF2-BD12-2C2F62C2D9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kill, Stress, and Absolute Difficulty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Intrinsic skill requir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skill needed to overcome a challenge in an unlimited amount of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Stres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effect of time pressure on the player’s ability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bsolute difficulty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skill required plus time press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C665-ADE9-4DDE-A34D-AE0D537BFA8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26E7F55-1D3F-4E24-95BB-11E5DCCE1C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7:59Z</dcterms:modified>
  <cp:revision>185</cp:revision>
  <dc:subject/>
  <dc:title>Fundamentals of Game Design, 2nd Edition - Ch 9</dc:title>
</cp:coreProperties>
</file>