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AD8F8-EFE2-47FF-8376-A1AD37D76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elements, including the shell menus, should be in harmo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raction means completely removing processes or systems from the game. Automation means leaving processes in, but letting the computer control them so the player doesn’t have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point-and-click, player gives a command and the unit or character travels to the designated location by itself, wthout further stee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the primary gameplay mode fir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o consider the player first in player-centric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6D05-9A17-420B-9A5B-52BDF4993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10945-D7BA-4629-987F-8333DF76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82C3-FF7C-40B6-A845-8699D7B9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A1614-0609-4D98-846E-B302B252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029C-421F-498A-9D12-5C99DA52A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36AE-7141-4E71-9D52-D535D9C9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A7FC-2E69-48AF-BF8B-B4DB8309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FF14-4DAD-4163-AB2E-9867EEA2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253D-2ACE-411F-BF6C-9B242D62D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5B52-46E1-46E6-9CBE-5D26B040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F766-FEF9-4165-9EEC-9D4ED512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2927A-F24E-4BDB-BF04-5F497FD0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DA0E-6BE4-44D0-8DB7-2ED1DF7B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F4E5-5654-4171-925E-F8863A0A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800D-2842-43BC-ADDC-23B7F46C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4A65-665B-4620-A287-28116FA4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1693-73B4-424A-9E50-3B750689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19038-84DD-4011-88EE-F8478C40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E2A55-A17E-4944-9175-5ED14663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5FC4-6BC7-4D75-B6A9-3B9DDEBB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0ABB5-8903-4983-9104-D82D24FC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6ED5-45F2-42F9-8408-4C382FE8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6CDB3-C330-4A0C-B6F9-B71EC0F4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94D5-D312-49F4-9F42-C42CCF15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1760" y="6248520"/>
            <a:ext cx="329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8 User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9B36-7FA1-471E-91D9-BE38920A583D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80CE-60EA-481E-B34C-ED8C6A786D8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72EC-89A0-4C32-B1AE-59DA9F5325DB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8: User Interfac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data from core mechanics that you want to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feedback elements to display that dat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ter defining critical information, move on to optional infor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in mind the general principles of good interface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FB3AA-F5D9-4F84-9A6A-BB5EC2A8B36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31CB74B-EE98-4D27-B5CC-529B7EEF7D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the player do what she wants to d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gin devising appropriate control mechanism for each action the player can take that affects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visual and audible feedback for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p input devices to player’s actions based on chosen interaction model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time you move to new gameplay mode, note actions it has in common with other modes to keep control mechanisms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EAB42-D0C9-4AD1-884D-E01026ACDBA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714F68-3CB2-408F-97A7-1FCD9C33DF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ell menu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menus allow the player to start, configure, and manage operation of game before and after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hould not have to spend too much time in shell menu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ell interface is the first thing players see, so don’t skimp on desig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D4A5C-1E5C-4A06-AB8F-617709B0118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7C7B6D-B3D2-480B-8EB9-1B7B968F9D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plify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tract some detai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utomate some fun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pth versus bread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ep interface places commands in multilevel menus or dialog box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road interface offers more options at one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solution is a deep interface with keyboard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33B85-F1EF-4747-AFC3-514144CA549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9DB8032-7526-4537-A369-F209FA94C0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anaging Complexit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ensitive interfaces show players their current op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obscur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the user interface, don’t sacrifice function for loo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st the UI on someone outside your pro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DB51A-5A5E-48F4-9DCE-46DEB6DD421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C1C82B-28EF-4B6E-97EE-242612134D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teraction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ans by which the player projects his intentions into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mon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through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rese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on many places at o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rty-based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a group of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stan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acts as if on a TV game show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kto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ilar to computer desktop metaph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76B35-BBAF-4D1E-A106-8A3987FC829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9DD19E-C361-4815-8A77-E063E8B83B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rmine virtual camera behavior by asking how you want player to view th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erspectives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re camera models that are largely fixed and unintelligent, e.g. top-dow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rtually all standalone games running on powerful game hardware employ 3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3D graphics only if you can do it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ood 2D is preferable to bad 3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22AE8-C5D2-4AC3-8678-2774B57251E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75A48C-CA29-4423-A892-49A3492CE0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ittle animation needed for th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You don’t need to design AI to control the camer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find it easier to aim ranged weapon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s may find it easier to interact with the environm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8320" y="3085920"/>
            <a:ext cx="4038480" cy="30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Player cannot see avata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ifficult to indicate avatar’s personality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amera angles are limi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ertain moves are difficul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001880" indent="-343800">
              <a:spcBef>
                <a:spcPts val="49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Rapid movements may cause motion sicknes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16002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rst-person perspective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only in avatar-based gameplay modes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s and cons:</a:t>
            </a:r>
            <a:endParaRPr b="0" lang="en-US" sz="26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EA0A3-EEEF-4BFA-9994-30EE82FD6456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AB30ED9-A78C-4823-A162-0EAB837E2E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-person perspec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for avatar-based games and allows the player to see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perspective in 3D action and action-adventur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for this perspective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ing camera behavior when the avatar tur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ntruding landscape objects between camera and avata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ermitting player adjustments to the camera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011FC-F5F2-4880-97B1-A25092B96FB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A2D80FD-55D2-4480-BBD4-386E7FB60B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amera Model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erial persp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with party-based or multipresent interaction mode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aerial perspectiv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p-down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used to display map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sometric perspective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angle is such that all three dimensions can be seen at onc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ree-roaming camera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controlled by play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ext-sensitive camera model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camera moves intelligently to follow the ac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6EBCE-CA0E-4F5D-9D0A-528913E0216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77F9174-D172-449E-A210-96679438DC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the user interface mediates between the player and the core mechanics to create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how principles of player-centric interface design can answer questions about what the player needs to know and wants to do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steps required to design a game’s user interfa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B25B-8B07-4FD8-B57A-12928301856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5AB94F-EB64-489A-B32A-348BC4213D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ersp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ther 2D display options found in Web-based games and on small dev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gle-screen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entire world on on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de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layer sees the game world from the side as avatar moves left and righ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p-scrollin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landscape scrolls beneath the avatar and new challenges appear at top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ed backgroun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avatar and other characters appear in front of static backgroun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BC6D-D8EE-46A8-B1EB-3FDC00A285D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0D479C-0795-4BDD-8D5A-31D068586A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be largest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option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indowed views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main view takes up part of the screen, with the rest of the screen showing panels displaying feedback and control mechanism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paque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superimposed over main view; the overlay obscures the main view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emitransparent overlay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Arial"/>
              </a:rPr>
              <a:t>—small window that players can see through partial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3657E-9156-4524-BBEA-E2AAC2BA238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624C73-AAAA-4116-9046-9FABEFA918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eedback elements communicate details about the game’s inner sta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dicators inform about the status of a resour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gits, needle gauge, power bar, small multiples, colored lights, icons, text are common types of indicato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-maps show an area larger than the main view so player so orient her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lors give additional cl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A1B0-424D-45BC-9B88-9185842E589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BBA9A9-E02D-4049-8CDA-97677C9864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Elemen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 portrai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give the player a better idea of the pers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function as a feedback element if they ch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y issues regarding text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localization easier, store text in text fi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typefaces and formatting carefully to harmonize with theme and present information clear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7DC8E-93AC-45CB-9F02-8FC64A7E9B4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D67985-39A6-4DA7-B884-C5BB0447A6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Elemen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bration (“rumble”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mbient soun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alog and voiceover nar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petition can be irritat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 multiple alternative vers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riting and acting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ust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g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5A4AD-BE87-421B-AB02-AA3A6FD0AE7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A0A7EE-498B-47DA-A17D-2294E93A66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ccelerometers (e.g. Wii controllers), GPS receiver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irectional pad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Joystick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Mouse or trackb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uchpad and touch scree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input dev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Controller buttons and key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Knobs, sliders, and pressure-sensitive button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F64F3-1C23-4658-96A3-F3C12F30630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984231E-A43B-4C90-9520-7BB8DDE6BB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een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toward the top of the screen to move the avatar the same dir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atar-oriented steering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—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sh joystick up to move avatar forward in the direction the avatar is fac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D835-3C83-4B32-B3F5-B017B1B3E55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DBDDA9B-EBE1-4B22-AA66-B4DE0AF681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avigation Mechanism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ly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s two mechanisms because the movement occurs in the third dimension as wel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ually first-person perspective inside cockp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int-and-click navig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to give directions to semi-autonomous uni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s a pathfind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give the player more control, allow him to set waypoints for the uni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39876-C7CE-479F-B151-D5139FABBEA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CE6743-2495-46E9-81B1-DA4ABEEABD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llowing for Customiz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ful and easy to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 key reassignment shell menu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ave all customization changes on a per-player basis (like the Nintendo Mii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DE90A-8DB6-4261-9E73-809923400B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060189D-1212-4430-818D-4AECFF755A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the player needs to know and how it can be present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game’s user interf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audio and visual element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e input devices affect the game exper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BEBC8-BAC0-4C3D-8F0A-1B267DB1B8C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A0BBD1-6CE7-429C-B4EF-9E56EB13C8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options that can help to control a game’s complexit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five well-known interaction model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camera models and discuss their advantages and disadvantag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how visual elements supply information a player needs to know to succeed in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2624-B192-4240-A408-C25E0B2D2A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E3670C-D360-4B5F-9850-3BE7A461B6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how audio elements such as sound effects and music affect the user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types of one-, two-, and three-dimensional input devices and discuss how they affect the game experienc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the most commonly used navigation systems and explain how each system controls action in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0A0C5-62C0-4AFF-8E9A-E42AC133D0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0A0D771-7874-49DD-AD03-5CBC32F48F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the User Experience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 interface is often called the presentation 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experience must be entertain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utputs = Visual + audio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puts = Control el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DBAF-2044-4E69-8B99-4F11789A1DD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83121CE-AE33-4390-A2D4-27277EE816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prefer to use a familiar UI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principles of interface design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 consis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good feedbac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oid seizing control from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mit the number of steps required to do th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ppropriate, permit player to reverse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inimize physical stress; provide shortcu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Keep related info together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1F5A4-B695-4E35-A22F-B98FA24723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A62CC7-4C40-4145-AF4D-73F2026EF2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layer-Centric Interface Design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ll the player what he needs to kn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he succeeding or failing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at is he doing now and what should he do next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ffer actions the player can perfor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ok arou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 with NPCs and obj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use or save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60DFC-BDD5-4F72-8C80-CF23AA9543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9B0B73-2FF9-497E-AEE7-643C37AA40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the gameplay modes you’ll ne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the primary gameplay mode first, then move on to oth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n think about the visual elements and controls that will be needed for each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e a different user interface for each gameplay mo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or each mode, design a screen layout, select visual elements, and define input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uild a prototype UI in PowerPoint or Flash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BEA3-DD85-4EC0-BE23-C0D07734A1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0D7380C-50AD-4E99-AA0D-BBD9B4B962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esign Proces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screen layo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view will be the largest visual element on the scree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nd a balance between the amount of screen space devoted to the main view and amount for feedback elements and onscreen contro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9CA72-DCC1-482E-8628-F27AAC7EDB3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EFE0BF2-BDFC-4062-AE9B-AC59E4DC34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19T18:15:45Z</dcterms:modified>
  <cp:revision>183</cp:revision>
  <dc:subject/>
  <dc:title>Fundamentals of Game Design, 2nd Edition - Ch 8</dc:title>
</cp:coreProperties>
</file>