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E165-1028-471E-BEA1-CE0A428BB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orytelling engine works with the core mechanics to create the complete storylike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tar’s death is usually regarded as a temporary setback rather than death in the real se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atic tension is based in the story. Gameplay tension is based in the interaction. For this reason, they are not analog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mechanics and storytelling engine constantly inter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C7EF8-7245-48D6-9278-0FA83113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71E8-DE4C-4213-AD11-5909B7AD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7C105-308B-4871-AF2C-8BE62BE7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FD561-26F0-46D1-8071-9615B527F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2EB5B-43E4-4E4A-B216-C1DFDE1D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EEAD-47FB-4170-9E24-EBF284FC6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72A2-B0E2-4CEC-B43E-6327274B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71DC2-4B1D-4DDD-8656-C1F2B821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1EA8B-8BCC-428C-9632-74A39836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9B2-CE5D-466E-857A-12B20CE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1554-F76B-4507-9D5B-6049185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8B17-4F90-4CFE-9B27-312035A3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203D-1076-4C6A-9875-09417A97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2FD0-0D0E-41B5-97FF-4BE00BD4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2DC4-E1B5-419E-B8EA-EA89007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D417-7F7E-4797-8F1B-DD62B3F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DF98-C2C1-419A-90AF-2291E5DF4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62F8F-2809-4E32-8A34-4AA6696F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B312-399B-4DB2-B061-60D8A20D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90745-466B-4ECD-A825-4888EDDB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D12AA-7498-4932-B80A-7CDD0DAE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F980-39D5-4660-9F62-4ADA7B3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43BC-2368-41D4-ACEE-487980F5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1923-DB0F-480F-966C-F3D91885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14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7 Storytelling and Narr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F76-C4C5-4410-A614-8E2F30573AE2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1985-F593-4D2D-A814-CCCC87A40ADF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D71B-828E-4D72-B697-552B6ED653DE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7: Storytelling and Narrative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81000" y="1600200"/>
            <a:ext cx="718200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9353-03CF-43DC-A818-6445DDDB586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9A3AC0-CF0A-44A9-83FB-C68D72A0F6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301920"/>
            <a:ext cx="40384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quire less content than nonlinear on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storytelling engine is simpl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less prone to bugs and absurditi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are capable of greater emotional power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3298320"/>
            <a:ext cx="4038480" cy="28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deny the player dramatic freedom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y reduce the replay-value of the ga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an’t change the story – no agenc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are part of the story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 and cons of linear stories:</a:t>
            </a:r>
            <a:endParaRPr b="0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FCE8-6228-4898-9EF9-EA69439E9C92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8ABF63F-27FB-4938-899F-D9EB55C038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anching stories – a lot of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a different experience when different choices are ma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has an immediate, deferred, or cumulative effect o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expensive and complicated to build than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play repeatedly to see all the cont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56BD-3968-4A2F-9365-7B079EF48F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2FA85BE-7FFC-4BA7-8098-8125D4DE24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ldback stories – limited ag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romise between branching and 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branches, but the branches fold back into a single inevitable ev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ffer players some agency without the cost and complexity of a branching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siest nonlinear story type to devise and most commercially success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969BF-ED17-481C-86C7-612E02F3BB0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330BBCB-6D76-461A-A9EA-A3CE8FD422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ergent narrativ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produced entirely by player actions and in-game event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tory emerges from act of play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More agency because the sequence of events is not fixed by a story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uts a perhaps impossible burden on the core mechanics to produce credible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t present, no commercial games use purely emergent narrat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659F6-B233-473A-96A4-657EC29FE24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717A35D-3860-4E40-A619-2493800229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nlinear Stori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ding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multiple endings to provide an outcome that reflects the player’s dramatic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uld provide an emotionally satisfying conclu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 multiple endings if each one will wrap up the story in a way consistent with player’s choices and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nclude them just because you can. Have a reas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F580A-2299-4BD2-BDB0-79EA532857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68373EE-1D77-43D1-84E3-AB8FFFE93C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ranular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senting narrative to the play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arge granularity reflects less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mall granularity reflects more frequent narrativ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1E181-16B9-419D-ABDF-C8C50D1A3C7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D945B-610D-4334-92A7-D32B51C3B6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series of challenges or choi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ot advances as the player meets challenges or makes choic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method of plot advanc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journe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riving at a location triggers plot mov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s novel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ontrols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E1074-EB3E-4D71-AEFB-0F164E9EBF6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A99CB2-4F7B-402E-937A-C8DF27F456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echanisms for Advancing the Plot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as a dram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ytelling engine advances the plo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annot control the pa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t a common meth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880A7-CE4F-4AC9-8ADF-A48053E887E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255E47-1D62-4BAF-9756-C82027DC14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Emotional Limits of Interactive Stori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needed to arouse complex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nonlinear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ternate endings might not be the most power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signers often create a single ending so players experience emotionally satisfying e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 limits of avatar-base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hould surviv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anions can di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08420-799A-4C49-AC1A-E4E413EBCD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89C0661-7637-421E-A962-C1484055AB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cuss why stories are important to video games and know the definitions of story and narrative in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differences in player actions, in-game events, and narrative. Understand how to use story, character, and narrative to engage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003E-C0A2-4FAA-BFFB-2827019F30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FC9063-7611-4021-AF46-57E2CF32E9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Scripted Conversations and Dialog Tre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dialog tree to design scripted convers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ing from several possible responses injects the player’s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’s choices can affect the core mechan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re mechanics and character attributes can affect what happens in the dialo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3D09A-D43A-486F-858A-83185F51AA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280A08-B185-498F-821F-198E6B1651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en to Write the Sto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a list of episodes or levels during the concept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rite the story during the elaboration st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B4CE-D97F-4AD4-B255-7509CD1B75E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28C51-8F9D-4874-97FF-2B2F09EDF6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ther Consider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member that you are creating an interactive game, not writing a no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ls are a vital source of inco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ing episodes and delivery systems could provide more income in the fu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C12B4-2B12-4F6E-BF77-C79C6D75C3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416129-B879-4843-BE65-8F7EA855D7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stories are important in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tory, character, and narrative to immerse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between linear and nonlinear stor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foldback, nonlinear story with multiple ending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episodic storytelling to encourage player subscrip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F11F4-89F7-49C4-968C-28049F5B3D7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84B0DD6-9AEC-48DF-9F89-4755D3BA5F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the difference between linear and nonlinear storytel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ign a foldback, nonlinear story with multiple e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how you can use episodic storytelling to encourage players to subscribe to additional versions of your franchi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E09FF-B4AD-4C58-A479-FF5BD39F5F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F838751-DFE8-4EE3-B1D1-DCC5B8E10D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dd entertain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attract a wider audie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maintain players’ interest in long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ies help sell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13DF-7FD0-4124-AABC-252C5712BA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B2CB8E-5A26-462B-84F1-9DA88E92D3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y Put Stories in Games?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 should not be more important tha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when considering how much story to includ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ength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cus on individual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gree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motional richn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B1D5-6388-4E3C-8542-21957B1EC07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B06946-CE14-49AD-9476-D7D00470F8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tory is an account of a series of ev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ments of good st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good story must be credible, coherent, and dramatically meaningfu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interactive story includes three kinds of even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-gam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0C9B8-4120-4CDA-A722-FEAA27B453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BD8DE80-DF4B-43FE-9E64-4DE179C83F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 is the part of the story told to the player by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mary function of narrative is to present events over which the player has no contro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ay be in the form of a movie, cut-scenes, scrolling text, or voiceov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Narrative must be interruptibl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Balance narrative with action to keep players interested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Agency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player’s power to change the future of the story. Also calle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dramatic freedo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F945-B025-49A8-9615-C8E8D5C8EB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6AF55E7-58A2-4D2A-BE46-F0C0DE23E8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Key Concept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ramatic tension and gameplay tens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ramatic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ramatic tension comes from the plot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Fades in the presence of randomness and repetition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play t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omething important is at stake. What will happen?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ameplay tension comes from the challenges (gameplay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olerates randomness and repetition for much longer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CD922-5625-4495-B91A-672A8B6A20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B6C98EB-F5AC-4BEA-9808-25A7AEE6AB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Storytelling Engin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aves together the gameplay and the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es it work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ceives triggers from the core mechanics to track the player’s progres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sents each narrative block at the correct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nds triggers to the core mechanics when the current narrative block is do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3F750-3CC0-462A-B980-9B8A14F2AAB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032F2-CAD5-44A8-BE58-AE05EC385A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38Z</dcterms:modified>
  <cp:revision>162</cp:revision>
  <dc:subject/>
  <dc:title>Fundamentals of Game Design, 2nd Edition - Ch 7</dc:title>
</cp:coreProperties>
</file>