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ECDC-F34C-4E18-BA59-370CF88F1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can be a mix of the two types. Some characteristics are known, but the details are not fully fleshe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041DE-C34B-47A9-A00A-E773E072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FA833-66EB-49DD-8A16-3B38FB5C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60BB-B6AA-4C17-B062-DAEF151A7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1922-CBC8-4FE2-A0FD-21D9F3780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F8C4-D091-443F-A004-1BA77157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476D-A5CE-4BF3-9038-F3717569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47F2-3083-46E5-8602-1D79E544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ECDD-600A-432E-9F07-3E7E6AF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7999-7992-4C0B-8439-1F08C549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FFCC-9F99-4EC8-9FD4-BC58C16E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86C5-255A-4894-8DC0-D77D95E6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0F41E-9AB6-4AFD-8CD7-86441D00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6C5E-68A8-4432-A491-8DF4AB9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98C3-5F38-42C7-B8DA-91E8EF82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4947-FA4E-40DD-A458-81C376D4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10FC-0570-425A-9AB8-D34D895E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63E8-9E66-4231-B060-4B6CBC7A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FF94-432F-480C-8ABE-A4C70124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F3A7D-94AC-4A80-8CF6-38A8A904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870D-BC85-4CC4-A8EC-470CEB44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EDD4-7DE5-413C-A50E-A762AFB2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CA7C-8D23-462F-87FF-E525E9E0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B9C21-9A6B-4475-B875-86E56D20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801C-EA68-48EA-BAC1-396B0D1C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6  Charact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0BEA-9B58-4CFF-A51E-A800E50C8B0A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A9C3-51B4-43AF-B490-F19BB2ECEF10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F634-7A93-4318-B4AB-D37D8A2A684D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6: Character Development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Designing Your Avatar Character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w do you want the player to relate to the avatar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control metho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 the appearance and personality (unless the player designs the avata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re details create more independ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lect qualities the player will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4C815-14BF-4C47-A939-2A03DC034E2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774CD85-3712-40B8-8D82-A246157DA8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Visual Appearance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simple characters who don’t change dur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st method for complex characters or characters who change during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EEBE2-47A9-4313-8CB7-2FE5E753827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CDD5C-5D01-4083-80BD-F1725792BA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fall into three general categor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physical features like a human’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onhumano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shaped like vehicles or machines, animals, or mons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ybrid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beings such as mermaids or human/machine combin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-driven characters are usually stereotyp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st common character stereotypes are cool, tough, cute, and goof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74937-9655-46B1-8169-1A7227B9EBD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95F8D5E-E8DE-485F-BE63-3C52B4AAB9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Physical Typ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persexualization is exaggerating sexual attributes of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hypersexualized characters because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re cliché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ppeal only to a puerile audienc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may turn off part of your target audienc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55499-0DF0-4F8E-9EFB-D9BCEA6782F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B317DEB-3ECF-40E4-97CD-FC011FE77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Clothing, Weapons, Symbolic Objects, and Name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ories reveal personal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ice of weapons can also be revea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nsferring an object can symbolically transfer a power or rewar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es can reveal a character’s personality or ethnic backgrou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f you overuse this technique it will feel cartoon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8621A-E5B5-4931-914C-7A26060676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0E837B-C6CD-46A7-A6B7-88AA5CAB15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lor Palette and Sidekick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a signature color for the main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oose a color palette to reflect character’s attitudes and emotional tempera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dekicks offer several benefit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allow you to give the player additional mov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extend the emotional ran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be used to give the player information he wouldn’t get any other w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7833-2968-4AE0-B75C-D1AB3A1A63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5A6067-017B-443E-9B5F-1FD7A9CEC0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ng Character Depth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can convey a lot about a character through appearance, but not everyt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you begin character design with the character’s role, personality, and behavior, you are doing story-driven character desig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decide these things first and then let artists develop a visual appear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C8162-776E-40EF-A093-223BDD1E32A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FF57D3-A85F-41D7-8669-20938FD7FE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ole, Attitude, and Valu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very character in a game plays a r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design characters, you have to envision them and answer many questions about th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background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, or character background paper, for major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w character personality through appearance, language, and behavi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94778-41F4-4953-A098-7C30AECD24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0FB9CB-8435-4799-A9B2-E930A3DBB2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are the data values that show a character’s location, health, property, etc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ttributes can be divided in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that change 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Characterization attributes that change infrequent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  <a:ea typeface="Arial"/>
              </a:rPr>
              <a:t>Attributes a character needs depend on the genre and nature of the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09F67-788B-43DF-88C7-F70D0B62BA5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244032-9FC5-48EF-BFB2-2261648D44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Dimensionalit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can be classified into four group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Zero-dimensional characters display only discrete emotional sta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ne-dimensional characters have only a single variable to characterize a changing attitud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wo-dimensional characters are described by multiple variables that express their impulses, but those impulses don’t 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e-dimensional characters have multiple emotional states that can produce confli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C609-2B5B-4934-871A-0FB7BB4F1AC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5D51C86-9A76-4064-901F-91DEFC41F9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basic goals of character design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gnize the difference between a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-defined avatar and a specific or nonspecific avata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issues involved in making non-gender-specific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FEED-B261-46EF-9982-18A42281331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268333-B067-41F7-85C7-ECCC358EB9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Growth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that aspires to be more than a simple adventure must include character growt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build character growth into a game, decide which characters will grow and ho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s often use physical growth because it is easy to show and imple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ow personality growth through changes in language and behavi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830FD-2CAB-4D51-BFF8-708C9CF125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158269A-EDC7-4FDD-8C87-C22A42755D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haracter Archetyp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stories that follow the Hero’s Journey pattern include archetypal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s fundamental to storytel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ound in stories from all cul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y be fundamental to the human psych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 the works of Joseph Campbell and Carl Jung for more idea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on’t implement them slavishl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5E70-9FD9-4E37-96E4-EF55B060A5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7CB7BE5-AD39-48E3-AD22-D35A311FCA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udio Desig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unds reveal the charact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al the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bula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ammar and sentence construc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cc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live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ocal quir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4AF7-2080-47A4-AC5F-71D35A8C9A6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A99DBCF-10EF-4D1E-AB17-F7E03B46B2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esign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distinguish among a player-defined, specific, and nonspecific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make non-gender-specific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visual and behavioral attributes to create a charact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create art-driven or story-driven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use sound to defin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4678-18E1-4762-B7A9-9CCA45E5A4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CD3D7F9-CC0B-4AB1-BFF7-CCC53B1AE5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isual and behavioral attributes used to help create characters in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techniques of either art-driven or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y-driven character design to create your own game character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64C4-9DF0-434B-AA4A-00C62473B1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20ABAE4-3424-449D-AF12-E35351F231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Goals of Character Design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in many genres structure gameplay around charact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s should be distinctive and credib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ultimate goal of character design is to create characters th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find appeal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ople can believe 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 identify wit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CAC2F-4A44-4862-89CB-B83C966581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B1F6D3-DFF6-4173-9FBD-63084B5006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Relationship Between Player and Avatar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lationship varies from game to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ctors that affect the relationshi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d the player design the avatar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 the avatar visible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is the avatar controlled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12A50-F8BB-4FA4-AEEF-FFC8DEC6AB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1F45F9-9769-46F0-9A8B-F54280526A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Player-Designed Avatar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hysical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 creates the pers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DB9A-BD99-4611-87F4-B85FB1EBC9B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2A3CF04-145A-4204-93F7-0DBB08FBC8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pecific and Nonspecific Avatars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n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is assumed to “be” the player, so appearance, personality, etc., are undefine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ery limiting to the design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on in early text-based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ecific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ailed characters with histories and personalitie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56280" indent="-31860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d in games with graphics and strong storylin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E6471-D4E1-410D-9223-22EFA09D6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55346A7-87C2-4F40-8C77-CB7EA49CD1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The Effects of Different Control Mechanism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clicks where the avatar should g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is a guide to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steers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is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th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42BB-8B69-4662-9EAD-90B424580E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C4D6B2-A84E-49CA-9C9A-773E95C6B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Male and Female Players and Characters </a:t>
            </a:r>
            <a:endParaRPr b="0" lang="en-US" sz="38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le players do not identify strongl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n tend to treat avatars as puppets and often use default avatar without customiz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omen identify with their avata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omen tend to treat avatars as extensions of themselves and an opportunity for self-expres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make a game more attractive to women, allow them to customize avata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60348-3E87-4593-94FD-23B20D46B3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E63E675-4769-463D-9160-2C7284E8F2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6:10Z</dcterms:modified>
  <cp:revision>152</cp:revision>
  <dc:subject/>
  <dc:title>Fundamentals of Game Design, 2nd Edition - Ch 6</dc:title>
</cp:coreProperties>
</file>