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DAC2-D871-4E5A-8E98-6CB8B9E83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known as m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vatar represents the player in the game world. Frequently, players make avatars that physically resemble them or how they wish they appea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students that play is always limited by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4A28E-7CB3-4156-9492-2C75B4C7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E3D6-37D5-4938-8ADC-DA2253E1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9DCA4-AB05-4FED-A14A-1BA8354B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92BB7-91EE-4B8C-B140-91AF90FE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DE75-9306-4BBB-AC3B-3D3CD732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AA4F9-FCEC-457D-B180-2593B512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DC6E-89F2-4424-A26C-7B461DC3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1397-DF41-4253-88A1-8067E31F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1DB1-662E-47E6-BFC2-25EA6F8E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5A39-A7A4-484E-8F3B-D83477A8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FB16-0740-43E5-8CEF-8CA7BE99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CDB2-1F66-4F08-9917-D8C46752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8D94-3275-4342-9EDA-5BB30C86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C20B-18AA-49D9-BF9B-60375B33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5AF8-4FE7-4DCA-B54E-BB1FFD10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F04A-9FB6-43B3-9451-C501B1F1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DFD3B-D002-4953-A4E3-AF63A479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1A505-4366-40FD-A10A-6D4537BD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EB0C6-49BC-4D0D-B43B-575BD841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B1EE-4FFF-456D-9930-B1CBA751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42A7-8D8E-400E-BDBE-8CF8185E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32FE2-E9D5-4AE1-A628-33023FB4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A0D5B-267F-4BD6-B0B0-11F57440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5D101-8383-4337-AFDF-624F5FCA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10212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5  Creative and Expressive Pl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7A2D-8DCF-4BC9-86EC-1A9239F57259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25BC-E77E-4CF2-BC83-32F6E6863654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6256-659F-4033-AF9B-98005CF2B21F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5: Creative and Expressive Play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Measuring Aesthetic Cre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like physics, computers have no innate way of measuring aesthetic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must provide a system. Some possibiliti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xed aesthetic rules (e.g. certain colors clash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stem of trends the player can research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ublic to vote onl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89DE-996E-4049-B530-B36442F004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6EB5D9-2100-4F65-B224-BE01DFCF94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reeform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s unlimited time and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raditionally known as sandbox mo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ually offers fewer rewards or no rewar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81A7-D4E2-41EA-8014-7EB229A8EF6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38CEC4F-4646-4148-89BC-FE220E4092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features that allow players to create and share s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ums and captured images assist this 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CF59-1B2E-40FF-AD26-BA71AC73A3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6252BE7-09DD-4C3A-8726-C11ACA6CA0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 Modification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 utmost creative freedom, allow players to modify the game itself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pular with core gam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tends the lifespan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You have no control over the m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ing players to create mods can put the reputation of your game at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E1A46-A8CC-4D5C-AA7D-8A517A0708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B4C7CA9-9163-4D92-8C70-C7A88892CC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Level Editor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construct new levels for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may be able to construct a new landscape, place challenges in it, and write a script for the game engine to r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ols must be included with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E8EF4-189F-42D4-A0BB-8138991E188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D64ACAC-DB76-4D00-B041-3B95897F15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Bot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tificially intelligent opponent that the player can program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create tougher opponents than the original game include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DEB37-433F-4AB0-93E4-176272CCC5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D68837-1D98-428B-B0A2-7A0F144E77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players express themselves through their avata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provide storytelling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y players create mod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A8C1-8758-4AE3-949D-3342868E1BF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BBA13AA-369B-44BC-8032-6538A2E6BC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 self-defining play as a way a player can project his personality into the game world by selecting an avatar and the avatar’s attribut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creative play as a way to allow players to design or construct as part of the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E1BB3-C0B0-44D4-9676-FF997BF59A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0EFA75F-DEB7-486B-B3A3-1F026A7391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difference between constrained creative play and freeform creative 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how games can provide storytelling play by allowing players to create sto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st ways in which you can provide additional creative freedom by allowing the player to modify a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5A31-61F1-473E-8511-1B487AA24B5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D14CC4-38A0-4D31-8E8F-C958CF29B2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lf-Defining Play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s the player project his personality into the game world by means other than gameplay choic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sel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ustomization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atar constru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942C-0987-452E-A561-1D3F54096D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FA0444-7589-45EE-B248-1AD18B7ADB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unctional attributes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racterization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Define fundamental aspects and change slowly or not at al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atus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Give the current status of the character and may change frequently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assign values to characterization attributes, they define themselves in a creative w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06B2-6A3F-4BA9-A324-C6FAE47D00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8D09171-3D71-480E-949E-02B8C78A3D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unctional Attribut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ing players to set all functional attribute values may introduce bugs; inst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 players a fixed or random number of points to assign among all attribut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a set of default or recommended settings for new players who want to get started quickl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ow players to earn the right to set their character’s functional attributes any way they lik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45525-7C3F-49BB-917A-C8C0228BF8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4F8E295-E995-4C23-9A99-602862C5DC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smetic Attribut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do not affect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smetic attributes make a game more fun at a low implementation co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ical cosmetic attribut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eadgear, clothing, shoes, and jewel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ir color, eye color, skin col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dy type or siz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int color, decals, insignia on vehic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FF5A-3723-4C7E-99AD-B6B7390BE1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0F82D6-0791-41AE-B103-E45D7B7EA0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players to save and reload cre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ized creative play can be categorized a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strained creative pla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reeform creative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A3516-FEAA-4552-BE47-E9286EDC7A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96A1CC-93D1-4084-94E9-EC7BCC5313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nstrained Creat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layer can create only within artificial constraints imposed by the rul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 can be limited by the econom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physical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ire that the created items meet specific aesthetic requirement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9CF30-987D-4084-84DB-3537E43BF06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E7F8C2-7052-48CA-85CD-A9951A1783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38Z</dcterms:modified>
  <cp:revision>136</cp:revision>
  <dc:subject/>
  <dc:title>Fundamentals of Game Design, 2nd Edition - Ch 5</dc:title>
</cp:coreProperties>
</file>