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ACCB-5B2B-46D4-903A-6C9EEA936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 of anomalous time: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me Par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visitors to the park appear to stay there for months according to the game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details create a rich game world. However, the player can’t micromanage everything. Make sure that the player’s role doesn’t become bogged down in managing unimportant detai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8224F-0B16-43E9-B631-FB4298DC7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8833F-98D2-44AB-8813-D4E526DD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9E419-F0BA-48DC-9BF6-ECE3D2AD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C43ED-A4D5-40BB-B080-660315B7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FC62-C81E-424B-8744-16FC8AF5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7FC3-8447-4ACE-9330-F5B9D41A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FF55-67B1-4526-BC3D-2D49E00C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E609-3E26-4B2E-A215-E2443268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8DFA-8B87-4A76-960F-E09217C3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C43D-0B04-47E9-B076-578B2EB0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6E393-E0A4-4947-9B37-FCC3FF69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D5011-573F-4D63-BCF3-5730A1F5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DB63-9A5C-4541-BA89-7D3D0E01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78CD-92C0-413C-A9C4-30A6717C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9F5A-291B-43A5-894A-3336766B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27EC-1439-4D19-803C-489E5E2D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90A2-6380-438C-A0A5-1E8B7B04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00852-7275-4B54-BBF7-FD0B3EF8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F42C1-143B-4156-9530-0F7C70F94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55AA9-BFF9-495C-8891-343159497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0753A-1A46-4465-A3DF-F86E2A50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2DB9B-FFAF-4A54-ACD3-77E35E20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1DB68-656B-48EC-8ED2-329D6830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C48FC-416E-46B6-8961-83D6C904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7080" y="6248520"/>
            <a:ext cx="3308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4  Game Worl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28CB-0270-4968-8AF0-41F8B6F98C13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6840" y="6251400"/>
            <a:ext cx="264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F7F7-AFB1-4B99-9868-9597939802AB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D25C-4DE2-49C0-AB1D-A9080BAE6A16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cccc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cccc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600" spc="-1" strike="noStrike">
                <a:solidFill>
                  <a:srgbClr val="0b0506"/>
                </a:solidFill>
                <a:latin typeface="Arial Unicode MS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4: Game World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480060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empor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the way that time is treated in the game world and how it differs from time in the real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ariable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g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me time usually runs faster than real time, and jumps or changes ra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omalous tim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me can move at different speeds simultaneously in different parts of the ga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 some games, the player can adjust the speed of time in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4DFD8-9F5E-4471-9C32-355E221C8F4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EAB4474-03F3-47BB-8D06-C7BB98BECA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scribes the world’s appearance and its atmosphe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ms the basis for creating art and audi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s cultural context and 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6E611-5EE1-4753-9896-E63DC0566B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342A90-4B2D-4103-9F85-85C5EE0195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ltural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eliefs, attitudes, values, political and religious institutions, and social organization of people in the game world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fluences every manmade item in th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er interface and backstory should harmonize with the cul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1F5C3-52B3-449A-9E64-57F425CD7DC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C0F5268-BEDE-488E-A45D-2A04C29370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nvironment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 surrounding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lude every manmade object, natural object, and sound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t the tone and moo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ry to make surroundings uniqu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clude as much detail as possible until it hurts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yle includes both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tent of the world itself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hat content is presented to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4027A-28B3-4D00-8BB1-138268E334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371F33-6289-4FDD-967C-FDFD4E95D0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motion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reated in the play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s can be caused in several way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cing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acting with the charact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re sophisticated games move beyond “fun” to richer emo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“paint-by-numbers” emotional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06B0B-1B96-441B-A5DA-9DA513F8C2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96334C-ADA1-4B93-8F3F-47DB9B6283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th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s right and wrong in the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 of the culture and history in the game worl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uild richer, more involving games by giving players tough moral choices to mak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 violence for its own sake; give it a purpose and contex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ame world ethics are unrealistic, make visuals unrealistic also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1559F-C970-4E2A-B166-AE3EE87C6FE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DB7DC0D-19BD-4C8F-9717-52BCDE37B8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ealism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s, no matter how realistic, require some simplif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ee of realism of any aspect of a game can be found on a continuum from highly representational to highly abstra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 of realism differs in individual game component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n have realistic physics but cartoon graphics, or vice versa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A06B1-E24C-4FDF-9760-46A4064C621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7F33F66-C481-4A54-BB5D-B1E0A7AC5F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urpose of a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the physical dimens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fining the passage of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the enviro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ing emotions in the playe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ng ethics in the game worl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ing levels of realis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93D2F-B05F-41FF-892D-BEDCFBD56DB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462E70D-B747-40D1-A570-469583777A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various dimensions of a game world and understand how they affect the player’s experience of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fine a physical model for your game world, including its dimensionality, scale, and what happens at the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plain the relationship between game time and real time and decide how time will behave in your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EFCCE-54F0-415B-B451-A3A8E1F4F5F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C632D0E-E62C-407A-81E4-1973810560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the culture and environment of a game world, set the level of detail, and define a visual and auditory sty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some of the techniques for influencing the player’s emotion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8EB57-2B94-4CBA-8ADD-40F13CC0390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AF9B20F-ABF3-40FD-B4BD-F8CF78A8FE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 aware of how the ethics of a game world can differ from the ethics of the real world and the implications for public acceptance of your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multidimensional nature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ealis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s it applies to games and how it affects the player’s expectations about the experience the game will give he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11008-5324-42E4-B9A3-2258CC8042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BDC01D9-557F-4A76-AAD1-D3050797D18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 World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aginary place in which the events of the game occu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sented by images and sound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t all games have a game world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world can have a culture, an aesthetic, a set of moral values, and other dimens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A3E86-7DA3-4A12-B920-B25B7D7EB14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63AE2BD-A24C-4563-9C12-AC1AE3A6B3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Purpose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tertai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reate and sustain interes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l the ga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1BE52-59A8-4A5E-B61C-2321B6D3A2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8283CE0-214B-4945-8C7D-EA6F58C526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e Dimensions of a Game World 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hys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mpor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vironment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motion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thic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12FCA-8325-4736-94D9-3AE1A0C6A5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8DAD4D5-4FDC-401C-BC67-819C28E155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ulated physical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racterized by dimensionality, scale, and boundari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AB77D-4F9A-4A06-8DEC-6528A8C034F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49F031F-2CFB-46CE-B3E0-8FD1E4128B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hysical Dimension (Cont.)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patial dimensiona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2D, 2.5D, 3D, 4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3D is now standard on PC and console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a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bsolute size of the space and relative size of objects and peo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ffected by choice of camera mod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ounda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ow to establish a credible “edge of the world”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2344C-14AA-4627-BA29-2CDA36FBBA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F754D6-2DA1-48AD-A0B9-F100FC8CF0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5:02Z</dcterms:modified>
  <cp:revision>133</cp:revision>
  <dc:subject/>
  <dc:title>Fundamentals of Game Design, 2nd Edition - Ch 4</dc:title>
</cp:coreProperties>
</file>