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6A54-87D2-44BD-AFD9-12F33DFEB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deo game will not respond to player actions that it has not been programmed to recogn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players compete, there is often a winner and a lo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, the behavior simulations are very simple. The goal of AI research is to create ever more realistic sim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mCit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layers learn how to attract a larger population and meet their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multiplayer games have a communication method built into the software. However, players often use communication software such a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eamSpea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entril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ys and puzzles can be used to play ga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 that can be made while playing are limited by the r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CE0E4-1BA8-461E-BCA6-E618743B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770A5-3191-4B2C-A5EF-BCCFE0381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7234C-CCE6-4FE8-8E9F-62DC8BB25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0F8B6-4F4F-4581-8983-82660E64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71E1-F887-4158-89AB-D50FE163E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4460E-71F7-4FED-BEF5-7B89FF37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303D5-8B5F-4551-96AA-CB2B3F42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AB30-73B2-492B-AD5E-E2EA64128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1D01-0B3F-4F88-BECA-5313B200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EF64-DD6B-4FA5-9A2E-4C6FC5B6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3F99-6106-49F8-930D-246981A8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FBC21-26E3-437B-B599-E33BD231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5034-1060-457E-BAC0-BF2F8511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89D18-FD45-4EA9-857F-50B13B67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57FA-4CF3-4922-9DDF-C483463F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05F1-3900-4AC9-9F1F-9573978C3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35413-9492-4B45-B7B3-7774AC065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78D18-0B0B-4C1C-A527-79DBBB53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A1FB4-5C2F-4CE8-B067-59248357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9DF61-040A-4F3E-B88E-E992A982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90692-BFE9-4B9B-BCDC-23B7CE2B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10838-3419-46A8-BB69-065BC050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9E5DA-04C3-4A48-A9D1-5F3685F3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812C7-2257-4A62-8509-A29B565D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309888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Chapter 1  Games and Video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22CA-56F9-487F-809F-760F91EA6221}" type="slidenum"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457200" y="6244920"/>
            <a:ext cx="26416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ff"/>
                </a:solidFill>
                <a:latin typeface="Times New Roman"/>
              </a:rPr>
              <a:t>© 2009 by Pearson Education, Inc</a:t>
            </a:r>
            <a:r>
              <a:rPr b="0" lang="en-US" sz="14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F4CA-50ED-4D4D-A290-92D2A247446C}" type="datetime">
              <a:rPr b="0" lang="en-US" sz="1200" spc="-1" strike="noStrike">
                <a:solidFill>
                  <a:srgbClr val="ccccff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cc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C807-284E-4B67-8303-2E8E8A39945A}" type="slidenum">
              <a:rPr b="0" lang="en-US" sz="1200" spc="-1" strike="noStrike">
                <a:solidFill>
                  <a:srgbClr val="cccc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Fundamentals of </a:t>
            </a:r>
            <a:br>
              <a:rPr sz="5000"/>
            </a:b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Game Design, 2</a:t>
            </a:r>
            <a:r>
              <a:rPr b="0" lang="en-US" sz="5000" spc="-1" strike="noStrike" baseline="30000">
                <a:solidFill>
                  <a:srgbClr val="0b0506"/>
                </a:solidFill>
                <a:latin typeface="Arial"/>
              </a:rPr>
              <a:t>nd</a:t>
            </a:r>
            <a:r>
              <a:rPr b="0" lang="en-US" sz="5000" spc="-1" strike="noStrike">
                <a:solidFill>
                  <a:srgbClr val="0b0506"/>
                </a:solidFill>
                <a:latin typeface="Arial"/>
              </a:rPr>
              <a:t> Edition</a:t>
            </a:r>
            <a:endParaRPr b="0" lang="en-US" sz="50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y Ernest Adams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064200"/>
            <a:ext cx="9144000" cy="800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pter 1: Games and Video Games</a:t>
            </a:r>
            <a:endParaRPr b="0" lang="en-US" sz="18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1680" y="4799160"/>
            <a:ext cx="15048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must overcome a nontrivial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allenges require mental or physical effor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challenge can be composed of several smaller challe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allenges can be required to reach the goal or optional to add game cont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82928-D2BE-4AC6-8576-EFE6A88692E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6C20A1-70A9-46C9-B656-21ADD5B92A1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rules determine what actions are available to the player(s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fferent actions may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ermitted by the rules, o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quired by the rules, 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hibited by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permit only actions that are programmed into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7D04B-3818-437F-AD86-D9F66147B1A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AA2490E-15B3-4C20-AABE-F456608594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Gameplay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play therefore consists of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challenges that a player must face to arrive at the object of the game, and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actions that the player is permitted to take to address those challenges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plus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possible actions that are enjoyab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3FAE3-FC8D-4A65-AC34-1CCD892F5C4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7DB7EE-F4F5-462A-980D-E77BF733E0F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Fairnes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ers expect that the rules will guarantee that the game is fai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airness is not an essential element of a game, but a quality of good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ers often change rules of a game if they perceive it as unfai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airness is particularly important in video games because video games seldom allow rule chang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1A0E3-C80E-42FA-AF70-CC2E0F71C9A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EF38479-658F-4A4F-A7DC-8848C7E232D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ymmetry and Asymmet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symmetric game, all players use the same rules to accomplish the same 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n asymmetric game, different players follow different rules to accomplish different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94545-1600-4A82-B93C-595E79AB2D0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1457AB-398D-415A-825B-C137F5490AD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ompetition and Cooperat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mpete, they try to accomplish mutually exclusi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players cooperate, they work together to accomplish goals that are the same or simila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etition modes are ways to build cooperation and competition into gam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067F6-4843-4770-B4C5-450E9B925C9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21FF82C-3FF2-4774-A02B-6F60C684264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Hiding the Rul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do not require written 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enforces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can’t change the 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vide adequate clues for players to overcome a challen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sing trial and error to overcome a challenge frustrates many play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21FBD-27E4-4786-BCDA-3F67968A8DF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52A3A71-D2BD-49C5-830A-92EBFAAE524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etting the Pa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software determines the speed of the events in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player can’t affect the speed of the game unless the software has to wait for player inp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mputer allows for modulation of the pace, so players can rest between periods of intense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326DA-E8DE-4195-AF6F-6C89C71F7F5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DCCB1F1-EC5E-4F61-B48C-5FFB0BF76BF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Presenting a Game World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 present a game world, video games can us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ic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nim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v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ic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alo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und effec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ext and subtit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31DC7-514E-4F4A-B375-1E17ECA278E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8F1AA2-EC51-4D29-B922-3719C0C0EA1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rtificial Intelligenc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day, artificial intelligence is used fo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hfind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mulating the behavior of people and creatu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artificial intelligence advances, games will add more uses for i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pars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tural language gene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ttern recogn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CE1D9-FCB7-4FAE-9E3A-3CA8CDD1A51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E6B997-0A4C-4C26-BB0C-B9189654C4C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essential elements of a game—rules, goals, play, and pretending—and what they do in the context of playing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now the formal definition of a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nderstand the nature of challenges and actions, as well as the formal definition of gameplay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EB102-7131-4ABB-A1ED-5EC09034F85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9F6AB2B-B55A-4080-AFF0-13A63321E81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Aesthetic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game elements should be high in quality and present a harmonious look and fe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look includes the quality and appearance of the graphics, movie clips, animation, buttons, and fo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feel includes the music, dialog, user interface, and objectiv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armony is the feeling that all game elements are part of a coherent who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0584B-B52A-411F-B012-92F63CE9B8D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55080E-F698-4B44-93BD-F433B28C8DA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torytell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games incorporate some kind of s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mix storylike and gamelike entertainment almost seamless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y can make player feel he is inside a story and affecting flow of ev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is is one reason why video games are considered a new mediu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1F6A6-8266-41CD-B444-C3EA78C6BD4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415832A-4541-41B2-94D4-F03FEDBB7A9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Risks and Rewards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isk is created by uncertain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the player overcomes the risk, a reward should be give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size of the reward should match the size of the ris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D19FA-FFFE-4F62-8DBA-95D8561748E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58E4DE4-DE22-4906-9FA8-FC9BA95EF9A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Novelty and Learn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ideo games can offer more variety and content than any traditional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velty alone is not enough to sustain player interest, howev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enjoy learning when it takes place in an enjoyable context or provides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should supply both enjoyable context and useful mast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93F11-570F-4568-A4B2-AE108BC5A43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30156E7-BB1C-4CEE-A2F9-3AEA5E86BA3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Creative and Expressive Pla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ople love to select, design, and customiz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s activity can have a direct effect on game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 video games reach a wider audience, creative and expressive play become increasingly importa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CCD7D-F348-4977-B5FE-46B75B951BD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9DDC296-8C75-4C08-9F7F-4FEF42292C1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Immersion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ed players lose track of the real world outside the ga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mersion can b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actical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sense of being “in the groove”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ategic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observing, calculating, plann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arrativ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  <a:ea typeface="Arial"/>
              </a:rPr>
              <a:t>—the feeling of being inside a st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EB82D-F64B-4EDA-A1EA-1715E0A8C83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02819E4-88CA-45D0-82CD-17ECE14F671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ocializing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ost traditional games are played with other people, making it a social activ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ral methods allow people to play video games togeth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ltiplayer loc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tworked play (multiplayer distributed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AN parti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roup pla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37264-B0EC-4FF7-90C6-CE1F7EC2981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FFBC3FC-3D7A-4DAC-B35F-C3459E47216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You should now understan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elements of a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interaction of challenges and ac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ole of the computer in video gam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various ways that games entertai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F155D-531F-4D7A-9FCB-2274B3D9110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AB18AF7-1D37-41A1-A8FF-1E00A8A627F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Objectives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concepts of symmetry and asymmetry, fairness, and competition and cooper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arn the various benefits that computers bring to gam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ecome familiar with the ways in which video games entertain peopl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348F5-1194-4E00-B94B-6E7FFBF83F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E8F9A8D-ABA2-4225-B0B9-53031FDDEC9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oys do not have rules or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uzzles have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mes have rules and goa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9E0F9-CB5D-4BF3-A304-01A7B284F33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FD56D1-ACC0-401D-8EF5-3313DEFAC0E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What Is a Game?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must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activ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etended realit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nontrivial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41CFA-78CC-4D8D-9471-36F8F55C61B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21B099-5376-4375-9E5A-5F48519964A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la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lay requires particip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king different choices while playing the game a second time affects the resul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etend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reates an artificial reality known as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rtificial importance is assigned to events within the magic circ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leave the magic circle, stop playing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535EB-5DCD-4C4C-9353-0EF03874A9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6D3EB98-5EFA-435A-BF0C-B4BC4829BB5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oa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very game must have a nontrivial goal or obje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rules defin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game designer sets the rules, thus defining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player must overcome one or more challenges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o achieve the goal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goal is often a </a:t>
            </a: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v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ictory condition, but victory or defeat is not required in all games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5560A-E613-43C4-A0C3-41BB7D3EEE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F9B7642-8B8A-472F-89BF-ACCC8BC52D7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Essential Elements of a Game</a:t>
            </a:r>
            <a:r>
              <a:rPr b="0" lang="en-US" sz="3800" spc="-1" strike="noStrike">
                <a:solidFill>
                  <a:srgbClr val="0b050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b0506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are definitions and instructions that players accept for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ules define the actions the players may select that will help them achieve the object of the ga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ame designers must make the rules understandable to the player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D9B10-3F3D-4BA6-91BB-E1B83198C58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1D4152-C906-4E6B-9E13-ED4840ED0EF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b0506"/>
                </a:solidFill>
                <a:latin typeface="Arial"/>
              </a:rPr>
              <a:t>Things That a Game Is Not</a:t>
            </a:r>
            <a:endParaRPr b="0" lang="en-US" sz="4200" spc="-1" strike="noStrike">
              <a:solidFill>
                <a:srgbClr val="0b050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game does not have to includ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peti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flic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ntertainmen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366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u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se are qualities of some games, but not essential to the defini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rious games are not necessarily made for entertainment or fu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Pearson Education  Firewalls and VPN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47230-5A3C-45F5-9115-A9DE5793AF5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06C29FF-26EE-4273-9396-FF89193658C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6T17:22:50Z</dcterms:created>
  <dc:creator>Ernest Adams</dc:creator>
  <dc:description/>
  <dc:language>en-US</dc:language>
  <cp:lastModifiedBy>Ernest W. Adams</cp:lastModifiedBy>
  <dcterms:modified xsi:type="dcterms:W3CDTF">2009-09-06T18:53:54Z</dcterms:modified>
  <cp:revision>96</cp:revision>
  <dc:subject/>
  <dc:title>Fundamentals of Game Design, 2nd Edition - Ch 1</dc:title>
</cp:coreProperties>
</file>