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DE980-C28D-44CF-A224-9C2A9191F0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non sequitur is something that does not follow logic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isimilitude means having the appearance of truth. Sports games must be realist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6C9234-64DE-4664-9D73-41D08B421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0322F5-D32B-4481-A2F2-2D7C4B375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0B7608-2385-4DC4-B06B-0DAB398A7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4E2BAB-B09C-4FCA-A96C-7DB0BA647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20F3B-D582-4AED-B0FF-ECFBC398C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42468-4F72-4015-878A-962A2A075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74C7B-7AA5-4B62-A0E5-24D98BB24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96ECB-5691-4A16-9BE3-2512E796C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6D42E-22F1-446F-B3D0-955490BBE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29904-A4C3-4522-8137-0667D4BE1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78F24-DBB4-4ED0-82F4-15F2F1F4C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E278F9-37A9-415D-A93A-37BB6A750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262EF-35C8-4A11-B40D-03A76D015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B9B2A-D1C7-4C1A-8CBB-28F4F5BFA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778C9-5399-4DEA-8DA3-2A4D63FBC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9326E-D48C-4ACF-A0A0-5F31550FA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203BC-98CA-4860-8A42-1969AC37C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22829E-2925-4FE4-99C3-C7CB5BF3B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36EE98-A82A-4113-99F6-C7D4DF7EB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28CD68-68C5-48B4-8CD6-DAA7F181E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076453-9095-4665-BDA2-F3A74F263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6452CA-25F6-4271-9A3D-78D51F414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90EB22-64E7-4AE9-8F90-6AB1DA8B0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FB47E1-344E-49B0-8574-84112D0DA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1760" y="6248520"/>
            <a:ext cx="3375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2 General Principles of Level Desig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09552-6010-474D-9423-8B53ACDE0EB3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F2F7F-FF1E-47BA-86AC-CCA2FA3FAAA8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1CF0C-7B41-4399-834C-F4F44587EA44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2: General Principles of Level Design</a:t>
            </a:r>
            <a:r>
              <a:rPr b="0" i="1" lang="en-US" sz="1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Layou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arallel layo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Modern variant of linear layout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Variety of paths can go through th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an reflect a foldback story structur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ing layo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ath returns to its starting point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Oval tracks or twisting road-racing tracks are ring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Used for racing gam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649520" y="4191120"/>
            <a:ext cx="1457280" cy="21589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5791320" y="4114800"/>
            <a:ext cx="2133360" cy="21337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D79F1-A78F-4F51-B3D3-1ACB607BFB18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21400E8-C4B4-4C54-9646-52D73977F70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Layou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etwork layo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paces connect to other spaces in different way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Give the player freedom to take any path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tories must be able to tolerate player experiencing events in any sequenc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ub-and-spoke layo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entral hub is usually a safe zon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rovides some choice of where to go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Lock off some areas to control sequence a littl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600200" y="4419720"/>
            <a:ext cx="1905120" cy="18572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5638680" y="4343400"/>
            <a:ext cx="2286000" cy="19018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1CFD40-BF52-48BF-B1CE-493E68C0A491}" type="slidenum">
              <a:t>1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75736DF-89FB-4ACF-ABC4-73CD63C06E7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Layou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binations of layout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mbines aspects of several layout typ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ole-playing games and adventure games often use combination layo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768760" y="3429000"/>
            <a:ext cx="3605040" cy="2679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3F931E-754A-4C8A-BC81-DE1EE0F5CDA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0DF0B20-632D-4193-8E2A-E4C205C9B4A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xpanding on the Principl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vel designer assembles components to create the atmosphe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ight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lor palet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eather and atmospheric eff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ecial visual eff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sic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mbient audio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ecial audio eff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80F252-9158-4EC1-B82C-A467587A3CD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A24F676-D85E-40F3-8B98-9FB11E3D243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xpanding on the Principl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gression refers to change or growt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 designing progression, consider these factor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3505320"/>
            <a:ext cx="3886200" cy="23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echanics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xperience duration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ncillary rewards and environmental progression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ractical gameplay rewards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952880" y="3505320"/>
            <a:ext cx="388620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fficulty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tions available to the player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ory progression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haracter growth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65A120-F4F8-48FA-AAC5-E358992D3D8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F0DBF71-772E-425A-BE3C-E0F6CC14471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xpanding on the Principl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acing refers to the frequency of individual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enre affects pac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ultiplayer deathmatch shooters use the fastest pa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dventure games use the slowest pa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ry the pacing with fast and slow perio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verall pacing should remain steady or become more rapid near the end of th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78319C-D657-4AD8-A112-908F296264E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975CE55-166D-4F3D-8390-A068BEEE3C8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xpanding on the Principl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utorial levels teach the player how to 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mewhat scripted experience that explains the game’s user interface, challenges, and action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troduce features in an orderly sequen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witch off features not yet introduc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f the game is complex, use more than one tutorial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ighlight screen elements when you introduce the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et player go back and try things again convenient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oiceover narration or text can explain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 rule: Make tutorial levels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option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A3F19D-1C22-4706-A795-0A08A325B187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53E07B2-9C74-466F-8908-3C7FE901E90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Level Design Proces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 to level design handoff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ist features in th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 a rough overview map of th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nning phas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n the level in detai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n the sequence of ev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cument the gameplay, art, performance, and code requirem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4763D2-334F-4692-81C2-51B8130C9D1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8588225-3E4E-4578-9FE3-3EADD67D9A3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Level Design Proces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totyp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struct temporary models of the landscape and obj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dels serve as blueprints for the art tea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vel review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view the prototyp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eedback from the design, art, programming, audio, and testing team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D0B189-6984-4F2A-B812-6173EA3F301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FA09208-CB1F-4C6D-A4B4-C60A651927C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Level Design Proces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vel refinement and lock-dow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ke corrections based on feedbac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view and correct until the level is flawl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ck th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vel design to art handoff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ive all files to the artis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ll artists how the level should look and wor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act the audio team for any needed audio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7021E8-D934-41AB-9382-80E4051CA09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C53B575-C626-455F-8A25-701FC2DA166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how level design can enhance or undermine a game’s story and gameplay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ifference between universal and genre-specific level design princip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the possible level layouts and understand when to use each and how to combine them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343300-6D5B-4878-A292-839A5B4FA20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9E033FE-EAE8-4058-BF42-506F70B3BD3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Level Design Proces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rst art and rigging pas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t team builds the real artwork and rigg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You might need to incorporate the new content into softwa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t to level design handoff and review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ceive final artwor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duct a review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AFE0F7-9531-4CEB-B022-E1C071744B85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D42A04E-2B34-45D6-A204-87E7C1D9DBC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Level Design Proces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tent integr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ssemble all the assets into the completed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djust any rigging as necessa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ug fix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st for bugs and mistakes and hand off to Q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testing and tuning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QA creates a test plan and begins alpha test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en thoroughly alpha tested, hand off to beta test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E37C52-6061-45A5-9523-57B6DBB56834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8471EE4-E422-46F3-BFAB-C02324E07C4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itfalls of Level Desig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t the scope righ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 within your available resour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t’s common to design something that’s too bi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oid conceptual non sequitu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llogical events in a game make it harder to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should be rewarded, not punished, for using their intellig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7C08FD-7B8A-4BED-B849-B902FB5054B6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16C377A-FA99-4611-8292-5184E49C74B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itfalls of Level Design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ke atypical levels optional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typical levels break the player’s suspension of disbelief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typical levels could prevent some players from completing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on’t show the player everything at on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troduce new features gradual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intain the player’s interes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2682CE-24C9-4DB7-BB9C-F7B2F8B410BE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CF55A60-EAB3-4C67-8193-9648ABB1F16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itfalls of Level Design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ever lose sight of your audienc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-centric approa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nderstand your target audience and deliver what they wa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ad the “Bad Game Designer, No Twinkie” articles for more examples of design erro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ww.designersnotebook.com/Design_Resources/</a:t>
            </a:r>
            <a:br>
              <a:rPr sz="2600"/>
            </a:b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_Twinkie_Databas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C34577-0842-4D87-A15C-52493D55529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1561910-9340-4C77-93AB-CFA080C01E0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level desig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apply key design princip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reate a variety of layou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reate atmosphere, set a pace, and build tutorial lev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omplete the level design proc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avoid common pitfalls of level desig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0F0859-AD02-4914-B9AE-DCE886D7831C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B19385F-512C-46B0-AA4A-E2F3AEC6631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importance of atmosphere, pacing, and progres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 the key aspects of the level design proces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cognize some of the pitfalls of level design, such as inappropriate scope and conceptual non sequitu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C1233E-01A4-4E81-960D-80E1B481B03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A540A4A-9EDD-4363-90D6-AF9210F7245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Level Design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3428640"/>
            <a:ext cx="4038480" cy="27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spcBef>
                <a:spcPts val="60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Space in which the game takes place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Initial conditions of th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Set of challenges within th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0" y="3429000"/>
            <a:ext cx="403848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spcBef>
                <a:spcPts val="60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Termination conditions of th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Interplay between gameplay and story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Aesthetics and mood of th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vel design: constructing the experience for the player using components from the game designer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vel designers create: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831210-A111-4BCE-8E81-2733E8C2CF8D}" type="slidenum">
              <a:t>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C29FE28-247F-4431-B650-4DA6F28702D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Design Principl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iversal level design princip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ke the early levels of a game tutorial lev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ry the pacing of th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en the player surmounts a challenge that consumes his resources, provide more resourc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oid conceptual non sequitu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learly inform the player of his short-term goa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A5ED6-AEF3-4D74-8D49-6781A987E11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16A0940-3EC5-4052-B332-910053ECFD2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Design Principl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iversal level design principl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 clear about risks, rewards, and consequen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ward the player for skill, imagination, intelligence, and dedicatio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ward in a large way, punish in a small way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end more resources (polygons, memory, CPU time) on the foreground than on the backgrou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urpose of an artificial opponent is to put up a good fight and then los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mplement multiple difficulty setting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34AB05-61CB-493C-85C6-277F20B6472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903F31B-B186-413A-B5CA-E5B8561CD6E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Design Principl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re-specific level design princip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on ga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v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y the pa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ategy ga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r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ward plann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ole-playing ga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o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fer opportunities for character growth and player self-expressio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orts ga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v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risimilitude is vita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ehicle simulatio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r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ward skillful maneuver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0D0F72-42CB-4D96-ADAB-B5E66BF5A81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BF65A56-051E-4709-93F5-140E0535424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Design Principl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re-specific level design principl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struction and management simulatio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o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fer an interesting variety of initial conditions and goal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dventure ga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c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struct challenges that harmonize with their locations and the s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tificial life ga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c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ate many interaction opportunities for the creatures in their environment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zzle ga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g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ve the player time to think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9728A1-83B3-4B3E-9663-B9EA4D97107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CE829CD-A1F6-4D5A-861D-598C99A513D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Layou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pen layo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Allow unconstrained movemen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orrespond to the outdoor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Used in war games and role-playing gam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inear layo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Require player to move in a fixed sequenc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layer can move only to next or previous area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Used traditionally in side-scrolling action games and rail-shooter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791320" y="4398840"/>
            <a:ext cx="2361960" cy="19288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6E7617-4540-4262-9BF6-46DE7ACA33AD}" type="slidenum">
              <a:t>9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8CA76CA-4BF5-4B81-9F13-782E819C3DB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9:45Z</dcterms:modified>
  <cp:revision>242</cp:revision>
  <dc:subject/>
  <dc:title>Fundamentals of Game Design, 2nd Edition - Ch 12</dc:title>
</cp:coreProperties>
</file>