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BC01-B222-45B0-9B5A-C1F0C106A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2623-31E7-41E7-ADC3-7DC07E338BA3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4B25-910B-4A90-BAE4-0BAD69182F1D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6A8DB-EAFE-4507-9710-FEA2592E5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57D2A-4991-460B-8FCB-04C91E1B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BF75D-9F2B-45F7-A4E4-916DB686F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057E6-0D92-4E5D-A96E-60B7FABDF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744D-AE98-4265-B99E-0A20CC113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D377-BA65-47CD-8513-24A2E1D7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2970-70E3-4857-8F79-D8114A4A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493C-6CB3-4586-9621-1C91861B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9237-F2F5-48A8-80AB-C85979F6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94BE-8A4E-4754-9CA1-6864152E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42E6-F606-45DF-B70F-82BAFDBC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FA1A5-E84B-45F1-882B-A95BC594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2E36-965B-4360-B583-D84EA69F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D143-5CBE-4E06-A6FB-C677A884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487B-442F-43FB-9E41-C3F9A9BF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8452-5955-4B5D-AEA6-09415224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1DEF-8E88-4722-898B-92B1AE97B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A47FF-458C-4DF2-9CCA-2328F9B3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6DE56-D72D-4D18-B86B-C3FD6220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32262-F356-4E45-8843-3FC1440B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1BDDF-04FD-47F8-B2E3-D24B18E7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00E88-4727-45F5-9F38-348D0E20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16349-09E6-483E-9595-958D1A78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D16DF-CA3B-40CA-9892-C98FF4CA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375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0  Artificial Life and Puzzl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944A-BFCD-4E43-8D04-166BD37B3EB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6C16-56A6-4BD8-9CE7-6D2E95CD89C4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C0CF-EDC6-4898-8162-342CF9B2B4D8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0: Artificial Life and Puzzl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a god with limited powers who gets more power from simulated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mnipresent interaction model and an aerial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often share qualities with CMS (indirect control of population) and real-time strategy (compete directly against a rival god)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8C11D-7062-41A3-AE13-F491DE94DD1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29A31C-59A9-47E2-B969-2F4395A363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conomy of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’s power (mana) grows with the number and prosperity of his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ze of the population influences the maximum amount of mana the player may have and the rate at which mana is restored when it is below maximu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sitive feedback can be limited in various way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eople do not reproduce instantaneous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king land suitable for population growth costs man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a cost of using higher-level powers rises exponential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98E78-1805-4989-98AF-238CDA14F61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3317A9-81FB-4276-8619-25D98938CE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n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mary challenge is to produce population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 must also damage the other god’s worshippers and repair the damage the rival god does to the player’s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design a god game, start with the question of what powers you would like the go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d game needs a lot of interesting animations for the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D9C66-30B1-48E1-8A98-1E72A32DB73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4F3146-2FF2-40FE-AF5D-4125673A31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about managing a population over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tries to achieve goals for the whol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concentrate too much on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 geno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enome defines the creatures’ inheritable characteristics such as eye color, hair color, height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eles are traits inherited from each pa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f parents have different traits, usually one win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rown eye allele dominates blue eye alle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7B42F-F2B8-430B-A8FF-00554602F70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5CA882-2E41-4ECF-B5AA-B6C8A4FE5C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nge to the gene caused by an environmental fact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tations may benefit the population by introducing random new values into the gene po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fe span, maturity, and natural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creature needs a natural life spa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evolve through natural selection, creatures must have a time of immaturity before they can reprodu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enetic mutations that cause death in children do not get passed on because children do not reprodu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10ED0-5165-4659-94FD-38566630236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0CBB50-4BF5-456C-99A9-6273395DF9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does the player do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new individuals and add them to the population to see how their genes influence th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d and remove environmental hazards that would weed out certain ge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with the rate and nature of mutation by adding or modifying mutagenic objects or areas of the environm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te individuals to select for particular character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59A13-AA2F-47B8-9B69-94F1E97F0B4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70F308-B1DB-40AD-8B86-73004B0C2A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uzzle games, puzzle solving is the primar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s usually provide related challenges, variations on a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types of puzzles offered include pattern recognition, logic, or understanding a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zzles give the player clues that have to be solved to meet the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76E69-F4ED-426C-92BF-72458B480D4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599F22-9999-4820-A3C6-44F8B5328D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inspi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construction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he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ise a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y attention to pres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59876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ott Kim’s eight steps in puzzle game design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411C3-3E83-4D91-9584-BD2B4A96E08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E39E89-A7E3-4941-B0F9-FF95013490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at computers bring to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nonphysical or awkward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omputation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forc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player moves and undo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ucture the exper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bells and whis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onlin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38492-5384-4EC4-AFA9-D2B87F5F7A6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BBEFFD-AFB5-4367-BDCD-CEE5F16062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ecking the victory cond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 to the solution might be different than you plan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eck the solution, not the way it was reach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4761F-F9BF-452C-AF06-79C4D07B655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76F8EF-2B54-47C2-BAEA-F8E108BE83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forms of artificial life games and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basic artificial life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steps to designing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player’s needs for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6A85C-8FAD-4EC5-9F05-DA287A8B598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857FB0-7A2D-4C67-877F-5CCCE978A3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rtificial life game and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basic artificial life sys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steps to designing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player’s needs for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87E97-26AD-413E-9602-EA89F4D1D76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7D8338-8A79-4389-B7D1-F9E63F7F1F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life is a branch of computer science re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nvolves modeling biological proc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s the study of emergent properti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unanticipated qualities or behaviors that arise out of the interactions of complex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-life games typically focus on maintaining and growing a manageable population of organis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23ADD-D16E-41DA-B462-EBA6B7C7407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D24369-D308-44E9-AECB-1AA6A4706E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simulations or fantasy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cute; seldom reproduce or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ncentrates on training, maintenance, and watching the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needs a lot of AI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ety of triggers and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w the pet's emotions through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9EDB2-33F6-4081-BC7A-237CB41F069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DD604B-7549-450D-B796-AB8FE53EFF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fluences pet's emotions through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should interact meaningfully with other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must be able to lea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 AI distinguishes artificial pets from other A-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pet is a software to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58C3A-08F2-4C7F-AF92-716B830F4FE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2EB4E1-D034-4587-B62F-1D2FAFFBB7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sims physically and indirectly affects their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sim has a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ss between an artificial pet and a C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has an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94C2F-0F39-4B30-A049-B4599853165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DEC545-0E86-49DA-BCE9-100C990D36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im has six needs that must be met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s drive the sims'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-based AI is the heart of most simple behavior simul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(in the first edition) have six skills they can impro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teach themselves skil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management is critic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9F2B5-225A-4752-A7AC-F9CF9E58672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8639FF-FF07-46E0-83F1-D62351EB11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 tries to simulate relationships among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ables define each sim's personality and how they react to each oth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ccess of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based on the unprecedented scope for creativity it offers and its emphasis on interpersonal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39761-A274-437B-9F04-15E1FBCE351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2482C1-FC0B-4D34-9300-C66C0B1E21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ing affinity between two characte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I Can’t Stand” Rule – A character cannot stand another character who has an attribute above a certain thresho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rds of a Feather” Rule – Characters with high levels of one attribute are attracted to others with a high level of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posite Attract” Rule – Characters with high levels of one attribute are attracted to others with a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lue for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26BE6-B215-43B0-9A3C-7901DBF3101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767543-D9FE-42BD-AFFA-F0AAEE3861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3:24:51Z</dcterms:modified>
  <cp:revision>528</cp:revision>
  <dc:subject/>
  <dc:title>Fundamentals of Game Design, 2nd Edition - Ch 20</dc:title>
</cp:coreProperties>
</file>