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ABA0-38A1-494F-8FB6-37B623525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ers must lose arcade games to keep putting in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05DCB-8A85-447C-A6A3-4D755213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7275A-F04F-457A-BFB7-E4F23152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3A025-6EDF-43FA-BCCF-C865EF5D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8E78F-6ECC-4E31-86F6-661C559C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7B9C-E297-4C99-B54A-93D53E88F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BA85-3437-4594-BA6C-281D366F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4AD5-0CD8-464F-A982-1BF839F6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D068-887E-45EA-8CC2-F85F35DA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97A4-D0F8-414C-936A-BF5DAD09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AA1E-976C-46BA-8443-5D2366BD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6C89-6326-4E51-ABBD-7C76BFC6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3A082-CA0E-400A-8D3A-1E71438D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2350-6186-4E3A-92CB-C6E0700C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B8DA-F0EF-4E45-AD55-4F2E311A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9135-6B6F-45A9-A0CD-74FBE1A7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A7A3-AAF1-436A-959B-D94D13A1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426C-BFDE-495C-8B23-6326C820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5A7C8-A1E7-45F2-9F22-9AD53F06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445FB-027F-4981-80F1-78DB96C3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A826C-E651-477C-BFF4-08DFA5CD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442EF-AD32-4681-85B7-7D958EDE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42572-1F0A-43B0-ACD8-8452BAE3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3E58F-7E3E-419D-B4F6-D5C63E72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0BE6C-8B95-424D-9238-42D2191C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3 Action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A3B6-345B-45CE-8344-1D50E236D17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BA72-C0E6-4A63-A602-8D1868BCAE5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5825-B667-4402-9D92-9E5D7A838B1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3: Action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shooting, hand-to-hand fighting, or abstract puzzle-solv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skills such as maneuvering and path plann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C2B99-B00E-4062-98CF-C6D4F00C760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B3CE6A-CFAB-47F4-8DCD-EBBC0FEC61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s usually completed in linear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s often grouped by theme and end with a bo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ixed challenges are easier to build, but repetitio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killed, avatars reappear at a checkpoi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exits, level warps, and 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exits lead to the next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warps exit the level and jump ahead several leve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leporter jumps within the sam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B8DFE-70AE-4F67-90AA-A8AD3FF8A6F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38484A-0A10-4C26-939D-CA2CC37206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your pac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ainstorm ideas for moments of excit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der ideas by prior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story frame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key events for intensity, and sequence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and sequence story plot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ime between high-intensity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aluate the tre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constructing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eratively test, review, and adju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34693-C51A-4C0A-B5B3-269A08D9A9F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124FEE-0823-4C81-AF53-5BA6F4DD0C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s typically faced by three kinds of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ssive obstacle impedes movement without threat (wa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onary danger attacks approaching avatar (electric fence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ve dangers attack and move arou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1BAA6-0370-4BDB-9DB2-082BC23720B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F71332-4CAC-455B-81B7-618E72DEDE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v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mies attack in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ig boss guards the end of the them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ldcard enemies break up the predict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 partition levels and control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nster generators or spawn points cause new enemies to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7AACF-2790-4422-9AD3-F4D092D3347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BE9EBA-567C-45D1-B1CC-48750B9B5F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utine actions include maneuvering an avatar, aiming and shooting, collecting and selecting, manipulating objects, and fighting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rt bomb clears enemies from the immediate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perspace escape immediately moves the player at the risk of unexpectedly entering a dangerous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4A09E-80C2-40A9-9737-25D7EE6E079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BFDB33-4AB1-4859-9351-C22F8090C6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re simple and obvio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ves provide several reprieves from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ergy is replenished by collectibles or power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werups increase streng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lectibles are common but not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rease the sco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ock secret levels or cause special bonus ev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F6A9A-A1AE-402C-99A6-4F78D55B4A2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8F6972-0F4C-4D4E-A9A4-D2D5716343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r counts down time to events and catastrophes or the amount of time left to finish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ore indicate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0995C-E675-4022-BA64-615F4CFC1EF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94E345-9C3E-43B0-B5C7-8167244724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y arcade (or arcade-like) games don’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ing a structured story means the game will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most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manipulation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or omnipresent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emmin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also us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DD0F5-6F7A-4D45-AE77-B09DFFFA130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1C37B5-7B5A-4A22-9F06-1F7C4A7F78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camera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s side-scrolling and top-scrolling perspecti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inuous, variable, and parallax scrol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first person is tied to the avatar with a limited field of 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third person lets the player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both, switchable at player op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Resident Evil 4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es these somewhat, moving camera to just behind avatar’s shoul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1330B-2266-4535-8D21-14AEDE09312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6FC157-A63B-48C5-9863-4756553E75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dentify the qualities that set action games apart from other 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stinct subgenres of action games and their particular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characteristic features of action games, such as levels, lives, and powerups, to design games of your 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sign limitations imposed by placing the player under time pressu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93453-E0EE-4536-ACD3-963EAEAC6DD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FDECA3-1BE9-4FB2-85C9-B1B8967854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mplications of 2D an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it is difficult to tell the speed or distance of objects that come directly toward the play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3D games use the environment to present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enemies can hide and sneak up on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mera moves depending on the circumstan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a good model for fast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dden changes of camera position are disorienting during high-speed ac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27F99-F50A-4BF8-AD42-87D9A2C69C1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8FFC18-CB96-462A-BE13-CA87176B2D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only as much as the player needs to kn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on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ndicators rather than numbers or t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w attention to critic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s and mini-maps can be shown as transparent overlays; keep them si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olor to identify character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rols should be as simple as possi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BCD01-0719-4126-AC36-D519C87C2BE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7A9AE7-075B-4EAB-8DF8-86F9DFB3E4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ecognize action game sub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d use characteristics of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design limitations of 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32F18-E563-4013-9A92-A8B39CE9BDC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823CB7-B49F-418C-A72D-FFE93D5096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ction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action game is one in which the majority of challenges presented are tests of the player’s physical skil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, tactical conflict, and exploration challenges are often present as w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est action games are called twitch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2AE76-0E66-41B6-B95B-9312EB7865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0C111C-0331-4F05-85F5-2FD187E40A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amiliar and popular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use a ranged weap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or side-view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are under constant attack so shoot everyth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imited ammun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realistic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FF13A-3161-418C-BAB0-6734719017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F1D1A6-3B72-41FB-A1E6-C24E900B8D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edge of game hard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s are more realistic than 2D shoo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first-person or third-person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rther subgenre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ctical 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rvival horro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rena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0200A-33E9-489C-A29E-403799B8A9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A1DF77-6A1A-4F20-B0D6-5E10C86338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tfor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rtoonish games in which an avatar moves through a vertically exaggerated environment, jumping on and off platfor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jum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ghly unrealistic phys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2D side-scrolling games with humanoid avatar are platform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uper Mario Bros.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classic exa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AC1B1-F3D2-4DEB-8738-ED59701A43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2BB1BF-59B9-4E05-B85D-36727D6B7A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ghti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al challenges test reaction time and tim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 hand-to-hand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y use a few ranged 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wo major categories: one-on-one and mêlé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ous boxing games usually classed as sports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include maneuvering, attacking, and def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o moves are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is largely 2D in the plane of the video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5056E-3D9E-443F-8F34-6E39A8D03A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E03A5C-DE17-4EAB-AA81-FE906D32F2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 player to solve problems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e, abstract, limited control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archetypal fast puzzl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gamers enjoy this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al for handheld devices and cell pho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3B0D5-0701-46CD-AD38-AE9B194D333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52500F-5B78-459A-978F-21E3A16D9D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-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 combines action and adven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include physical challenge, story, inventory, and 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nce and rhyth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player’s sense of rhy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s buttons to make the avatar d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cialized hardware common: dance mat, conga drums, marac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girl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ss pointless viol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DB1B9-3B33-44DC-B5A5-DAF6218EC16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1F09F7-D9C3-4FAE-9785-4AAC84B723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5:17:29Z</dcterms:modified>
  <cp:revision>247</cp:revision>
  <dc:subject/>
  <dc:title>Fundamentals of Game Design, 2nd Edition - Ch 13</dc:title>
</cp:coreProperties>
</file>