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A8B4-3C3A-4D71-9669-C8BBDF537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3A82-EA5A-42F4-82C2-D92E307B8ABA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EA9C-1296-475C-A34D-A4DCAF45B1C2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AD43D-13EF-4BAD-94BA-A0EF50DC8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5F05E-3700-4F7E-97F4-A16BB3BF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D5A8F-DB5B-4385-863E-625F6250B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3BF12-93A1-4CDB-8595-6BC730D7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8D66-821F-49FE-BE0C-8993CCDA1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E7D5-970A-40B5-95FF-9380C125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A2E1-3068-46A1-8B74-7EF0CBC0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AD01-CAA5-45CE-AC2D-D0261DAD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56FF-4116-4350-9363-C9680ED6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B256-693F-4704-AF69-66E8DBA7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BBEB-9CA7-4FDC-9FF9-162A0868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9F30B-5543-4AC9-93DA-4462EE39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06D6-3DC0-4D6F-BDFA-8781BD9A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F3C3-03A5-4434-9F8F-FD23ADC1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815F-CD7C-4199-9EF7-4B75DECB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2E5F-7D2E-462C-ACFE-BE97BBB60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9A67-80EE-4F30-B6F1-327CAEA6D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134A0-B872-4E27-9BF8-40FC2FAE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1C2F7-7437-495D-AB7C-E5C0F03B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6F403-456F-43DD-AE3A-1A41C26F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35308-8C77-4884-8050-15273455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159C0-47B8-4A21-AE2F-4F2C67D2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05397-7CC0-4603-8B10-ACF2D25C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55A76-856F-4037-B04C-D32D7D92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375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0  Artificial Life and Puzzl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BE98-1255-49F0-A737-648160F8671C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EF43-9711-4AEE-AB2B-79CE5BB708E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A962-D50C-4070-8D5C-55ECDF41EE62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0: Artificial Life and Puzzl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a god with limited powers who gets more power from simulated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mnipresent interaction model and an aerial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often share qualities with CMS (indirect control of population) and real-time strategy (compete directly against a rival god)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B0D0A-500F-46F7-96D1-E3BF891E20D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64AA8D-F5FF-462E-8A50-68B0834C20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conomy of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’s power (mana) grows with the number and prosperity of his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ze of the population influences the maximum amount of mana the player may have and the rate at which mana is restored when it is below maximu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sitive feedback can be limited in various way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eople do not reproduce instantaneous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king land suitable for population growth costs man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a cost of using higher-level powers rises exponential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22401-11B0-4061-AFE4-1E9BC64543B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538BBB-07B3-474E-87D4-CB5ADF8028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n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mary challenge is to produce population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 must also damage the other god’s worshippers and repair the damage the rival god does to the player’s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design a god game, start with the question of what powers you would like the go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d game needs a lot of interesting animations for the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85F91-7DA7-4E04-B6EA-6A99CFCE691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0E0F61-75F8-43A2-AA60-E5330B103F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about managing a population over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tries to achieve goals for the whol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concentrate too much on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 geno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enome defines the creatures’ inheritable characteristics such as eye color, hair color, height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eles are traits inherited from each pa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f parents have different traits, usually one win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rown eye allele dominates blue eye alle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F02F8-6D27-4323-AB67-D464A5AD235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2CD2E5-80A6-496D-B5AA-D6532BB0B1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nge to the gene caused by an environmental fact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tations may benefit the population by introducing random new values into the gene po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fe span, maturity, and natural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creature needs a natural life spa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evolve through natural selection, creatures must have a time of immaturity before they can reprodu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enetic mutations that cause death in children do not get passed on because children do not reprodu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9BD2D-9B31-4A4C-BB74-D3DE082B7F8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0E2765-A409-4A16-915E-0967F388F0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does the player do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new individuals and add them to the population to see how their genes influence th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d and remove environmental hazards that would weed out certain ge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with the rate and nature of mutation by adding or modifying mutagenic objects or areas of the environm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te individuals to select for particular character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28510-2475-4027-AE1B-4D735BDCB89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E73624-E441-48E4-8E0F-1A40D3B1F0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uzzle games, puzzle solving is the primar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s usually provide related challenges, variations on a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types of puzzles offered include pattern recognition, logic, or understanding a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zzles give the player clues that have to be solved to meet the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B3A08-5F3A-4A6B-AB52-1A36C26F8E1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16E82F-780B-4FEC-B653-CEECB1D114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inspi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construction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he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ise a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y attention to pres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59876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ott Kim’s eight steps in puzzle game design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87397-B21C-4271-A98C-36DED53C93F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D018F1-AA1A-421C-AD21-DD9B44B2BB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at computers bring to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nonphysical or awkward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omputation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forc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player moves and undo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ucture the exper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bells and whis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onlin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462B7-2124-432E-A770-B824DEE299D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43041C-DFBE-4AF1-B557-E6CA3D3CF5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ecking the victory cond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 to the solution might be different than you plan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eck the solution, not the way it was reach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99EE0-B31A-4B38-9ED0-933362EA4EA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BF3F99-C45E-41BE-97C4-694BCA4F68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forms of artificial life games and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basic artificial life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steps to designing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player’s needs for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14A95-60F8-4FED-9A7A-46013BE79BB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B477CC-4E44-4E7B-8CBA-79B3EC8167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rtificial life game and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basic artificial life sys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steps to designing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player’s needs for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E6F80-9400-4C6F-A442-E7165F0FF1D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A76BD7-FEC9-48B6-9CCA-89167A047E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life is a branch of computer science re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nvolves modeling biological proc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s the study of emergent properti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unanticipated qualities or behaviors that arise out of the interactions of complex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-life games typically focus on maintaining and growing a manageable population of organis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3786E-0D09-4698-AA42-D709D2BF494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7BA21D-7042-463A-8A93-0FD0867E69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simulations or fantasy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cute; seldom reproduce or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ncentrates on training, maintenance, and watching the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needs a lot of AI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ety of triggers and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w the pet's emotions through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AEA3D-5F64-413C-ADDB-A0C32B49D77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F9C733-9495-4298-9CD8-A41D18BB45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fluences pet's emotions through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should interact meaningfully with other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must be able to lea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 AI distinguishes artificial pets from other A-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pet is a software to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EA00F-C553-46D1-B37B-E9848A021FB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BD19CC-6898-4EC4-953F-0DAD660E51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sims physically and indirectly affects their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sim has a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ss between an artificial pet and a C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has an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5E091-EA67-4CEA-A929-EBBF8C5902C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D48E05-0082-495E-A04F-C9DFBB40E1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im has six needs that must be met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s drive the sims'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-based AI is the heart of most simple behavior simul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(in the first edition) have six skills they can impro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teach themselves skil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management is critic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E2560-CF51-4143-9589-D882B2FFBC0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4EC1CF-F6D5-48A4-8BDB-A9619FCD80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 tries to simulate relationships among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ables define each sim's personality and how they react to each oth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ccess of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based on the unprecedented scope for creativity it offers and its emphasis on interpersonal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1FDDD-461A-467E-9372-F398FB9428B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A416C4-E360-40D2-9F18-8D1400EE04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ing affinity between two characte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I Can’t Stand” Rule – A character cannot stand another character who has an attribute above a certain thresho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rds of a Feather” Rule – Characters with high levels of one attribute are attracted to others with a high level of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posite Attract” Rule – Characters with high levels of one attribute are attracted to others with a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lue for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F68A0-19D1-4943-BFA0-A29306F8B51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DB4AC0-86AB-4B0B-8045-CE5EEBC549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3:24:51Z</dcterms:modified>
  <cp:revision>528</cp:revision>
  <dc:subject/>
  <dc:title>Fundamentals of Game Design, 2nd Edition - Ch 20</dc:title>
</cp:coreProperties>
</file>