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79A5-DF0B-4659-86BB-854E1E639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lements, including the shell menus, should be in harm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ion means completely removing processes or systems from the game. Automation means leaving processes in, but letting the computer control them so the player doesn’t have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point-and-click, player gives a command and the unit or character travels to the designated location by itself, wthout further st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the primary gameplay mod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o consider the player first in player-centric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AC959-9693-4F5F-A772-D40D618B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2E88E-D2F3-4E84-957B-B1FDF72F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2468D-D7B3-46D8-9C7B-4AC75F68D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C0E10-3B59-42DE-8244-4A261542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8049-F106-4411-928F-9DBE98E6E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0131-D64D-4705-A0BF-3B557017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CE01-6F54-4076-B50D-849CE674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2A96-05F3-4C96-A6F9-57B6FAED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3D42-5374-421B-881D-DCAAFB94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C8EB-893A-4BF2-AB42-C25FE5D1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DAB4-2E1B-402B-AF5E-31BE1A25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0188A-F95E-4633-8C15-D76CB567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52C6-501C-41B6-A9B1-D32D095B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9F42-DF35-4DBD-8262-C40971C4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48AC-0592-4F11-AD9C-DCB97976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DA24-737B-4BCD-825E-62F3C1B6C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136B-AA72-41EB-AC73-F07AB878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B027A-E59C-40C2-87E4-0B66A50B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FC833-4984-4C4D-9E44-7ED3185B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B998D-2FF8-416A-8B1A-7D78AD79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BE5C9-3FB6-40F1-919A-17D22099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88BE7-C9F5-4C64-9EEB-58EFEBE0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620F2-84AF-4E5E-895D-409C44E4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59CDE-A3E2-443C-9A60-B62F1693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29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8 User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5874-92E4-4754-85F2-516F994B59F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01BB-8C0F-4E7E-A2A7-8FF9BC4A2C9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511C-33CA-4410-A323-B81309835B3A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8: User Interfac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data from core mechanics that you want to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feedback elements to display that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ter defining critical information, move on to option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n mind the general principles of good interface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DCB63-F7C0-4733-8141-458CC49399B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4E4F04-9E09-4FFE-811A-39E5A32CD2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 the player do what she wants to d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devising appropriate control mechanism for each action the player can take that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visual and audible feedback for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 input devices to player’s actions based on chosen interaction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time you move to new gameplay mode, note actions it has in common with other modes to keep control mechanisms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38A10-9E28-48B6-B48C-CCFEA6519A6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39CFA0-EF5F-466C-A93B-858FA36790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ell men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menus allow the player to start, configure, and manage operation of game before and aft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hould not have to spend too much time in shell menu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interface is the first thing players see, so don’t skimp on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04942-CB67-4032-B370-12506EF83D8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5C1570-5290-464F-8430-9BB89CD932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plify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some detai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e some fun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pth versus bread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ep interface places commands in multilevel menus or dialog box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oad interface offers more options at one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solution is a deep interface with keyboard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4E003-3DC6-4086-A0CE-D6861F0083F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911EBC-139C-498D-837F-8287F26B62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xt-sensitive interfaces show players their current op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obs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the user interface, don’t sacrifice function for loo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e UI on someone outside your pro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99FB5-A68A-4E1D-8F82-CCC21B653C6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D0D0E7-2070-4518-87BF-5DCAC94F7E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raction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ans by which the player projects his intentions into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mon typ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through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rese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on many places at o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a group of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sta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as if on a TV game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kto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ilar to computer desktop metaph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AE979-22B1-4E1D-8E5A-0E46167A25F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0AD729-4823-4B06-A939-3E43E942D0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termine virtual camera behavior by asking how you want player to view th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erspectiv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re camera models that are largely fixed and unintelligent, e.g. top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rtually all standalone games running on powerful game hardware employ 3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3D graphics only if you can do it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ood 2D is preferable to ba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42536-A073-4986-9764-539F3391350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971C8E-850F-4BD8-9861-420ADBBD92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ttle animation needed for th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You don’t need to design AI to control the camer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find it easier to aim ranged weap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may find it easier to interact with the environ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not se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ifficult to indicate avatar’s personalit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mera angles are limi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rtain moves are difficul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pid movements may cause motion sicknes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only in avatar-based gameplay mod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s and cons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2F31E-BCBA-4A3A-819D-2BA35A271781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533FE8-D749-4D5E-A05C-B45DBB8DAF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for avatar-based games and allows the player to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perspective in 3D action and action-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for this perspectiv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ng camera behavior when the avatar tur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uding landscape objects between camera and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itting player adjustments to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3F641-57E3-4301-8C8C-049C87C1C24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96A0D8-26E7-42DB-A039-334C480ADE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erial perspecti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with party-based or multipresent interaction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ypes of aerial perspectiv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d to display map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ometric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angle is such that all three dimensions can be seen at o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controlled by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ext-sensitive camera mode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moves intelligently to follow the a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6D771-81BD-4CE2-B143-3AFC8182DDF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8E8FC5-6F18-422B-ACD7-B6EC27EAF9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user interface mediates between the player and the core mechanics to create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principles of player-centric interface design can answer questions about what the player needs to know and wants to do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steps required to design a game’s user interfa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D4FB7-37E5-45EC-A463-B03051FE812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157B35-EB4B-4872-95A9-F359EC9E02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p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2D display options found in Web-based games and on small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gle-scree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ntire world on on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de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 sees the game world from the side as avatar moves left and r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p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andscape scrolls beneath the avatar and new challenges appear at to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ed backgroun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vatar and other characters appear in front of static backgrou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323EC-9054-47DD-853E-3D611FBFCC0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F34B55-3D64-4DFC-84F0-D992A5332A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in 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be largest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option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indowed view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main view takes up part of the screen, with the rest of the screen showing panels displaying feedback and control mechanis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aque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superimposed over main view; the overlay obscures the ma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mitransparent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that players can see through partial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BA540-7A09-4317-A7E1-BDE04EE401A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B27EE2-2A5A-489D-92B0-394E5FE219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dback elements communicate details about the game’s inner sta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dicators inform about the status of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gits, needle gauge, power bar, small multiples, colored lights, icons, text are common types of indic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-maps show an area larger than the main view so player so orient her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s give additional clu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7C1E4-F15B-4604-90C9-2468B361814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B60BE9-D659-4E29-9D5F-D7EBEDE1FC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portra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give the player a better idea of the pers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function as a feedback element if they ch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ey issues regarding text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localization easier, store text in text fi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typefaces and formatting carefully to harmonize with theme and present information clear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3B6F9-03C1-4C1D-A30D-0B13DFD1385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1159CC-830E-4FFC-B91A-58192BDAD7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bration (“rumble”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mbient soun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alog and voiceover nar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on can be irrita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multiple alternative ver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ing and acting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us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g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31EF8-F6A7-4192-B5FB-911EB43021B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F19875-939E-4E72-A615-1B8D8991C7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put Devic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elerometers (e.g. Wii controllers), GPS receiv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ional pa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Joystick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use or trackb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chpad and touch scre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er buttons and ke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nobs, sliders, and pressure-sensitive butt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40FE3-7FB2-4383-ACCC-2B2AFCAC8EB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8F103B-5421-4275-83F2-97F97457A6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reen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toward the top of the screen to move the avatar the same dir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up to move avatar forward in the direction the avatar is fac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6C39E-A0C0-4117-9332-A4470CF59B2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D59275-EAB7-4DFF-94BF-0DC48BA90F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y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two mechanisms because the movement occurs in the third dimension as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first-person perspective inside cockp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oint-and-click navig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to give directions to semi-autonomous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s a pathfinding algori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give the player more control, allow him to set waypoints for the un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33FB1-2FC4-4494-ADC9-E5C026D2E83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A279B8-4D06-441C-A366-49EA06DB7A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llowing for Customiz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ful and easy to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 key reassignment shell menu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ave all customization changes on a per-player basis (like the Nintendo Mii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61926-3A15-4172-A1CD-4B59E8A99CC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12E8C6-3820-4A2A-AD03-33AE0817AB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the player needs to know and how it can be presen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game’s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audio and visual eleme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e input devices affect the 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830B8-81C7-4BAE-822D-51B415D04B9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2EEEA2-8A95-4BF6-9D4E-DFDC510C0B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options that can help to control a game’s complexit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five well-known interaction model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camera models and discuss their advantages and disadvant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how visual elements supply information a player needs to know to succeed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40E9B-0D62-486B-8B7C-8519E6933C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D8A8D8-2DDC-4505-9412-1612AE92A1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udio elements such as sound effects and music affect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types of one-, two-, and three-dimensional input devices and discuss how they affect the game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navigation systems and explain how each system controls action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E5E57-6B23-4DCB-ADCB-17B892D661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1D7BD6-9F0C-48F1-836E-2DEA1B9713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the User Experienc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is often called the presentation 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experience must be entertain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utputs = Visual + audio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puts = Contro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7B367-FAF5-4FB1-9A27-D75D58212D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0E9DFC-A9B6-41D4-9738-F979FBE947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prefer to use a familiar UI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 principles of interface design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good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eizing control from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mit the number of steps required to do th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ppropriate, permit player to rever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mize physical stress; provide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lated info together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C2710-444C-4301-AEB0-92FC515BCE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0659EF-1F7A-4D0F-B2BD-D95FD90337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he succeeding or failing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he doing now and what should he do nex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fer actions the player can perfor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 with NPC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or s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71A77-4B3F-4B5C-B7AB-1C40F68A28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A7230A-58D1-43DC-BAC3-37CDC62457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gameplay modes you’ll n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primary gameplay mode first, then move on to oth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 think about the visual elements and controls that will be needed for each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a different user interface for each gamepla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ach mode, design a screen layout, select visual elements, and define inp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 UI in PowerPoint or Fla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A5450-8746-437F-B593-0F43FC628E6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76CC47-8C9E-4C9C-918F-8D18AD59B4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creen layo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will be the largest visual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a balance between the amount of screen space devoted to the main view and amount for feedback elements and onscreen contro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1C012-D612-4C68-B4F1-72DAFEBBC70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0F4867-C002-41DB-9BA2-4501BD2248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9T18:15:45Z</dcterms:modified>
  <cp:revision>183</cp:revision>
  <dc:subject/>
  <dc:title>Fundamentals of Game Design, 2nd Edition - Ch 8</dc:title>
</cp:coreProperties>
</file>