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E65B-0A03-43CF-885F-7C3A6C170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826E-C9C8-43B9-96DA-743121A28919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C9CD-5255-4BFB-BFE4-06547784A236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94D5-CD63-4A3C-AABF-666A85EBB59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6DA93-71C0-4324-8116-3A012283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11A6D-363A-45AE-B5B2-EA75EAD3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AD81E-96A5-444B-9FC5-F30F2CE67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4D13D-A0A6-4DD0-B0CE-04153B41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481D-E178-4700-8C85-6002C185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D81E-0295-4C06-A996-255CB2FC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C8A2-5446-4065-A7EB-A15702F0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89C2-F5F8-4A87-A682-7CF59903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B89A-F96B-4623-948D-64206BC0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E987-CA3C-4E48-899E-28DFFC84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3894-AF43-45F3-8B5B-E75EB026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0880E-F824-4D34-9597-408AB189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7C93-7657-477B-BB8D-22D31493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B8FC-EE0C-48C7-BD4D-43FE71D2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7770-8EB7-49CF-A3B8-B25F050E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87D2-4078-4A91-8078-0451D755F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B0E8-60B9-445B-A997-439B5F2C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9B3B8-A0E2-4E43-8E80-362D5A56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47E3F-E939-4A67-9E50-B329F924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96BC5-E3FB-460B-8494-E231847B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5CEE2-5243-42BF-BDDD-5E73F38F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344DD-66B4-45FD-9FF0-E5275FE5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400C4-052A-4FF5-8A37-E8BD184F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72B74-4A6F-4EEB-B26B-C22DB41C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7 Vehicle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A360-F63E-4DAC-A898-F552080A811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AE8F-122E-44BD-A3FF-DCCA9F146F7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61BF-9FE6-47B7-B9EA-A977041E5DA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7: Vehicle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ehicle simulations are technologically oriented, so the core mechanics are almost entirely about phys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oppon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different vehicles with different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the behavior of individual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FEACA-12BB-403C-8C52-ED74D92A605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DDC41D-92B2-44FB-BDBF-0EFB6AA084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m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ildren’s games can ignore damage to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amage can be modeled as a single variable like health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modeling divides the vehicle into ar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s damage in each individual are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utes damage’s effect on vehicle perform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E7B04-05ED-41E8-A0EC-8AF050D3CC6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47E82C-C762-4FE5-AA2B-0E4C122C95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br>
              <a:rPr sz="4200"/>
            </a:b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ndscape is an important part of the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—setting is the plane and the 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—racetrack, road, or off-r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 affects vehicle hand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ider adding people to racetracks and airports to enhance immer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0D08B-DDAF-43BD-8FB6-887D500B253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065356-2968-4C6C-B8FB-7CFC88590E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ats and ship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uid medium changes handling characteristics, making it different from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warships simulated as parts of fle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marines are popular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iling simulations are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cean is not modeled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reline is usually corr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pth, tides, currents, reefs are n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BF863-592F-48D8-B30C-8582C2CF862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428305-4658-46EB-9FAF-3768F6D024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anks and mech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tating turret on tanks adds complex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 is an invented mechanism unrestricted by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craf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spacecraft simulations are science fi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modeled accurately—similar to fighter pla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A669C-080D-4380-A961-44CFF3409B5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6DAB98-9925-49C3-B90C-E25ADE5862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llectual Property Righ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ly, you can simulate military equipment without obtaining permission from the manufactur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simulate an existing car or other civilian vehicle, you need a license from the manufactur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2E366-C7E4-436A-911D-B5F33A07ABE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C5E74C-FFCC-4A3A-B9B0-9922D49345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—vehicle is the avatar; view through cockpit wind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common to driving and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’s/driver’s view—defaul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ckpit-remove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s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ar, side, and front view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29673-ABE0-41F1-B771-3E28E001798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700B39-E893-427F-8455-98EC857586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military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ound target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omb or missil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-sid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andstan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limp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E00DA-C27F-4DB5-89A9-2BC4E907EE4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A80445-8460-4484-99D4-033201E693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ggest challenge is mapping vehicle’s real controls to those available on target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simulators require some simplifi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ight simulators commonly simplify navig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light simulators produce automatically coordinated fl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9F3BD-A574-4AED-9758-D5F14332028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401B04-68DD-4013-B407-7F7C44E601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sense of speed—critical in driving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play a speedo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y the driving surf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roadside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soun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-fo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planes can show a G-force 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s can black out or red ou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798A0-F39C-4D0B-9644-7C7AA9C3485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983745-7474-4F65-AA58-DFC9EE008F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ifferent types of vehicle simula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how the design of the game world influences the player’s perception of sp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ways to design artificial opponents for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00AF6-A20C-47C8-A860-30B52F2149B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626F06-2277-428C-8DE2-2375C7D3B5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different types of vehicle simula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vehicle attributes and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I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st the requirements for a military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the UI for a vehicle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278D1-0097-4979-BAD1-CAE3EFA51BF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08A2DB-5901-4070-83FD-ADA1240C86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stinctions between military and civilian flight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various views often used in vehicle simulation interfa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585E7-3AAB-4579-9C0E-0C2ADA50E94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BC2492-C25D-4DE5-8008-E857E87937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Vehicle Simulation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ls like driving, flying, or controlling a vehic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ons vary from realistically handling the vehicle to adding game mechanics such as combat, racing, and speci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 and water vehicle simulations follow the same fundamental features as flying and driving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138D7-0451-4973-96F5-AAFFD04ED1C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613965-E3B5-4451-8A40-D262951465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 are realistic and don’t include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re simplified but provide tactical conflict as well as physical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is driving in an existing racing class; requires licen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aginary racing uses imaginary situ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F667B-2E6B-4674-A234-45035ED69D7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D0A75B-A46E-4717-B95D-ED64AB480B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ists demand highly accurate simulations of real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players don’t care about the details as long as they can fly or dr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394A5-6683-47E4-B8A1-508F95FAA3D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60CD13-9354-4B85-AD7A-0D6843DA87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lot or military positions such as navigator or bombard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cing-oriented driving games—driver or mechan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163FE-A196-459C-8658-D895479B512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89DC54-ED72-4E87-8F95-10E70E43A1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—similar to first-person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—single-player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iving simulators—single-player games or multiplayer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nd organized race-driving simulators—often include career mode and campaign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6A327-0441-4C26-85A2-08D767F15D0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48E2F2-A5AC-4B33-8A84-86FACA6BBD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challenge is controlling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s must also achieve the mission obj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ype of plane determines game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a series of miss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s seldom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sims take gameplay from the real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47045-8566-4DA4-B5E5-CE5A35CC3EE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BE4674-CF78-44C1-BBD9-EFA62141D2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51:43Z</dcterms:modified>
  <cp:revision>383</cp:revision>
  <dc:subject/>
  <dc:title>Fundamentals of Game Design, 2nd Edition - Ch 17</dc:title>
</cp:coreProperties>
</file>