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94830-41D1-4F7F-8D2C-0D330667B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of anomalous time: I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me Par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visitors to the park appear to stay there for months according to the game cl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details create a rich game world. However, the player can’t micromanage everything. Make sure that the player’s role doesn’t become bogged down in managing unimportant detai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EC57D-1618-4A45-96A0-3AA8366D0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60525-E733-42F5-845B-86712BA34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26C5A-6EAF-4635-B726-1FC97FF42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AD51F-F7B0-4468-A476-C2B0CA9AA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67E55-9946-4A48-8021-BFE3573FC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9B662-A9D8-4789-A199-C95F87123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F6AEA-E8F0-44AE-B291-4BC28F496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D7185-E322-44C9-B9D8-6536906C4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5D672-020D-44D9-9465-E13AA2522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2ED9E-E455-4F64-B2D2-0CCC5B003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8422A-641C-4C20-9986-4399E90F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907E0-D912-4C56-861F-ACEB8F1AF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00A22-E4D4-4CF6-9DB6-5A4C5728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45184-9ABA-45D2-9017-7143F54D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49E4F-2B95-41E8-B43C-B10C548F8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0F3C0-4E8B-47CC-B449-7EE81203D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05475-F349-47F0-9AFC-DAB2B2146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7C30D-91A2-44D7-BDD6-0839923F6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FC5A5-0BE3-4174-89AD-A7DF4F940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B0E63-C86F-4A00-925D-9A3D7FD8E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1DA98-45D3-4BA2-9542-29B13B164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51663-2B1D-46CB-BFBE-FCF86A67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3FE20-B9B4-4588-9900-2C94F199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10EA1-D172-4D51-A8F0-FF154DAD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7080" y="6248520"/>
            <a:ext cx="330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4  Game Worl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80B0A-EC21-41DA-99C7-643359C7FEA1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C931A-6F7E-4332-B7E3-4BA934075884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1874D-7B42-4D8B-AD4E-EC9BF2DB610B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4: Game World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empor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s the way that time is treated in the game world and how it differs from time in the real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able ti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e time usually runs faster than real time, and jumps or changes r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omalous ti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e can move at different speeds simultaneously in different parts of the ga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ome games, the player can adjust the speed of time i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FD61D-FE12-4D77-983E-E94380210CA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769DA4E-63E4-4241-BA85-B21F64A458C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s the world’s appearance and its atmosphe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ms the basis for creating art and audi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s cultural context and physical surrou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3FEA3-2CAB-4926-8D7E-D59333E4788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DFD9AAE-68F1-46B5-80A8-60E89F842FD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ultural contex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liefs, attitudes, values, political and religious institutions, and social organization of people in the game world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fluences every manmade item in th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r interface and backstory should harmonize with the cul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E2923-3354-45BB-B89F-0A260730091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5BB5EB6-EE23-4774-95F3-1F1442E1E5D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 surrou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every manmade object, natural object, and sound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the tone and mo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make surroundings uniqu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 as much detail as possible until it hurts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yle includes both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nt of the world itsel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hat content is presented to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AF510-CDB5-4268-8006-453EE0902EA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A679C46-DFA4-42BC-A076-609CA96993C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motion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s created in the p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s can be caused in several way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cing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acting with the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re sophisticated games move beyond “fun” to richer emo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“paint-by-numbers” emotional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4BB0C-1B4C-4054-ADD0-E40D87AC978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1526492-D96D-4F2B-B336-9F56A524D3A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thic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s right and wrong in the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rt of the culture and history in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uild richer, more involving games by giving players tough moral choices to mak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violence for its own sake; give it a purpose and contex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game world ethics are unrealistic, make visuals unrealistic als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D4A5C-F7F4-46A9-AE50-AEBFD969E45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400BFBD-14EA-4E31-B607-877D7ECD317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ealism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 games, no matter how realistic, require some simplific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gree of realism of any aspect of a game can be found on a continuum from highly representational to highly abstra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of realism differs in individual game component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have realistic physics but cartoon graphics, or vice vers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0689E-B218-4C43-B3CE-2EF74E81467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171371F-91E6-4AB8-B6D4-479A00EE1CB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ing the purpose of a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the physical dim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ing the passage of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ing the environ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emotions in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ermining ethics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ing levels of real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38468-845E-4ECD-8548-3B627462EBB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22D6C0F-FB0D-48C0-9F9E-FFAAB8CA9B2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various dimensions of a game world and understand how they affect the player’s experience of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physical model for your game world, including its dimensionality, scale, and what happens at the bounda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the relationship between game time and real time and decide how time will behave in your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AF37F-56A6-4E83-96D8-AB24074B4AF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0DD3F5E-1B4B-4811-AB04-9C0B564E2BA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the culture and environment of a game world, set the level of detail, and define a visual and auditory sty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some of the techniques for influencing the player’s emotion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B0A32-B857-455B-9550-7400472AD3A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2FCD5DF-0A0E-4317-81BD-03E0FA1E495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aware of how the ethics of a game world can differ from the ethics of the real world and the implications for public acceptance of your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multidimensional nature of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realism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s it applies to games and how it affects the player’s expectations about the experience the game will give h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0E0AE-8637-4424-8087-02D1512265D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375E9BF-4E20-4A2D-ABE9-423E1051B8B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 World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aginary place in which the events of the game occu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esented by images and sound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t all games have a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world can have a culture, an aesthetic, a set of moral values, and other dimens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65632-36E4-48B6-A543-B0D9D00E58B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90B73E6-DBFC-43C1-829E-F1E72033423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urposes of a Game World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tertai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nd sustain intere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l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57281-833B-47E2-BCC7-295E6C3DD8C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B0D2BF3-0451-4631-99DA-B77D6BDEB51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imensions of a Game World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mpor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vironment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thic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FD1AD-45A6-4164-8466-BFA4BE740BD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80E73E2-2DB6-4380-B806-6BCB20790CE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hysic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ed physical sp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ized by dimensionality, scale, and bounda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0F4EC-1ADE-4A31-9713-64E0049B072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75724A6-DAC7-4154-9120-FCF0E24261E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hysic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tial dimensi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, 2.5D, 3D, 4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is now standard on PC and conso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a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olute size of the space and relative size of objects and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ffected by choice of camera mod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ounda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stablish a credible “edge of the world”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BE069-00AF-4FCF-A253-5DA740BD124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C97ADF0-F5CF-4D3B-BAB3-CFEC32AF712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5:02Z</dcterms:modified>
  <cp:revision>133</cp:revision>
  <dc:subject/>
  <dc:title>Fundamentals of Game Design, 2nd Edition - Ch 4</dc:title>
</cp:coreProperties>
</file>