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C2FE0-5938-4970-B447-99BCB7EC4D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non sequitur is something that does not follow logical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isimilitude means having the appearance of truth. Sports games must be realist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17B3B6-63C2-4237-A0DD-4D20E723F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CE45E5-174E-4466-81A8-342F098C5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F14AB9-DE84-4D73-839E-01E4FDB48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279147-FFB4-419D-AC21-30DD05BF1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973CC-5D1C-469E-826B-E394A3E98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B7409-5917-4878-A5F9-944A7E8B0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7ADDF-8D53-4E98-84C8-BFBAF7C4B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C4FBB-D0E2-453E-982F-51CAA8BFA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E7D0D-807E-497B-ACAF-207A3F9EC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71355-A0F5-4BF6-B666-52B81ADF8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E7E83-5A28-4AEE-8BFF-C668B7DDC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0A6238-C467-4F25-AD50-69EB7E9C6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24A15-DB64-44CE-A289-AB1BD739E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36B1B-6A42-436E-83E3-94929F0AA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E12F9-0902-49BD-B8BB-D5D4BF22C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A2731-6349-4D54-9867-E48F9B04F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38CB2-4451-46B6-8B40-701CE6EAA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3B470D-F0D1-455C-9FFC-447E09DB8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DCEC1B-07B5-4D97-A168-997D360E4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97E6DC-D934-4080-83DE-6D539ADCF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8EFED6-6B82-4069-A0D4-60F4A0285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7F9E63-FE25-4905-8B2F-33C27554B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7D6C95-111F-4A15-93DE-964798B26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BBCE66-7871-4611-BC78-96EE076B0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01760" y="6248520"/>
            <a:ext cx="3375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12 General Principles of Level Desig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EE1BB-A6FA-40C5-A83F-60BE5175BDBF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54B9F-7BAE-43B4-874F-B3EBD4D8C26C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0DA0C-1DC5-4B8C-AB0C-1033EE78AF4A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12: General Principles of Level Design</a:t>
            </a:r>
            <a:r>
              <a:rPr b="0" i="1" lang="en-US" sz="1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480060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Layout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arallel layou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Modern variant of linear layout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Variety of paths can go through th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Can reflect a foldback story structure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ing layou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Path returns to its starting point 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Oval tracks or twisting road-racing tracks are ring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Used for racing game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649520" y="4191120"/>
            <a:ext cx="1457280" cy="21589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5791320" y="4114800"/>
            <a:ext cx="2133360" cy="21337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595552-F653-472F-9958-501F970E1FBB}" type="slidenum">
              <a:t>10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2AC705E-51C0-48EC-A825-CFC877D370D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Layout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Network layou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paces connect to other spaces in different way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Give the player freedom to take any path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tories must be able to tolerate player experiencing events in any sequence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Hub-and-spoke layou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Central hub is usually a safe zone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Provides some choice of where to go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Lock off some areas to control sequence a little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600200" y="4419720"/>
            <a:ext cx="1905120" cy="185724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5638680" y="4343400"/>
            <a:ext cx="2286000" cy="19018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0E06B6-F75F-44AA-861F-035E937E6886}" type="slidenum">
              <a:t>11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6A049B5-BDB7-434E-A8E4-9BC1E375EE0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Layout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binations of layout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ombines aspects of several layout typ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ole-playing games and adventure games often use combination layou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768760" y="3429000"/>
            <a:ext cx="3605040" cy="2679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D2AD4F-FE57-4444-B6F4-A0FE2290BBE5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3CFAC3F-9F75-45ED-8F79-82DC86BD65D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Expanding on the Principl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evel designer assembles components to create the atmosphe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ight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lor palett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eather and atmospheric effec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pecial visual effec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usic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mbient audio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pecial audio effec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37FCD2-93EF-485E-8755-626C4473109C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A939CDF-C027-4CCB-B3BB-71ED7B6D4C8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Expanding on the Principl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rogression refers to change or growth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 designing progression, consider these factors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3505320"/>
            <a:ext cx="3886200" cy="23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507960" indent="-393480">
              <a:lnSpc>
                <a:spcPct val="105000"/>
              </a:lnSpc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echanics</a:t>
            </a:r>
            <a:endParaRPr b="0" lang="en-US" sz="2200" spc="-1" strike="noStrike">
              <a:solidFill>
                <a:srgbClr val="ccccff"/>
              </a:solidFill>
              <a:latin typeface="Arial"/>
            </a:endParaRPr>
          </a:p>
          <a:p>
            <a:pPr lvl="1" marL="507960" indent="-393480">
              <a:lnSpc>
                <a:spcPct val="105000"/>
              </a:lnSpc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xperience duration</a:t>
            </a:r>
            <a:endParaRPr b="0" lang="en-US" sz="2200" spc="-1" strike="noStrike">
              <a:solidFill>
                <a:srgbClr val="ccccff"/>
              </a:solidFill>
              <a:latin typeface="Arial"/>
            </a:endParaRPr>
          </a:p>
          <a:p>
            <a:pPr lvl="1" marL="507960" indent="-393480">
              <a:lnSpc>
                <a:spcPct val="105000"/>
              </a:lnSpc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ncillary rewards and environmental progression</a:t>
            </a:r>
            <a:endParaRPr b="0" lang="en-US" sz="2200" spc="-1" strike="noStrike">
              <a:solidFill>
                <a:srgbClr val="ccccff"/>
              </a:solidFill>
              <a:latin typeface="Arial"/>
            </a:endParaRPr>
          </a:p>
          <a:p>
            <a:pPr lvl="1" marL="507960" indent="-393480">
              <a:lnSpc>
                <a:spcPct val="105000"/>
              </a:lnSpc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ractical gameplay rewards</a:t>
            </a:r>
            <a:endParaRPr b="0" lang="en-US" sz="2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952880" y="3505320"/>
            <a:ext cx="388620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507960" indent="-393480">
              <a:lnSpc>
                <a:spcPct val="105000"/>
              </a:lnSpc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ifficulty</a:t>
            </a:r>
            <a:endParaRPr b="0" lang="en-US" sz="2200" spc="-1" strike="noStrike">
              <a:solidFill>
                <a:srgbClr val="ccccff"/>
              </a:solidFill>
              <a:latin typeface="Arial"/>
            </a:endParaRPr>
          </a:p>
          <a:p>
            <a:pPr lvl="1" marL="507960" indent="-393480">
              <a:lnSpc>
                <a:spcPct val="105000"/>
              </a:lnSpc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ctions available to the player</a:t>
            </a:r>
            <a:endParaRPr b="0" lang="en-US" sz="2200" spc="-1" strike="noStrike">
              <a:solidFill>
                <a:srgbClr val="ccccff"/>
              </a:solidFill>
              <a:latin typeface="Arial"/>
            </a:endParaRPr>
          </a:p>
          <a:p>
            <a:pPr lvl="1" marL="507960" indent="-393480">
              <a:lnSpc>
                <a:spcPct val="105000"/>
              </a:lnSpc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tory progression</a:t>
            </a:r>
            <a:endParaRPr b="0" lang="en-US" sz="2200" spc="-1" strike="noStrike">
              <a:solidFill>
                <a:srgbClr val="ccccff"/>
              </a:solidFill>
              <a:latin typeface="Arial"/>
            </a:endParaRPr>
          </a:p>
          <a:p>
            <a:pPr lvl="1" marL="507960" indent="-393480">
              <a:lnSpc>
                <a:spcPct val="105000"/>
              </a:lnSpc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haracter growth</a:t>
            </a:r>
            <a:endParaRPr b="0" lang="en-US" sz="2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B9FA5D-830D-4EC2-92B3-2ECAC0C5ADB1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6C2BD4C-2A92-4D70-8A74-E138827AC70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Expanding on the Principl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acing refers to the frequency of individual challen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enre affects pac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ultiplayer deathmatch shooters use the fastest pac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dventure games use the slowest pac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ary the pacing with fast and slow period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verall pacing should remain steady or become more rapid near the end of th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85AC41-D724-4AF4-AB9A-2EF3F0B9DAA6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14DBE9E-B0B6-46AA-B1D6-92D96466CFD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Expanding on the Principl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utorial levels teach the player how to pl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omewhat scripted experience that explains the game’s user interface, challenges, and action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troduce features in an orderly sequenc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witch off features not yet introduc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f the game is complex, use more than one tutorial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Highlight screen elements when you introduce them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Let player go back and try things again convenientl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oiceover narration or text can explain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ign rule: Make tutorial levels </a:t>
            </a: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optiona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02FAF2-0E1D-41F6-B8D7-968261A3DBF8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86B20B7-95E1-4023-9E8A-5B0F5A732DB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Level Design Proces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ign to level design handoff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ist features in th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eate a rough overview map of th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nning phas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n the level in detai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n the sequence of even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ocument the gameplay, art, performance, and code requiremen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05E09B-A3FC-40A4-8FDC-13485AC2D641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185677C-884B-4840-AE20-E76BD02EF0F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Level Design Process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rototyp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struct temporary models of the landscape and objec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dels serve as blueprints for the art tea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evel review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view the prototyp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eedback from the design, art, programming, audio, and testing team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052E26-07F6-42CB-88CB-C7716C4EBA01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ED8061F-AEA5-468C-AADF-6BFF42AE211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Level Design Process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evel refinement and lock-dow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ke corrections based on feedback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view and correct until the level is flawles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ock th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evel design to art handoff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ive all files to the artis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ell artists how the level should look and work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tact the audio team for any needed audio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027B31-D020-4DFF-BCB4-3B1A57045A8D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7CF24E7-7E92-4BE5-886A-E43E60BAF68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how level design can enhance or undermine a game’s story and gameplay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difference between universal and genre-specific level design principl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ist the possible level layouts and understand when to use each and how to combine them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C55E02-48DC-4EB6-8035-AD307EB1C9CF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F79CB00-329B-47A5-9DF7-92B6C0A53D4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Level Design Process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rst art and rigging pas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rt team builds the real artwork and rigg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You might need to incorporate the new content into softwa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rt to level design handoff and review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ceive final artwork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duct a review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D55DE1-5BE5-4DA4-96C1-682E8436E43D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CD9D80A-11A6-4768-8CCC-65801DE8F35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Level Design Proces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ntent integrat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ssemble all the assets into the completed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djust any rigging as necessar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Bug fix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est for bugs and mistakes and hand off to QA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er testing and tuning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QA creates a test plan and begins alpha test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hen thoroughly alpha tested, hand off to beta test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859272-8A4A-4160-AEC7-9342CAFC67A4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99B5127-28C1-4EAB-A2E6-83134B12239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itfalls of Level Design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et the scope righ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sign within your available resour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t’s common to design something that’s too bi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void conceptual non sequitu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llogical events in a game make it harder to pl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s should be rewarded, not punished, for using their intelligen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3E631C-FFBB-473A-B9BB-CF18D4F0AAF0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897C7C0-2072-41A7-9190-01E8022226E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itfalls of Level Design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ake atypical levels optional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typical levels break the player’s suspension of disbelief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typical levels could prevent some players from completing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on’t show the player everything at onc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troduce new features graduall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intain the player’s interes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3D0FFA-A5D1-4731-8952-D6E89E24C257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E5EBC02-1A9A-488A-BEBA-6F91988B8B9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itfalls of Level Design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Never lose sight of your audienc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-centric approach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nderstand your target audience and deliver what they wa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ead the “Bad Game Designer, No Twinkie” articles for more examples of design erro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ww.designersnotebook.com/Design_Resources/</a:t>
            </a:r>
            <a:br>
              <a:rPr sz="2600"/>
            </a:b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o_Twinkie_Databas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C5E909-4F8C-4F0B-933D-26FC207EC580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8378E28-8A15-4CB0-9017-5AB0A1E9498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cribe level desig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apply key design princip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create a variety of layou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create atmosphere, set a pace, and build tutorial leve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complete the level design proces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avoid common pitfalls of level desig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2FCF8D-75BD-409D-A6EE-397E618DCB7C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91F6274-2D8C-468B-A490-390E40BDF7D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the importance of atmosphere, pacing, and progress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cribe the key aspects of the level design proces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ecognize some of the pitfalls of level design, such as inappropriate scope and conceptual non sequitu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2706CC-ED22-4772-AABE-731A990A8EF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7EAC9CC-D30D-4626-952B-018C3A1F06E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Is Level Design?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3428640"/>
            <a:ext cx="4038480" cy="270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69960" indent="-325440">
              <a:spcBef>
                <a:spcPts val="60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Space in which the game takes place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Initial conditions of the level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Set of challenges within the level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0" y="3429000"/>
            <a:ext cx="4038480" cy="25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69960" indent="-325440">
              <a:spcBef>
                <a:spcPts val="60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Termination conditions of the level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Interplay between gameplay and story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Aesthetics and mood of the level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evel design: constructing the experience for the player using components from the game designer</a:t>
            </a:r>
            <a:endParaRPr b="0" lang="en-US" sz="3000" spc="-1" strike="noStrike">
              <a:solidFill>
                <a:srgbClr val="cccc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evel designers create:</a:t>
            </a:r>
            <a:endParaRPr b="0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DE56C9-1EBC-4A21-AFD3-E4FAF6BEA951}" type="slidenum">
              <a:t>4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31B3B9E-CC0E-4131-BEF1-0BBC26D1F7D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Key Design Principl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iversal level design principl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ke the early levels of a game tutorial leve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ary the pacing of th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hen the player surmounts a challenge that consumes his resources, provide more resource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oid conceptual non sequitu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learly inform the player of his short-term goa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B6746D-573E-4F3B-A57E-9FDCF98C498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CCB4E71-DBD4-4D8B-8379-0E538D76783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Key Design Principl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iversal level design principle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e clear about risks, rewards, and consequen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ward the player for skill, imagination, intelligence, and dedication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ward in a large way, punish in a small way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pend more resources (polygons, memory, CPU time) on the foreground than on the backgroun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purpose of an artificial opponent is to put up a good fight and then lose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mplement multiple difficulty setting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F35F50-CCA0-4F6F-B59F-706C9F6FBA1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7C2B047-4F80-4FFB-84E1-454E3DEF6E2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Key Design Principl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enre-specific level design principl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ction gam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v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ry the pa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rategy gam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r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ward plann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ole-playing gam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o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fer opportunities for character growth and player self-expression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ports gam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v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risimilitude is vita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ehicle simulation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r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ward skillful maneuver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AA1AC5-EB78-45BF-8D5E-457AE330078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B4B98E5-91CF-4ED3-B985-E15A0F40E4F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Key Design Principl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enre-specific level design principle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struction and management simulation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o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fer an interesting variety of initial conditions and goal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dventure gam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c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nstruct challenges that harmonize with their locations and the stor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rtificial life gam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c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ate many interaction opportunities for the creatures in their environment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uzzle gam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g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ve the player time to think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639B73-EC0A-4D15-B122-C86583A599EF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28D57F6-627D-4592-A9A1-EA97EAB678D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Layout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Open layou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Allow unconstrained movement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Correspond to the outdoor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Used in war games and role-playing game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Linear layou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Require player to move in a fixed sequence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Player can move only to next or previous area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Used traditionally in side-scrolling action games and rail-shooter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5791320" y="4398840"/>
            <a:ext cx="2361960" cy="19288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F275E7-8FA8-4ACB-B352-6E666D0C2204}" type="slidenum">
              <a:t>9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2343696-51B7-4DD2-8B5A-27FD2D65659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6T18:59:45Z</dcterms:modified>
  <cp:revision>242</cp:revision>
  <dc:subject/>
  <dc:title>Fundamentals of Game Design, 2nd Edition - Ch 12</dc:title>
</cp:coreProperties>
</file>