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A7C63-F0D4-4715-97F5-BA53CEAE1E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ually known as mo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avatar represents the player in the game world. Frequently, players make avatars that physically resemble them or how they wish they appear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ind students that play is always limited by the softwa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821B11-7BBD-4C21-9F92-897C77F24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916BD8-849F-4AEF-906E-7138CE34E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27E3DC-F8B3-45E7-8D6F-4B7342353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A575B6-5307-432D-9DE3-ACA5F4046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F633D-F32C-4A79-8948-B01ADEFAF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B063C-87B2-42E9-8CF5-31EAF21D6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2FD0D-AA3E-4FF7-BDFD-EAA098023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D3CEB-908F-4407-BC2C-DFE91F536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4B021-196E-4902-941C-BF81E764F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77856-BE18-421D-B09E-D9E2D98D3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3A141-81F4-46FD-99C5-AB60A2800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802802-7EF6-4157-8C52-B3F40ECED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2C39E-A0DC-48CD-9C71-289B9E979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92AF3-41FC-43F9-822B-020F1B785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9628C-00B8-4D22-AF62-ABE7CFE8E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768F1-4CF5-4371-8450-9598F49DF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07C5E-3CD3-419D-B818-DCD0FC11C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B5BB23-6FCB-4A50-9829-61A683BC3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0BBAD7-6E82-414E-88F1-DBBB4E251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9E75AE-B267-4AB7-8BE4-AC5D998F8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1A7ADC-4417-4C3B-B7AA-73CCC1CD0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BA7580-9479-4449-879E-9C33B19A7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1A48A4-BBF4-46CD-A5AB-D06D3217C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C881E7-0532-4352-AC9F-5BF569239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2120" y="6248520"/>
            <a:ext cx="3070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5  Creative and Expressive Pl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C62D8-90B5-4F34-AFBF-10E6D304AF3A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8CEA7-A0A3-41E0-8B35-99B7A72F2B26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FD0D4-CE92-48A4-A7F7-5CC88C75D6DC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5: Creative and Expressive Play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easuring Aesthetic Creation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like physics, computers have no innate way of measuring aesthetic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must provide a system. Some possibilities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ixed aesthetic rules (e.g. certain colors clash)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ystem of trends the player can researc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ow public to vote onlin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19CCA4-41E6-43BC-8132-42783A8A5B79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68F24D8-0B62-45B8-B347-0E2BFD53B1B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Freeform Creative Pla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ovides unlimited time and resourc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raditionally known as sandbox mod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ually offers fewer rewards or no reward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A549FD-2DD8-4369-81C1-C80144498DCA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7CDE3F8-ED4D-4768-B515-958C96DA330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torytelling Pla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ovide features that allow players to create and share stori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rums and captured images assist this abilit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9C924A-8914-4270-9033-4913D19D886F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F450A40-BAB5-483F-BA56-E563814899C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Modification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r utmost creative freedom, allow players to modify the game itself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o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opular with core gam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xtends the lifespan of a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You have no control over the mo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owing players to create mods can put the reputation of your game at ris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56AF4D-2C61-4F6A-93BE-772906AC74B4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A0B05A8-EC1E-4A9A-AFE4-D0F82F63E54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Level Editor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llow players to construct new levels for a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may be able to construct a new landscape, place challenges in it, and write a script for the game engine to ru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ools must be included with the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29EDD5-1177-4E1D-90B5-7B797A990C3E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FFAB836-CCE4-4FAD-855B-7CAD0660D34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Bot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rtificially intelligent opponent that the player can program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s create tougher opponents than the original game include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620573-480B-4688-9BD5-F027DDD6C8FE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4AEC973-8BDE-44E4-B27C-BDA8F6DC893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players express themselves through their avata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provide creative pl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provide storytelling pl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y players create mo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B9ADB2-536B-452D-ACA1-5D3A72341C10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4FA3079-1022-4FC9-B122-1B4897FA087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cribe self-defining play as a way a player can project his personality into the game world by selecting an avatar and the avatar’s attribut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xplain creative play as a way to allow players to design or construct as part of the gameplay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AE4216-313E-4AF4-BF16-22E9050ADD5C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6085611-DAA1-44ED-802B-B94C7F78071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he difference between constrained creative play and freeform creative play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how games can provide storytelling play by allowing players to create stori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ist ways in which you can provide additional creative freedom by allowing the player to modify a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516FE7-FC40-414A-81C1-948C8EBCCA3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1507D0D-8E74-44FF-858A-E02C8847D92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elf-Defining Play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ets the player project his personality into the game world by means other than gameplay choic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ethod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atar sele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atar customization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atar constru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7F619F-E6B5-4AF0-9E6B-6A34DB7FEA5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8122876-4839-4D55-8B20-F3A4E8861D2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Functional Attribut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unctional attributes affect game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racterization attribut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efine fundamental aspects and change slowly or not at al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atus attribut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Give the current status of the character and may change frequentl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When players assign values to characterization attributes, they define themselves in a creative w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9D622A-17CE-4504-B71E-CA9B193A67F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001400B-B3D2-493A-B526-D665DA8E2FC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Functional Attribut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llowing players to set all functional attribute values may introduce bugs; instea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ive players a fixed or random number of points to assign among all attribut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clude a set of default or recommended settings for new players who want to get started quick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ow players to earn the right to set their character’s functional attributes any way they lik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C5AB88-EEAB-4E56-8BCF-C9972103E6E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DB2DC6B-2461-4585-8B69-52FA5EA6049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smetic Attribut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smetic attributes do not affect game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smetic attributes make a game more fun at a low implementation cos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ypical cosmetic attributes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eadgear, clothing, shoes, and jewel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air color, eye color, skin colo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ody type or siz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aint color, decals, insignia on vehic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D1960F-3F33-4C27-91C1-DBE521E746C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EA58A59-594E-422C-9939-8F87B7B90D1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reative Pla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llow players to save and reload crea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mputerized creative play can be categorized a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strained creative play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reeform creative pl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6D828B-A61B-4D71-8B30-2103CAA15567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1BD3C6E-992E-4F50-99AE-BB651BD42E3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nstrained Creative Pla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player can create only within artificial constraints imposed by the rul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 can be limited by the econom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n require that the created items meet specific physical requiremen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n require that the created items meet specific aesthetic requiremen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10C871-EE6E-410A-B365-880F4D6AA31E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78B555D-F1BE-454D-B816-42AAF9475AD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6T18:55:38Z</dcterms:modified>
  <cp:revision>136</cp:revision>
  <dc:subject/>
  <dc:title>Fundamentals of Game Design, 2nd Edition - Ch 5</dc:title>
</cp:coreProperties>
</file>