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4983-C807-456F-B46A-9BDAB377E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nomalous time: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me Par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isitors to the park appear to stay there for months according to the game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details create a rich game world. However, the player can’t micromanage everything. Make sure that the player’s role doesn’t become bogged down in managing unimportant detai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68CD5-6AEB-4265-877A-C1A4927AA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8D146-472E-487B-857A-30290666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296FE-BAF1-4754-94D5-00D353017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E1AF6-744C-4377-AC19-476413C46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0625-00D9-4076-99DC-CC8AE05F7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1CBC-99F6-4810-BF3C-276786A4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1AEE-2E9A-4837-AC63-0C6B1179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9103-DC52-4207-BF14-EA54E60D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B2A3-71E4-4299-9A7E-98CEB839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2D94-078E-4EE9-901D-88AC6DCE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49DF-00F7-4F17-8F5B-8D8BAEDC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5383B-5CC2-401E-A061-23D6ECC2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56A4-3CDD-467C-892F-4FC38780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6AE72-0F64-4225-BECB-5E22C8B5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C1DF-FE01-4626-B1DD-92261CB8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3347-A8F1-46C9-8B85-7763CFA43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2FFC-3D32-4A26-A91C-6D096932E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8ADE5-4C79-42FE-AB44-5AB6047B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1F812-5CA5-4898-8C72-3C14172C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474F4-A459-4BE2-A503-00769E56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710B1-2EA0-41B8-B9AF-E03CCCB7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C217A-DF96-4D2F-ADB2-FD18E14E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53563-8DB0-4EE2-B6D7-85BED641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01A6F-7F84-4A6B-AA42-08629C1A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4  Game Wor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C5A4-BE56-4D11-A71D-E8A0C2283A10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5BAA-DD15-4EA1-AD94-B1728F177FCA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1B47-CC59-4290-A53C-EBAC0CCF558D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4: Game World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empor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the way that time is treated in the game world and how it differs from time in the real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ble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time usually runs faster than real time, and jumps or changes 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omalous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e can move at different speeds simultaneously in different parts of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ome games, the player can adjust the speed of time 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12B70-F708-4F84-86B1-22B8A021BA5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F9F961-7DA8-4C30-A4B4-D6B6AA32B8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s the world’s appearance and its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ms the basis for creating art and audi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s cultural context and 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E15F5-DE15-4DF8-827C-116C542622B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93B120-6A2F-4356-ABCB-68C8E9A701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ultural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liefs, attitudes, values, political and religious institutions, and social organization of people in the game worl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s every manmade item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r interface and backstory should harmonize with the cul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B8935-E8C7-4FBA-BA26-DBED2E35E7D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E346CA-2B13-48E5-B86C-A3800D9094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every manmade object, natural object, and sound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one and m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make surroundings uniqu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s much detail as possible until it hurts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yle includes both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nt of the world it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at content is presented to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DAB4F-0610-4A90-B340-8E8712ED74E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889599-F93F-456C-8532-4496B9C24F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motion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reated in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an be caused in several way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ing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ing with th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re sophisticated games move beyond “fun” to richer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“paint-by-numbers” emotional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1008A-68BE-4692-B2D7-68F2B9A6FFE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C8D450-F58D-4488-8A9A-6D4EDABAF2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th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right and wrong in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rt of the culture and history in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ild richer, more involving games by giving players tough moral choices to mak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violence for its own sake; give it a purpose and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game world ethics are unrealistic, make visuals unrealistic als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AE16E-98AB-4DE2-9938-836C967747E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692B6C2-088F-4EBF-83FE-9EB5A954C9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ealism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s, no matter how realistic, require some simplific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gree of realism of any aspect of a game can be found on a continuum from highly representational to highly abstr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of realism differs in individual game componen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have realistic physics but cartoon graphics, or vice vers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7A54C-CBC6-478C-9F3D-477A84CCD6F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B0D305-5ABA-4F36-84D8-EDC06081B5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urpose of a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physical dim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assage of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the enviro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emotions i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rmining ethic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levels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36891-B1EF-44D9-9CF6-E15801D6AAE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D66329-E788-4A89-BAD7-18E6F79F55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arious dimensions of a game world and understand how they affect the player’s experience of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physical model for your game world, including its dimensionality, scale, and what happens at the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relationship between game time and real time and decide how time will behave in your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60BC6-456B-48C5-9DE2-0D85A58AF2C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143A36-A320-46EE-A5D5-2B2D08DD18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the culture and environment of a game world, set the level of detail, and define a visual and auditory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of the techniques for influencing the player’s emotion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DD7D7-DCAE-4C55-AA90-A63BE64F9A1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F978E4-154B-4CD7-97E9-A35A43644E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aware of how the ethics of a game world can differ from the ethics of the real world and the implications for public acceptance of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multidimensional nature of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alism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s it applies to games and how it affects the player’s expectations about the experience the game will give h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301D0-FB35-4DB4-8555-16D8296415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1D8FC8-7096-4029-A04D-F76A1DB379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 World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aginary place in which the events of the game occu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sented by images and sound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 all games have a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world can have a culture, an aesthetic, a set of moral values, and other dimens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816FF-EB42-4F36-BC29-8E19DCC17B0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A6B949-AC45-4FEA-88DA-B98D44A9FA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urpose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tertai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nd sustain inter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l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0F07C-95CA-4EEE-B73A-34DEF388EE2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C8FCC3-3A91-4E29-A34D-34BF80D3F4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imension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mpor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vironment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th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0F533-FA68-4A91-9321-E0206A3FBF5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8554DE-1A92-4955-AB07-E342C9D928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d physical sp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zed by dimensionality, scale, and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B8F97-B09A-49BD-B6FC-BBC3EC84227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321C62-B648-4F76-ABDB-5922DE36E0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tial dimensi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, 2.5D, 3D, 4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is now standard on PC and conso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a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size of the space and relative size of objects and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fected by choice of camera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unda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stablish a credible “edge of the world”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E6B5C-FD3A-41FA-9EBA-C2C27D15FD7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4B5102-C31D-4B27-A190-A826F1A374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02Z</dcterms:modified>
  <cp:revision>133</cp:revision>
  <dc:subject/>
  <dc:title>Fundamentals of Game Design, 2nd Edition - Ch 4</dc:title>
</cp:coreProperties>
</file>