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B6698-D269-46D7-BB7C-1E6F36D3BD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160FB-9F2D-4973-855A-0605484F2B28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D2DC6-ABEB-4B66-9C75-F3765F988927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73BB5-8363-4C27-BEF6-E7289ACF9C1B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19879-5A61-496D-90CC-4E13F177C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4C390-8CAF-4888-9B62-C651CEB40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E4EC8-9A2A-457B-BDE7-BD305F1C2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68C08-BE0D-4605-BCB1-B8BE6D701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4E056-5B2A-4161-9873-2B4676699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40D8B-569B-48CE-81E7-431952727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C7F96-B3DF-4C0D-AA31-D22B032AE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F0772-34B4-4FE8-9FDF-604C01327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2EBC8-0B1C-43D9-9F76-C62CA328A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941A5-98D9-4ADF-8A93-B35105856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E7013-E65B-4A77-A412-F5768090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84F56-88D5-4291-AA9B-200F10725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AB9AE-89E9-42B1-84C3-8FAD4EFC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0E7FF-123D-46CC-810E-522F5465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434B9-5969-4B44-8BE1-2D71D4E10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B29A1-EBC0-4AB1-9AC5-C70963948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F343A-F4E8-429D-95ED-698CBB175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D3F0B-24C3-4826-9611-2AEA8D1AC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17493-3B1A-4C28-B1CA-1525C8265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40AF2-5B99-440D-BC8F-A50BEB5C5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D3BCF-F86D-4F61-AA61-E416E83EE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64BEB-F611-4C03-AC70-5F8F9437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955A4-5363-460F-A710-F3AE8780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103E0-A653-4EA9-BFCF-2F7EDCAF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7 Vehicle Sim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B80DA-D2B5-4F45-834D-21A95084C0D9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B300B-52CE-40FE-A3F7-3F646E9FFA82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EF04A-8B3A-4CCA-B696-104D2D9A334C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7: Vehicle Simulation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ehicle simulations are technologically oriented, so the core mechanics are almost entirely about phys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oppon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different vehicles with different 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ify the behavior of individual oppon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63C7A-320D-4306-94BA-33079B932EB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43CAF2C-E8F0-4589-8AF1-F32621D198F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am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ildren’s games can ignore damage to the vehi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amage can be modeled as a single variable like health poi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urate modeling divides the vehicle into are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cks damage in each individual are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utes damage’s effect on vehicle performa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3567E-C4AD-4A59-BFA2-40136D5C564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3E5C0B1-5AF5-49B9-B83B-A39981391E5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br>
              <a:rPr sz="4200"/>
            </a:b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andscape is an important part of the entertain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ight simulators—setting is the plane and the grou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iving simulators—racetrack, road, or off-ro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ther affects vehicle hand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ider adding people to racetracks and airports to enhance immer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2C166-6D48-4C79-9F9D-ECC51306855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76D10EE-0B7A-4ABE-BCB6-179373AF94E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Vehic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oats and ship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luid medium changes handling characteristics, making it different from driving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rge warships simulated as parts of fle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bmarines are popular simul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iling simulations are r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cean is not modeled accurat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reline is usually correc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pth, tides, currents, reefs are no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01A34-9133-4A9D-AB32-F66CFFAB555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6C2BBD7-8D2A-42FE-90D3-250EA13E888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Vehic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anks and mech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tating turret on tanks adds complex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ch is an invented mechanism unrestricted by re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cecraf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spacecraft simulations are science fi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modeled accurately—similar to fighter pla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F42F1-F5DD-448F-89F8-6BD256345FB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9655A1F-08C4-4654-AE1E-27854B8920E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tellectual Property Righ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ly, you can simulate military equipment without obtaining permission from the manufactur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simulate an existing car or other civilian vehicle, you need a license from the manufactur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0C5C4-4C1D-411A-85CD-78F532AA064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CDFFEA0-02D5-41DB-B70A-F55459D5ED6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—vehicle is the avatar; view through cockpit wind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common to driving and flight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ilot’s/driver’s view—defaul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ckpit-removed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s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ar, side, and front view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ee-roaming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9B11C-9B1F-4919-A6A2-3D3CCC494C8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F05671E-BD6C-4ED6-A718-643EAA8BB9A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unique to military flight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round target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omb or missil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unique to driving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ck-sid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randstand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limp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23327-A9BF-46BD-8501-E80E46705BB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E330172-D28C-4FE9-964F-169C6579E77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iggest challenge is mapping vehicle’s real controls to those available on target mach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ifi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ilitary simulators require some simplific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ight simulators commonly simplify navig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flight simulators produce automatically coordinated fligh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243D3-1F1A-420F-9C63-1E293231E24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AA57534-2EA4-41A0-BC76-86EDCAE693C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the sense of speed—critical in driving simul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play a speedome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y the driving surf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 roadside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soun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-fo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ilitary planes can show a G-force me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ilots can black out or red ou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DD14D-1B98-4CD9-88E1-A30AED05F57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A98739E-9588-4C43-8E7F-2912DFD283C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different types of vehicle simula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how the design of the game world influences the player’s perception of spe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some ways to design artificial opponents for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A37D3-D93C-45EC-8AB5-4D613DC03E7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81921F5-DE8A-4E8F-B69C-BE0DF13C79A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different types of vehicle simula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vehicle attributes and 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I oppon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list the requirements for a military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the UI for a vehicle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BBD71-D72C-48E9-8EA6-13615EDAD58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DBF680C-F278-43B1-8EE7-01ED4A51A61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distinctions between military and civilian flight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the various views often used in vehicle simulation interfa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F70E4-1EE0-403F-AB66-4AA8613472B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1910A32-6184-4063-A4A6-A2DA47CBB51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Vehicle Simulation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eels like driving, flying, or controlling a vehic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ons vary from realistically handling the vehicle to adding game mechanics such as combat, racing, and speci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ce and water vehicle simulations follow the same fundamental features as flying and driving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2D734-50F9-4149-91FE-EB9557E2440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804519C-DF86-467E-A301-B501EA840B6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ight simulat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ulators are realistic and don’t include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 are simplified but provide tactical conflict as well as physical challeng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iving simulat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ganized racing is driving in an existing racing class; requires licens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aginary racing uses imaginary situ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D3679-F1BE-465B-97F8-666D8C943F2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8638C2E-76C9-4F93-A862-8122A754F06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rists demand highly accurate simulations of real vehic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sual players don’t care about the details as long as they can fly or dr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70646-1168-4940-91C5-08A880A40A2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51FD01A-3958-4887-AFEA-EE07D546741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’s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light simulator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lot or military positions such as navigator or bombardi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cing-oriented driving games—driver or mechan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D453A-4D87-49B0-98AD-D01A18FE71F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A470793-0D07-4DA6-BB98-9B11100AADC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—similar to first-person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ulators—single-player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iving simulators—single-player games or multiplayer r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 and organized race-driving simulators—often include career mode and campaign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7D039-EEB5-409C-ADA3-BDB2E75C81D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8BF4487-0DAE-492E-BF39-440CA10EB76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and victory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challenge is controlling the vehi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s must also achieve the mission obj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ype of plane determines gamepla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ny offer a series of miss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s seldom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ganized racing sims take gameplay from the real r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8474D-1783-44B4-A48D-F9BA05DFFD2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4727B53-D6C9-4D3E-BB50-A12E4549159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3:51:43Z</dcterms:modified>
  <cp:revision>383</cp:revision>
  <dc:subject/>
  <dc:title>Fundamentals of Game Design, 2nd Edition - Ch 17</dc:title>
</cp:coreProperties>
</file>