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6E07-0C76-41C8-AB54-9648929F0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ers must lose arcade games to keep putting in mo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BA4C4-5A87-41DD-967B-D6FF2E99B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3D198-C68A-45C9-A903-3ED5B31E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957A1-E1A3-4EEB-9A2B-BB813F8FA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FA54E-56CC-4FF8-9F5A-AE406801A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226D-086E-4477-8597-60339B664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531F-D508-4DA7-80F8-21EB9471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90E3-558F-4A7D-B3C9-F69991B3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8A64-D391-4EE5-BBBC-938A0EB0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CE81-D966-432E-B9EA-BCF37A35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2856-53EF-4624-BC3D-30C79B27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DDD1-9185-44F8-9F9F-68013DA3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69EFA-5628-41C5-9759-6DBD6F9B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3806-C982-4F92-98AD-F0C84E8D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59ED-231F-4F95-B145-EC1CC9E6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89D7-F161-441E-B74A-C2DE1FD5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C739-348B-4965-9113-368B94B50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91A9-FB4A-47F6-82FD-EC0ED1C63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C07AF-3729-4C89-A303-E928B723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46D92-2312-4C4E-AF67-07A641ED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BFDA9-E57B-4101-8FB1-FAB47701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2B2B7-2FF2-42F0-B108-296D24A7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C68F4-493B-4BF9-A699-8D77DDF7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C30FF-23F5-4009-8ECF-E45D30DB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7444B-8E01-4A99-975E-DF92FDD0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3 Action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5E15-598A-4DA6-83B8-5232F53B7117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1FED-C34A-405A-A611-2BB745365112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D606-5745-4A09-A33C-2B18EB369EA5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3: Action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shooting, hand-to-hand fighting, or abstract puzzle-solv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skills such as maneuvering and path plann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A2153-B220-49DA-B0C4-9AF8B1908D1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6F4449-3CCC-454E-A40A-71AD970530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s usually completed in linear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s often grouped by theme and end with a bo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ixed challenges are easier to build, but repetitio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killed, avatars reappear at a checkpoi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exits, level warps, and 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exits lead to the next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warps exit the level and jump ahead several leve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leporter jumps within the sam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CD0CE-8221-4001-BC05-A4EF1258539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961BE6-D1B0-4656-9CD1-DB29CC9823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your pac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ainstorm ideas for moments of excit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der ideas by prior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story frame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key events for intensity, and sequence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and sequence story plot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ime between high-intensity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aluate the tre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constructing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eratively test, review, and adju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49732-8DC8-4479-88F3-9AC682CCE03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B03273-F7D9-4F72-8E1C-0630E3FCD4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s typically faced by three kinds of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ssive obstacle impedes movement without threat (wa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onary danger attacks approaching avatar (electric fence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ve dangers attack and move arou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F418F-5B46-446C-83B7-FB274DF284D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2A4649-D722-4018-9F6B-3D6069B18A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v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mies attack in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ig boss guards the end of the them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ldcard enemies break up the predict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 partition levels and control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nster generators or spawn points cause new enemies to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D1656-FBCC-484F-9220-21B0032203B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DE5031-84A4-426E-B094-1A5619BAF5E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utine actions include maneuvering an avatar, aiming and shooting, collecting and selecting, manipulating objects, and fighting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rt bomb clears enemies from the immediate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perspace escape immediately moves the player at the risk of unexpectedly entering a dangerous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4C433-8F2D-40B5-A32E-4DA2BE38BFA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B8E2B6C-5EF9-4FD8-8460-527FDA8BC7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re simple and obvio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ves provide several reprieves from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ergy is replenished by collectibles or power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werups increase streng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lectibles are common but not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rease the sco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ock secret levels or cause special bonus ev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C80A4-300A-475E-8833-2B7180CE75A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3F7FB0-6192-4A27-A0CA-622617F049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r counts down time to events and catastrophes or the amount of time left to finish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ore indicate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DECEA-8968-462A-BD8D-CC149191AD2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2B1E00-3575-4A77-9594-4B675A5E2D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y arcade (or arcade-like) games don’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ing a structured story means the game will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most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manipulation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or omnipresent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emmin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also us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F64D9-9A0E-4CF1-9554-A8E40628E88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C00FB0-8FF0-485D-B23F-AC38807F811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camera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s side-scrolling and top-scrolling perspecti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inuous, variable, and parallax scrol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first person is tied to the avatar with a limited field of 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third person lets the player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both, switchable at player op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Resident Evil 4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es these somewhat, moving camera to just behind avatar’s shoul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A59D9-6621-4CAE-97D0-FC8B2D84681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160E3CE-50D0-48E3-957B-08F622D9C8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dentify the qualities that set action games apart from other 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stinct subgenres of action games and their particular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characteristic features of action games, such as levels, lives, and powerups, to design games of your 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sign limitations imposed by placing the player under time pressu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96300-44DA-4386-BE9D-EE85D55B201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26AB31-0B34-4A74-8693-90112E2E6E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mplications of 2D an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it is difficult to tell the speed or distance of objects that come directly toward the play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3D games use the environment to present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enemies can hide and sneak up on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mera moves depending on the circumstan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a good model for fast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dden changes of camera position are disorienting during high-speed ac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58019-CFE9-43D4-9891-93595A6EDA3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895F4AB-8563-4050-A11F-1BB8812484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only as much as the player needs to kn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on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ndicators rather than numbers or t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w attention to critic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s and mini-maps can be shown as transparent overlays; keep them si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olor to identify character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rols should be as simple as possi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153A9-6538-407C-A382-292E47026A8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EFCCB3-2296-4D5E-962C-3BE616F0AC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ecognize action game sub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d use characteristics of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design limitations of 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919B2-199F-47B2-9001-2F1B08AED19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ED0B9C-1861-41A0-8CE7-2D8C5F96FC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ction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action game is one in which the majority of challenges presented are tests of the player’s physical skil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, tactical conflict, and exploration challenges are often present as w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est action games are called twitch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943BA-3AC0-4AFC-B334-CAF73890172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E739D2-597A-4063-A1BC-97832C51CA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amiliar and popular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use a ranged weap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or side-view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are under constant attack so shoot everyth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imited ammun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realistic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00245-2A8C-49C3-BA79-46F8F381A56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AC60C5-9BA6-43A8-9F12-F3F23FA91A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edge of game hard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s are more realistic than 2D shoo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first-person or third-person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rther subgenre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actical 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rvival horro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rena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1226C-9509-4ACB-A3E3-10A37AF9A73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40D8D2-752D-4070-AA12-267170D739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tfor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rtoonish games in which an avatar moves through a vertically exaggerated environment, jumping on and off platfor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jum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ghly unrealistic phys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2D side-scrolling games with humanoid avatar are platform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uper Mario Bros.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classic exa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FD0FF-1600-41A9-88D5-9079C5F301E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96BE7F-E05A-4C2D-A18A-8A7F9CEBA89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ghti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al challenges test reaction time and tim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 hand-to-hand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y use a few ranged 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wo major categories: one-on-one and mêlé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ous boxing games usually classed as sports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include maneuvering, attacking, and def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o moves are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is largely 2D in the plane of the video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4B777-73AC-4B07-9487-E08D1B34FB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3F8456-61FF-4388-A69B-EE77AB159C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 player to solve problems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e, abstract, limited control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archetypal fast puzzl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gamers enjoy this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al for handheld devices and cell pho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E83F3-5BD1-422D-B509-47C7F169608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E2B763-CF5D-4E34-ADA9-179ACBB0BB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-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 combines action and adven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include physical challenge, story, inventory, and 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nce and rhyth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player’s sense of rhy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s buttons to make the avatar d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cialized hardware common: dance mat, conga drums, marac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girl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ss pointless viol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E86EA-636B-4C16-911C-FD8917E13CB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8E3CF0-2861-4E64-AC41-A082F6C7DFA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5:17:29Z</dcterms:modified>
  <cp:revision>247</cp:revision>
  <dc:subject/>
  <dc:title>Fundamentals of Game Design, 2nd Edition - Ch 13</dc:title>
</cp:coreProperties>
</file>