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6.xml" ContentType="application/vnd.openxmlformats-officedocument.presentationml.notesSlide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AA9DC-A5F1-49C3-99B9-4079A58E05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ow occurs when the player’s abilities balance the challen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inder from Chapter 9: Intrinsic skill needed to overcome challenge + stress = absolute difficul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view the graphs in Figure 11.8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EA22A9-5424-40FB-961E-1E4F7A77A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2670A6-3E41-45CB-A195-E8BDFEDBB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B8BD8B-B6EE-4CC8-8A27-5832FCCCC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118DF0-D59B-47A6-9EB1-4EEDAFB6C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A173E-87C9-47C2-9D8F-84FED3993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11A35-5624-4083-B409-647C0745A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E8714-F957-4847-92DC-646E582B1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68F8B-0558-47A9-8374-07889D879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4EC1E-689D-45A5-8239-F2778884F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6FD7B-B168-470F-9E7D-9319ACA03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FB795-C354-4210-9A8E-5ED93280D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CC10E1-CB3B-4AC4-859C-F1FE497CF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775C8-5EF2-4F27-8102-678F8E0C4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EDE20-7DD9-4209-A3F3-3926F6CBE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BBFB0-CD25-4DD3-955D-185F15D29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57B55-D9A0-4099-9379-B4B0B2BC1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A67C4-A9FB-45B0-AB2E-806C12692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2EF051-A726-444B-85B6-F439A77EE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C34E13-9F6E-48C5-8F6E-DB243AEAA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CF4306-99A5-4913-89C0-248AD17A5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3F6F3B-283F-440D-9C10-BAA1DA090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DA08AC-7CC4-46FF-A238-5A811BF2C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0CEA97-C51F-45B3-826B-B08A910CA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779BE1-E952-4D34-AF7F-119AAAB79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1760" y="6248520"/>
            <a:ext cx="2841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11 Game Balanc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DB395-9806-4F2B-B056-4472D32AF605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BF05F-EC5D-4119-8FF1-B79409CDD712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07645-CAB0-4A94-A3FD-81220F4E7893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11: Game Balancing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voiding Dominant Strategie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ominant strategies in video gam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transitive relationships (rock-paper-scissors)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f A beats B and B beats C, you can’t assume A beats C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ather, A beats B, B beats C, and C beats A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PS model is simple but can be adjusted by modifying core mechanic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rthogonal unit differentiation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ach kind of unit should be unlike the others in some w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Not simply more or less powerful, but uniquely differen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Guarantees each kind of unit has a unique func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71BA8E-007B-4213-8CCD-DFF2B5C6F6AF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0D36DAC-D182-4601-A6EA-B395430EE77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voiding Dominant Strategi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ominant strategies in PvE gam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mplementing fewer actions in a game risks creating exploit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ctions that can beat any challeng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st thoroughly to eliminate exploi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CBE2C6-3A86-430C-A892-CE9578F34FD4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35486A2-BCF1-424C-A8D6-1950BCD2F1E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Role of Chance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f chance plays a role, how to ensure the more skillful player wins?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chance sparing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chance in frequent challenges with small risks and rewar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ow player to choose ac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ow player to choose how much to ris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3496BB-5A60-4189-B0D6-42CADE3A1993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4EF9FB7-43B3-47FC-BF48-9BA13AD3FBF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aking PvP Games Fair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o balance symmetric games, treat every player the s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ame rules, resources, victory condi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symmetric games are harder to balanc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ne approach: give players identical quantities of materials or points when they star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s spend points to build units as they wish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s spend ponts to adjust unit attribut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udy 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Starcraft 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s a great asymmetric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F2A667-50AE-45C6-A711-98A5A0442B35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0F22497-E24C-475C-BF5E-7EE15321BAD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aking PvP Games Fair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alance issues for persistent world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rsistent worlds are never symmetric and always intrinsically unbalanc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ew players need prote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an be rebalanced on the fly by patch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757017-D618-43CE-B672-1CA6D656181E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FE44E1C-3C9F-4746-8D0B-EFF60CA1F21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aking PvE Games Fair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fair PvE game shoul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ffer challenges at a consistent level of difficul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oid learn-by-dying desig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oid stalemat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vide information for critical decis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oid requiring extrinsic inform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clude challenges appropriate for the gen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21AEC0-E013-45FF-BB65-AAE5D9C9EA39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5B47695-D0A6-4EBC-935C-6B8D1D50127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anaging Difficult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alancing a game includes managing the difficulty of its challenges to keep players within a flow stat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actors outside the designer’s control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evious experience facing challenges similar to those in your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ative talent such as hand-eye coordination and reasoning skil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game that requires cheats to be winnable is badly balance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A1F4E1-7BAF-407E-B6CB-9C520E2F1A06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2DBF7F7-DE20-44C5-BB96-E20E5A80CC8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anaging Difficulty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ypes of difficult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49800" indent="-31536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bsolute difficulty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pare amounts of skill required and stress to that of a similar trivial challeng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49800" indent="-31536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lative difficulty – difficulty relative to player’s power provided by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991440" indent="-3402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ower provided measures player’s strength by means appropriate to situation (e.g., weapon strength in shooters)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49800" indent="-31536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rceived difficulty = absolute difficulty </a:t>
            </a:r>
            <a:r>
              <a:rPr b="0" lang="en-US" sz="2600" spc="-1" strike="noStrike">
                <a:solidFill>
                  <a:srgbClr val="003399"/>
                </a:solidFill>
                <a:latin typeface="Symbol"/>
                <a:ea typeface="Symbol"/>
              </a:rPr>
              <a:t>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(power provided + in-game experience)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C43DFE-CCCB-4C2F-A305-F64F57B02022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83AD9E0-9A6E-435F-A3E1-A987CC424AE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anaging Difficulty </a:t>
            </a:r>
            <a:r>
              <a:rPr b="0" lang="en-US" sz="34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400" spc="-1" strike="noStrike">
              <a:solidFill>
                <a:srgbClr val="0b0506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351160" y="1835280"/>
            <a:ext cx="4440240" cy="4059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26EF97-5CF5-4971-9FA2-A254FFF9A561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92FFCBA-AC08-43E4-B64C-0E7AF387A64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anaging Difficulty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reating a difficulty progress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rceived difficulty of challenges should stay the same or rise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games for casual players and young children, it should remain almost fla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lative difficulty must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crease over time to counteract the player’s growing in-game experience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3D396C-3D8A-4B0F-AC0A-88226B7201D8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FE21DD7-08E3-4646-A505-F0D33967F36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ist qualities that characterize a balanced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fine a dominant strategy and discuss ways to avoid dominant strategies in player-versus-player and player-versus-environment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how to use the element of chance in a game so that player skill still ultimately determines the outcome of the game 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50DA04-E5D7-40DC-8B7B-0E23B6F7C4EF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6AB3903-7CFB-4CF9-ABF3-3DA0400ABF4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anaging Difficulty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stablishing difficulty mod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 single-player games, allow player to choose a difficulty mod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en a difficulty mode is selected, challenges must stay within that rang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f you can’t adjust the difficulty of a challenge, provide a way around it for the easy mode and block the go-around route for the hard mod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6A0112-E1D2-4EBE-A44E-C4990DF3A4B9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A7027B7-6313-45A1-BF4A-D310FB95ECC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Understanding Positive Feedback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ositive feedback occurs when a player’s achievement changes the game state, making future achievements easi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enefits of positive feedbac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iscourages a stalemate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ewards succes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4648320" y="1599840"/>
            <a:ext cx="4038480" cy="453060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4800600" y="1828800"/>
            <a:ext cx="3776760" cy="267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C35EBB-810A-4616-ADB3-4EE9F7C6075F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9A63DD5-DBFF-404D-8CB8-6E1F0A5A239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Understanding Positive Feedback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ntrolling positive feedback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on’t give too much power as a rewar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troduce negative feedbac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chievements have a cost as well as a benefi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aise the absolute difficulty level of challenges as the player procee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ow collusion against the leader in PvP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fine victory as unrelated to the feedback cyc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chance to reduce the size of the rewar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EA44A1-A32F-4944-A7E7-556DA85C6F13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55F9605-0316-4B49-A696-BB437D74B74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ther Balance Consideration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void stagna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agnation occurs when the player does not know what to do nex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Hide clues in plain sight about how to proce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Have the game detect when the player is wandering aimlessly and provide nudges in the right direc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void trivialiti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et the computer handle uninteresting details of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1F8B46-4787-4E36-89B0-F81113D81CD4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0D95AE3-D259-4119-A567-21E6A56C8BB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 to Make Tuning Easy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eneralize mechanics when possibl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ry to avoid creating special cas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parate code and data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uggestions for efficient fine-tuning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dify only one parameter at a time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en modifying parameters, make big adjustment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consequences are easier to se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Keep recor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pseudo-random numb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CA7990-6140-46F7-9BCE-A7AA8723A200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6B02A0B-6C2A-4E11-B88C-06595DB1DC5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ign a fair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avoid dominant strateg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use cha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manage difficul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control positive feedbac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82BAC7-8DB8-4D29-AA31-BEE8822BEA81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F780644-602E-47CC-92DF-7C04AF4E363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ist strategies for making symmetric and asymmetric player-versus-player games fair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ist strategies for making player-versus-environment games fair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ypes of difficulty and explain ways to manage difficulty to maximize the player’s enjoyment of the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53D19F-554B-4E05-B56C-15DD4C8BDF4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A2BF3E5-1E0F-4A54-8E8C-636EA98368D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iscuss the phenomenon of positive feedback and discuss ways to control positive feedback in the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cognize qualities of unbalanced games such as stagnation and triviality and explain how they can be avoided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ist design methods that can make fine-tuning easier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AD7B6A-5D0D-47B4-A83D-E0A2FB785F1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2F836AA-65EB-4055-956F-60E7C7BE9CB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Is a Balanced Game?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balanced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s fair to the player(s)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s neither too easy nor too har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kes the skill of the player the most important factor in determining his succe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ncept of balance differs between PvP and PvE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A84A20-9ACA-49F2-8028-3F817A38E1D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67A9BA4-7097-452E-988D-8A02F594CD6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Is a Balanced Game?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 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well-balanced PvP or PvE game has the following characteristics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t provides meaningful choi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t avoids dominant strategi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(They will be explained later)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ach strategy must have a reasonable chance of producing victor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’s skill must affect succe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ole of chance should not be so great that player skill becomes irrelevan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A80C34-C502-4E09-AAD4-CE99487E44F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147575A-20E5-4228-824B-E3313614603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Is a Balanced Game?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 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dditional balance requirements for PvP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perceive the game to be fai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 player who falls behind should have opportunities to catch up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 rarely ends in a stalemat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dditional balance requirements for Pv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player perceives the game to be fai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efinition of fairness is different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iscussed lat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evel of difficulty must be consistent, without spikes or sharp drop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5FA4F1-AC33-4C35-A5B0-EBC6D0CFCA5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2FEFC13-941E-4DF6-94FD-B21C0EA12E0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voiding Dominant Strategi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ominant strategy is a strategy that reliably produces the best outcome a player may achieve, no matter what his opponent do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ominant strategies are undesirable because a player has no reason to use any other strategy once she has discovered the dominant strateg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0DA38F-8859-4D1A-8A16-6D563B9C2C52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3919DB6-7174-4D46-A470-2001EB0BBF1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voiding Dominant Strategi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ominant strategies in video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ransitive relationships among three or more entit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f A &gt; B and B &gt; C, then A &gt; C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Never any reason to choose B or C if A is best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 correct the imbalance, assign costs to each choi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 create a more interesting choice, impose shadow costs for choic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hadow costs are costs that are not immediately apparent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ransitive relationships often used to create upgrades for a player’s abilities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tart with C, then earn B, then A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C845A3-A43A-457D-866A-91896260C9AB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BE78D41-0B19-4475-8FE6-F60F14FFC69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6T18:59:04Z</dcterms:modified>
  <cp:revision>222</cp:revision>
  <dc:subject/>
  <dc:title>Fundamentals of Game Design, 2nd Edition - Ch 11</dc:title>
</cp:coreProperties>
</file>