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6594B-069E-471B-BE0E-B13FE8730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6EF8E-BDD7-43DD-85CF-A081480E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D42E3-992E-4D0E-9CA4-895BCA83E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A0E63-7D39-4E6F-AAC4-669EC1EF0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D247-7A0F-4372-B09A-68DE0720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AABD-F63C-4528-A406-2FC740C9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E8EB-463C-4545-9750-CA1B4D58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482B-1CFD-4016-B6BA-4E5C5552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5F74-BB25-4810-9908-32E6FF3B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CD5F-2AE0-41C5-B9E1-CAB4318C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076B-16BC-4EC7-829A-2DB602E5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477FA-7036-4C00-B5F2-CBCB4DD7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2611-9490-47A4-A473-D9529247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28C9-C418-453E-9B0C-24FF7981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1840-B5E3-4610-B2A7-466E7B0F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A4CF-EC80-4C7C-AC44-2C8CBAF52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2EDC-7A94-411A-9485-2DFFB19FF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4FA32-5B1F-4E29-872C-0B28D3F2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75344-9BDD-4A74-898F-4A5281AF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46137-BD1B-4925-B4AD-F3CB4FA7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B97F6-F7B6-4A70-B2ED-5AAB9659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CAF2A-1514-4466-BE1C-50E47777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0C410-87C6-46CF-9A81-E64950D8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69832-E787-48EF-9B44-A51669A9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5 Role-Playing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E2A5-07E0-4F45-8F6A-D8771B015C45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FB36-9E3E-43CF-AD6A-77F01464387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EC7C-7E35-4A08-BF0F-05D542CB540C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5: Role-Playing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and comba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tions include setting a destination, designating an NPC to attack, and using special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vers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u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s dialog tr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d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y and sell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vento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ge carrie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35D57-AFEE-4160-9A08-B5FB9205FCC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EEC7DC-76E3-4C2D-84F2-8C2820BB6B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olling di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k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w the probabilities to get the result you w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termine general abilities and qualities; change infrequent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x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cla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, mental, moral, and social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F15AD-AB6A-4C5C-8CE6-B232DEBDA66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2298B2-8426-45D1-87E5-1AA1A77579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, experience,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ributes that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points and character level  measure the character’s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smetic attributes add richness to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87B2F-0385-4A06-86AC-FDF25EDD5D3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C47236-C97F-4AD3-AEC0-1B72876D74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gic and its equival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 that allows characters to influence the world by means not available to us in real lif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ience fiction implements magic as “advanced technology”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of magic restricted by character cla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magic, how it’s invoked, how it’s 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often spend magic points,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n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ana system is more convenient and flexible than the D&amp;D “memorization” syst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3DC54-03B4-42DD-9EE8-A30158E5890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699CCD-FD2A-498B-ABA9-5B0092BC3C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kills and special capabi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taining new skills for a character is similar to upgrading a unit in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trees provide a growth path similar to a tech tree in wa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RPGs allow the player to create the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l dice to generate points to distribute among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3B45C-29EE-4B29-8074-896EB30A2F4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C9C097-7102-47EB-8339-D6B4CAE909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nd to be fantasy and science fiction sett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appealing to explo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RPGs provide an editor to enable players to create scripted adventure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31550-17E7-4DE7-BFAE-AFBBA1F1229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C79D92-E3B7-412A-8841-C9EA9E1085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, determine the game’s overall ques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, design the episodes that the player experiences from the beginning to the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e an enticing ope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27354-1238-4856-AA0E-BAC4C858D12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1D6E0A-2087-4E2E-A034-4B97C3142E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 in single-player CRP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-based is becoming more common, howe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 in multiplaye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person or third person for avatar-based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allows player to see all members of the party at once as well as surrounding ter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02ACD-03D9-4EE6-BB6E-3A5E0141B66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77CD18-E1CC-45A5-A73F-4654487263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de range of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terface can be complex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de the mechanics to aid the player’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ve task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nstead of making the player try repeatedly, automate the repetition and sho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progress b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character has low skill at the task, it will take a long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the player to interrupt and abandon the attemp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C293C-833C-42DF-ACDE-515951E4573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387AE4-97F4-4AE9-B7B2-511A5CF86F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role-playing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evelopment of the role-playing game from tabletop to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a world and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xperience points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gameplay modes for 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190F6-3FCB-435F-AED6-E4EA1A8C608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D5C170-4259-4188-854F-60865C7E17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role-playing games and the game mechanics common to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history and evolution of role-playing games from tabletop to comput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character attributes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6B6D5-41A8-4898-88A9-72C49852A86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39157C-38BD-4854-89BC-5414544293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world and setting suitable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use of experience points and character level for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gameplay modes within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53701-FA82-4BA2-AD70-9F0A09DF83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62AD2A-6472-4FB8-85BF-CE18391DE3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ver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jective is to experience a series of adventures in an imaginary world, through an avatar or a small group of characters whose skills and powers grow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sential parts are the quest or story and character growt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ctory consists of completing th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just enjoy exploring and interacting, even without trying to w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1E2B3-A8D5-48C1-AF83-918D455F66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E1BD3A-ED77-4EBB-8D15-A1DBC8E359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types of challeng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gistics (managing supplie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grow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sol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24795-A732-4389-8849-D0FAFBD756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6EB6EB-1E65-41E5-957B-A925FE5BC6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war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include combat governed by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ll group of characters who exhibit growth; no factories to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r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ge group of identical units; factories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9BB22-D1CF-4F11-A90F-621A7BFE83E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56C38D-FC8A-4B8C-BAD7-2ADCD14D74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 becoming more common in hybri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such as buying and selling as well as conversations with other charac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zzles more sophisticated than in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are rar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A32CA-5D0A-45B4-813F-D74B870F45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B0D181-1847-4FEF-9B01-3AB70607A8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br>
              <a:rPr sz="4200"/>
            </a:b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have rich storylines, highly detailed characters, and 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-defined character; characters defined by numeric attributes that improve over time; complex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tar provided by the game; concentrate on a single character; puzzle challenges; no numeric attributes; personal growth; simple internal economy (or none at all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4BD59-CA91-46F8-810B-E33BC42FEF8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F13DF9-5C25-4838-8E52-84D5813A51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and combat make up a big part of most CRP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ing the world is an overused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find an alternativ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ng quest broken into epis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 challenge at the end of each epis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tional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0B42F-7AB6-4EC8-93A4-8355A428651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56528F-20C2-4547-894F-BA95547C88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9:38:35Z</dcterms:modified>
  <cp:revision>280</cp:revision>
  <dc:subject/>
  <dc:title>Fundamentals of Game Design, 2nd Edition - Ch 15</dc:title>
</cp:coreProperties>
</file>