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14CBB-568F-498A-BE60-1BF6D0688E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iding errors, tuning, and polishing are the same practices any professional uses when crafting a produ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play is the heart of a fun game. The player is the sou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F1027-F0AF-46A9-ADBC-22E661B62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515D6-92FB-4FDE-9306-B8C93EC87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3720D-1ABB-459A-A4C7-D39ACD50C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00EB8-E2EB-42E9-AC1C-AFC97B518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1E9A8-931D-4782-82A0-F265DA6AC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D533F-CF99-437E-B756-6DE6F69FE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FE2A3-5363-4E1B-A8C1-B91DC998E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3BA0C-702F-43F2-8355-C5A490D2F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580C6-4195-4255-B72A-9F03DDE66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600D7-2508-4D54-9432-F3F8F0970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9F6AC-480E-46C0-AD12-774CAD79F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C3858-7975-4332-84A8-0DA333406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2AE3A-E1A4-4579-A8C3-1F61FF8F6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AACEE-9957-4B7C-A874-09C786E53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9F546-A85F-4EB1-80B2-B7B380EC9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9D7FC-EC40-4611-B122-711DFDEA3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C3132-7B5C-4A65-8AD9-EA1BC377E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2A5E9-716A-4B6F-AE4B-399C4F275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E9E5F-AC41-4972-994C-0F6E154DB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35F93-29F0-440A-A147-DF6DDD03F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0129C-A6BC-4AE1-BC9D-E6C677152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5A1F2-9EDB-4DF7-BECE-A1EF115D6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63036-DFCB-4B01-9DD0-7DAE75B86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8942F-BC92-4796-85AC-40A69198E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9 Gamep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5148B-B371-41A2-9673-7E9769B168EC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604AF-F266-440F-9E15-CA91AC26A488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B4FDF-DEA6-444C-90AA-CD1609958081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9: Gameplay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al coordination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i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speed and reaction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accuracy and precis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intuitive understanding of phys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timing and rhyth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ability to make combination mov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duce time available to increas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C001D-9420-4356-875A-610F34D2B15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DEDFA99-7872-4749-906C-158C18F8FF5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c and mathematica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rmal logic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 outside knowledge requir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increase difficulty, increase the number of objects and the ways they can be manipulat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normally get all the time they need to sol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oid puzzles that can only be solved by trial-and-err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thematical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ames require players to reason about probabilit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ke educated guesses with imperfect knowled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6E04A-5680-4B0E-95B1-515C028727B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12F67C0-736F-4C3A-9F74-1C2DE2485DD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aces and time press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first to accomplish a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be combined with other types of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ime pressure increases stress on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ual knowledge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rect tests of factual knowledge usually occur only in trivia and quiz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other kinds of games, all facts must be present in the game or you must make it clear in advance that outside knowledge is requir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CEBCD-FC77-4F16-BFF8-392DDFC60EC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C37D5F7-09A6-4364-8337-529054D9CF7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mory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ability to recall things seen or heard i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make it easier, give players longer to memorize and test them soon after they have done s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ttern recognition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ability to recognize visible, audible, changing, or behavioral patter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increase difficulty, make the pattern longer, more intricate, or more subt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127A0-C653-4DB9-AD3E-8DB79F8C9E0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6A5EFC6-C187-4F4C-8B4E-85A9DCD2A7E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atial awareness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ability to learn and navigat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decrease difficulty, provide a map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cked do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ny obstacle that prevents the player from proceeding until he disables 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oid unmarked switches far from the do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32DE6-271B-48DD-B59B-653C333E6F2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2BE2155-6DE9-4DED-BAA2-CB748BE9ED0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vice that harms the avatar when trigger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un comes from outwitting the trap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zes and illogical sp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very place looks alike and player must discover relationships between the area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 be implemented as logic or pattern-recognition puzzl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FFEBC-815F-450C-BE5D-04F1CC1FF52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B57603B-5662-42E9-BB29-15D62F49215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lepor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chanism that transports player to a new loc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make the challenge easier, make the teleporter predictable and reversib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nding hidden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imes hidden in reasonable places player can deduce from clu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imes hidden in obscure o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Easter egg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are special rewards in particularly obscure loca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A0343-7820-48BE-A387-79FF128B50C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20373E5-973D-4896-BBC4-2A94F50007A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fli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s direct opposition of forces, some of which are under player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flict challenges can be broken down into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rateg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ac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ogis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urvival and reduction of enemy fo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ending vulnerable items or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eal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B26D4-D196-4A52-8A9D-5B20128FEA8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179473E-3607-49BC-BD1E-CD8F33E49A4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conomic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behavior of resources creates economic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cumulating resource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this can be wealth, points, or anything valuab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hieving balanc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this can be a more interesting challenge than simply accumulating resou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ring for living thing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hallenges the player to meet the needs of each individu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724FA-70C4-4CCF-81D2-A6D698E2341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1E51C68-B0C8-4F00-81E5-ED9B4E90FE8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ceptual reasoning and lateral thinking puzz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ceptual reasoning puzzles require reasoning and knowledge to solve a probl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teral thinking uses extrinsic knowledge in unexpected way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BB440-558E-4BE3-87AA-093FB57EF8D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C104F2C-3C59-4B3B-9751-C995194452F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basic principles that a designer should follow to make games fu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the hierarchy of challenges requires players to complete atomic challenges, sub-missions, and missions to accomplish the ultimate goal of winning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intrinsic skill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required 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d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tres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and discuss how these factors contribute to the difficulty of the game 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1D2AB-826F-46F1-B897-F78F32B0C44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3CEBEB1-EAFD-46B9-BA6F-A3BECC73A80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s for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ctions are intended to meet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offer fewer actions than challenges to limit size of user interface and animation co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ctions can address more than one type of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c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ased on player’s role and actions to overcome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17FEB-DACF-4245-A7DD-48013317F98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FD0EBE1-2BAF-4F48-B7B2-B7D356FE636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s that serve other func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not related to challenges include actions for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structured pla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ion and self-express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cializ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articipating in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rolling the game softwa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AD93F-E469-477E-8E66-A52BCF331AD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E77E04E-53E4-41AE-BBD4-C13957759FE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aving the Gam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sons for saving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leave and return la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t player recover from mistak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courage player to try alternate strate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equences for immersion and storytell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arms immer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duces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A8C93-B888-483C-9163-90F2A31AFD5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590B7FE-3632-4AED-92E8-9B90FDCD356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aving the Game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ays of saving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ssword to restart a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ve to a file or save slo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Quick sa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utomatic save and checkpoint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ways allow players some way to save and reloa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AB271-3151-48AD-96C6-500F067505F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23AEF72-DD54-4213-AB17-DD8837A6340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s the heart of a game’s f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can be organized into a hierarch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kill and stress determine absolut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ly used challenges test different 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ew actions can be used to overcome many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should be allowed to save and reloa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912B0-64D6-4C0B-8FA4-279C94A41EB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A85BC16-CA27-4439-A81E-16F13BAEF80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challenges commonly used i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ctions in the context of the game world and describe how actions are selected to meet specific challenges or serve other functions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the arguments in favor of and opposed to supplying a saving mechanism and explain the most widely used methods for saving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8D191-6912-4B81-A335-67F277BD318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64F0B06-81FD-442C-8648-7E24412B442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Games Fu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ecution matters more than innov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chief reason a game is not fun is that it contains elementary err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pects of game development that contribute to fun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oiding errors; basic craftsmanship is most importa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uning and polishing is secon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Imaginative variations on the game’s premise is thir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True design innovation is only 5% of the source of fu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ABA70-91B4-4260-B245-72B208F51E6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A0A12E7-AF05-48AA-A0B8-DE6E80671CB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Games Fun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nding the fun factor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comes fir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et a feature right or leave it ou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around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now your target audi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tract or automate parts of the game that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aren’t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true to your vi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ive for harmony, elegance, and beau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CC8CE-B7E2-47E0-A5C8-86143CD1580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8106454-2D6A-483E-8C45-D190806A419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Hierarchy of Challeng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erarchy from lowest to highe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omic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b-mis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s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let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8D6E4-0B55-4F6C-9429-F450CE1764E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FA7CBE6-8C53-4E52-8142-7B2C871703C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Hierarchy of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forming the player about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tell the player about explicit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discover implicit challenges on their ow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icit instructions are given about the victory condition and lowest-level atomic challeng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mediate-leve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most interesting games offer multiple ways to w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gnize and reward victory achieved no matter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how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achieves 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457B2-A880-4B72-8271-22BF44D1E9E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7AF128A-89A0-40D2-A3C8-28A63C2F8B3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Hierarchy of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taneous atomic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vercoming several atomic challenges at the same time increases th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way of doing this is to bombard the player with enem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ther games (such as management games) present more complex interrelated simultaneous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more simultaneous atomic challenges a player faces under time pressure, the greater 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st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6F735-112D-474F-A29B-84B65E5C05E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76109BB-21E4-41A3-891A-1D1AD7ADFD3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Skill, Stress, and Absolute Difficulty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Intrinsic skill required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the skill needed to overcome a challenge in an unlimited amount of ti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tres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the effect of time pressure on the player’s ability to overcome a challen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Absolute difficulty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skill required plus time press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B3F47-D01F-4ECA-B1FA-5D5347D089E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6948537-F85D-48CF-A9D7-112BFD7494D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7:59Z</dcterms:modified>
  <cp:revision>185</cp:revision>
  <dc:subject/>
  <dc:title>Fundamentals of Game Design, 2nd Edition - Ch 9</dc:title>
</cp:coreProperties>
</file>