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601F-1B08-4F30-B46C-C86700340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elements, including the shell menus, should be in harmo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raction means completely removing processes or systems from the game. Automation means leaving processes in, but letting the computer control them so the player doesn’t have 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point-and-click, player gives a command and the unit or character travels to the designated location by itself, wthout further ste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the primary gameplay mode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o consider the player first in player-centric de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858AD-1683-4255-8A0B-09EC2C72D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6A866-B84D-4141-BD51-47FB2A96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24833-785E-4EE5-88C0-101654F96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3CA81-DEB4-48C1-9449-B3462ECCE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FD04-B68C-41BA-ACCD-83EA7F22F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5A9DF-B0D5-4492-8254-47077B2A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2EA7-5FAE-4173-8351-75E3F0D3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F848-6A30-4E20-ABE8-2A8C7298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B559C-8FD0-4521-9E01-A47F6D8F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E06A-68DE-46F1-A538-BF91F793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1566-DC2F-49DA-9FDC-FD8AA0E4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6CBCF-A06B-4BDE-9700-B3FE8FDC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0B3B-51C4-4D93-9AA1-7D2DE91F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9829-9A1F-4DAF-8CBB-63C5736D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D67C-D568-47B5-9A82-446A3309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4226-BEC9-4CFA-B53E-ECE0820AF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A42A-CBA2-4B74-A010-9AFB4E14A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44ECA-E61F-4C3D-80CF-B0BBBF5B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702E1-00C8-4FDF-A788-10EEE24A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E69C8-AC93-49A7-8A2F-3B8E77C1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EC6A0-38B3-4C70-A89D-FA855677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87A8A-7057-48B7-9C81-3D0E2E2D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D19FD-5215-47A6-BEF8-E417812C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D6196-4271-4B7C-8337-51604975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29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8 User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D3BA-B876-4C7E-AB6B-B1B0DA42F516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8946-B89E-4EAA-A783-670A2A68E639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6A60-68AF-44B2-8FC6-2E01CEAA56A7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8: User Interfac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data from core mechanics that you want to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feedback elements to display that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ter defining critical information, move on to option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n mind the general principles of good interface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B9533-64BA-46B1-8CF2-92E5B2C4C7F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3A0C79-C25E-4465-9384-3A91CC38DD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 the player do what she wants to d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devising appropriate control mechanism for each action the player can take that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visual and audible feedback for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 input devices to player’s actions based on chosen interaction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time you move to new gameplay mode, note actions it has in common with other modes to keep control mechanisms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2D3BE-2086-4428-8205-16F9CD33EFB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2AB341-93D4-4BEC-A684-01AF2036DE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ell men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menus allow the player to start, configure, and manage operation of game before and aft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hould not have to spend too much time in shell menu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interface is the first thing players see, so don’t skimp on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93437-EE0D-4D6E-AD39-FF7C42923F9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5F9B80-44AF-4D53-8106-1627EA579A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plify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some detai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e some fun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pth versus bread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ep interface places commands in multilevel menus or dialog box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oad interface offers more options at one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solution is a deep interface with keyboard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0C03C-4B98-409E-8128-FBC75F196D4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5114B0-4367-458F-B4F8-FE149E28D3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xt-sensitive interfaces show players their current op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obs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the user interface, don’t sacrifice function for loo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e UI on someone outside your pro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8991C-3476-4735-9C50-5108BB067EF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2390BF-077B-4C32-A51D-9370BE70C2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raction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ans by which the player projects his intentions into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mon typ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through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rese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on many places at o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a group of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sta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as if on a TV game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kto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ilar to computer desktop metaph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9DFC7-9086-423D-A5C9-1AD3C7E33F1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E0680B-578A-4E0A-9EC7-12965F823B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termine virtual camera behavior by asking how you want player to view th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Perspectiv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re camera models that are largely fixed and unintelligent, e.g. top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rtually all standalone games running on powerful game hardware employ 3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3D graphics only if you can do it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ood 2D is preferable to ba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33147-62C4-4C5C-AFFD-B49937F813C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0F08A3B-9096-4E58-9E8E-AE2D2180B9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ittle animation needed for th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You don’t need to design AI to control the camer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find it easier to aim ranged weapon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may find it easier to interact with the environ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not se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ifficult to indicate avatar’s personalit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mera angles are limit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rtain moves are difficul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pid movements may cause motion sicknes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60020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only in avatar-based gameplay mod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s and cons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C0A62-4A1D-4CF3-9CF5-97E26813E091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A4AB9BF-4335-4E72-AB13-7255115FC8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for avatar-based games and allows the player to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perspective in 3D action and action-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for this perspectiv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ng camera behavior when the avatar tur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uding landscape objects between camera and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itting player adjustments to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804C5-88A5-4E39-BEFA-6BD023F6578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ED1361-69D8-4B98-AA4D-22E391A040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erial perspecti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with party-based or multipresent interaction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ypes of aerial perspectiv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d to display map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ometric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angle is such that all three dimensions can be seen at o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controlled by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ext-sensitive camera mode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moves intelligently to follow the a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35349-F531-45D4-8293-05A36A982FC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ACAB26-AA1C-45AE-B4DB-88BD388FF0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user interface mediates between the player and the core mechanics to create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principles of player-centric interface design can answer questions about what the player needs to know and wants to do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steps required to design a game’s user interfa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D9FF7-68DB-4FD1-BACB-0D220CF558E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A7DFFD9-6989-4511-8FDC-05EF11E528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p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2D display options found in Web-based games and on small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gle-scree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ntire world on on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de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 sees the game world from the side as avatar moves left and r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p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andscape scrolls beneath the avatar and new challenges appear at to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ed backgroun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vatar and other characters appear in front of static backgrou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E6780-D9C3-49D5-85D3-04516AE2945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15A0FE-DA5B-4B31-BD8F-0A10E0B5A1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in 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be largest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option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indowed view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main view takes up part of the screen, with the rest of the screen showing panels displaying feedback and control mechanis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aque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superimposed over main view; the overlay obscures the ma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mitransparent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that players can see through partial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60085-D721-4BE3-99A3-3FA38F4A40C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8C2B303-9DB5-4567-921D-52FF89C410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dback elements communicate details about the game’s inner sta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dicators inform about the status of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gits, needle gauge, power bar, small multiples, colored lights, icons, text are common types of indic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-maps show an area larger than the main view so player so orient her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s give additional clu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5F4EB-F5EA-45AF-9196-6B21030E004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2A6E47-E7AE-4D0E-B00D-DEBF663DC4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portra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give the player a better idea of the pers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function as a feedback element if they ch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ey issues regarding text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localization easier, store text in text fi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typefaces and formatting carefully to harmonize with theme and present information clear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8312B-AA17-4B52-9BBC-09FFA349B75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EEA349-23CB-4CFE-BFFC-D99DECD2B2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bration (“rumble”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mbient soun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alog and voiceover nar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on can be irrita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multiple alternative ver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ing and acting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us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g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03475-7C39-4C4B-89A9-81438FB30D2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2CD714-02C5-46B0-8537-AB2EFEBF4C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put Devic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elerometers (e.g. Wii controllers), GPS receiv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ional pa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Joystick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use or trackb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chpad and touch scre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er buttons and ke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nobs, sliders, and pressure-sensitive butt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91DC9-D0F8-43D3-9E7C-73625BF856E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DCC869-05BB-4AFE-B3BE-8A9976C47C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reen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toward the top of the screen to move the avatar the same direc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up to move avatar forward in the direction the avatar is fac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D86A5-F491-4F1E-8981-EDD01F8B1C1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F27EEF4-2CDF-4D1E-B255-653AD877B3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y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two mechanisms because the movement occurs in the third dimension as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first-person perspective inside cockp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oint-and-click navig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to give directions to semi-autonomous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s a pathfinding algori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give the player more control, allow him to set waypoints for the un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4CEA4-2A68-4EA1-B8C4-9FBEE6291FB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F007B3-2157-4171-939E-3ADE222A66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llowing for Customiz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ful and easy to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 key reassignment shell menu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ave all customization changes on a per-player basis (like the Nintendo Mii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286E7-FBDD-4F95-92EB-307D129D374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C52B7A-38BB-4F7B-B2EC-291354B4A2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the player needs to know and how it can be presen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game’s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audio and visual eleme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e input devices affect the 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97DBF-3638-482B-868C-A866CD476E9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D40874-1095-417D-8143-CA38B192A5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options that can help to control a game’s complexit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five well-known interaction model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camera models and discuss their advantages and disadvant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how visual elements supply information a player needs to know to succeed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F54A6-6934-4858-90E2-1C0511BD6F2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6B8D6E-479A-45C6-B1B5-E721D0C865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udio elements such as sound effects and music affect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types of one-, two-, and three-dimensional input devices and discuss how they affect the game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navigation systems and explain how each system controls action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6CC08-A915-413F-945D-10E3668D987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5DEC2E5-AB64-40EF-A3A7-0B36CB55C7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the User Experienc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is often called the presentation 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experience must be entertain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utputs = Visual + audio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puts = Contro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DE895-1E83-4284-967A-3EEA731BC60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501004-6785-4359-BA36-3007A0CF73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prefer to use a familiar UI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 principles of interface design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good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eizing control from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mit the number of steps required to do th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ppropriate, permit player to rever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mize physical stress; provide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lated info together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290BE-D4A9-492A-8D8A-5D96BD07EE3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F2E2B0B-17E1-450C-B6E4-7860520776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he succeeding or failing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he doing now and what should he do nex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fer actions the player can perfor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 with NPC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or s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716F7-DAA5-4240-8F3E-5B2AC0FE7F0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EED054-5C81-4DC1-957B-452226C8E2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gameplay modes you’ll n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primary gameplay mode first, then move on to oth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 think about the visual elements and controls that will be needed for each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a different user interface for each gamepla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ach mode, design a screen layout, select visual elements, and define inp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 UI in PowerPoint or Fla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AC064-3AD8-49A2-B6E9-4A579001EB8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7F3631-E7B2-480F-A444-186CB73086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creen layo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will be the largest visual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a balance between the amount of screen space devoted to the main view and amount for feedback elements and onscreen contro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22619-BB2A-449F-9AC6-8F1714820CE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071017-E87F-4BF3-B64D-54E5070C8C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9T18:15:45Z</dcterms:modified>
  <cp:revision>183</cp:revision>
  <dc:subject/>
  <dc:title>Fundamentals of Game Design, 2nd Edition - Ch 8</dc:title>
</cp:coreProperties>
</file>