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4A98-FE26-4563-AED7-E3A559447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4181-68DC-4675-AA69-3A2A8487DCED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5A02-D575-43B3-B6AD-2D5F230B515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B19B-B7EE-439D-BAA7-B833C8631105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2939-A738-499A-B5B6-37BCF1ACBA2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4176B-07AD-4D4D-9F47-07CF10CBF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D5C08-BE26-4B77-B196-E54FFE9A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D8044-7C0D-4F6C-A28C-3D6F30D7A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65453-A895-411D-84E0-7BFCC68A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1BFF-8B4A-40FA-951A-AAD7B587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B762-1DDC-4AED-B7AE-0A05F79C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D81A-BCF6-4295-B086-9EB89913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AC6D-9D23-401F-A381-45E2F2C6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2C32-C0CC-41CD-9DB5-FE81BA66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0C4E-56E1-4608-BC1C-9ED8EB63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8AE6-FA9D-49F1-A221-C0615139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2F064-727B-41F2-A749-2BE0A737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C724-CBCB-4A99-8354-291D0A02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3C33-D25A-400C-A85A-47035824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7460-4266-40AA-A18B-EA0C91EE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98F7-EC94-4544-98E9-CBC97A54C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2828-EF7C-4FF0-88C7-58470367E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35D9E-EA07-4DC9-BE9D-76D3F154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FD327-80CA-4460-A78E-9BDBD457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06E70-3A72-48A0-9016-517FF8C5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AAA7A-2FA6-4C36-9F78-DC06895C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BA936-3760-4768-8B22-2EFD3EC8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81E14-BDDB-4AEE-849C-0AA5C355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C9C2B-DBC8-4563-BEA5-9129535F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9 Adventur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566A-EF67-4269-B32A-BF84E995ACC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D241-BA8E-4A76-BFDC-8F603AA41818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70B1-2E30-4C42-8255-DF4CFFA7B97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9: Adventur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eeps the avatar 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mon in action-adventure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st games allow the player to move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EC3BC-3B11-49D5-BFEC-CD0494A3E0C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8BBF01-8083-4084-B8EE-0764D272C1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 of the player comes from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dventure games treat the story as a journe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relationship between locations in the world and parts of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became more linear in action-adven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57BB0-9EAA-41E2-825C-7636B6A9107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2C196D-860F-4EEB-9E8E-CD44530CD9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rises from an unresolved situation or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dramatic tension, start by presenting the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resolution of dramatic tension occurs at the dramatic climax, usually near the end of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can have several different dramatic climaxes for intermediate problems until the final climax solves the final problem and ends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9274D-F5E0-450D-8A1A-D26C328D982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B08F35-3E1E-43C0-BDF5-CCDD10EA7A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heroic qu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majority of adventure games are heroic quests: a mission by an individual to accomplish a great fe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iggest climax should be the last major climax in the game because anything that follows seem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uld be periods of quiet to rest and he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FF078-E46D-4734-9BAE-96199B8EAB5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69BCEB-4557-4CC2-90D7-95883BBC47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roblem of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genres (RPGs, combat flight simulators) death is accepted and players know what is likely to cause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dventure games it is less cle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adventure games adopt a fair warning approach, making it clear when something is dangerous and usually offering a way to neutralize the da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n autosave feature to save the game at intervals so the player can restore it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C84A6-78EC-4FDD-9A53-3CD99110081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8FB74C-896C-4F7B-9A2C-26C97E5178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Shape 26630"/>
          <p:cNvSpPr/>
          <p:nvPr/>
        </p:nvSpPr>
        <p:spPr>
          <a:xfrm>
            <a:off x="45720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nding keys to locked door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guring out mysterious machin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taining inaccessible object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ipulating people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avigating maz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Shape 26631"/>
          <p:cNvSpPr/>
          <p:nvPr/>
        </p:nvSpPr>
        <p:spPr>
          <a:xfrm>
            <a:off x="464832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coding cryptic messag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lving memorization puzzl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llecting thing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oing detective work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nderstanding social problem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5" name="Rectangle 26632"/>
          <p:cNvSpPr/>
          <p:nvPr/>
        </p:nvSpPr>
        <p:spPr>
          <a:xfrm>
            <a:off x="457200" y="1600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hallenges are conceptual: puzzles that can only be solved by lateral thinking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include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5BC2A-5C9F-4BEB-89FD-EED50B9EB3DA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E5F8BB-98CA-4A13-9BB7-08A9ABBCA2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sations with nonplayer characters (NPC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 NPC’s conversation is defined by the NPC’s role, such as blacksmith or tra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games try to sidestep the problem of conversation by setting games in underpopulate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ripted conversations became stand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953D0-20B9-4967-988C-C436EE25632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013B74-9773-4457-ACB2-C8132A310F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p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ics provide cues to location and how that location relates to other areas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pp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p fills in as the player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see the map at any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compass as well if appropri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tomatic journal keeping is comm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7E501-400E-4A89-B3D1-F015714F4D7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B04F4B-43C1-4005-AED7-A926532BB5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ew things to avo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solvable only by trial and err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requiring outside knowled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ick-the-right-pixel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backward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FedEx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6C5B9-5330-41B9-A8DE-39BC1A6B85C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4E9125-4759-43AD-B3E2-2F4A56912F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mov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ment interface depends on the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perspective uses point-and-click or direct control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int-and-click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 contro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yer steers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both walk and run 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2B775-D2FC-4208-AC9F-21F3F8E7522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01EEA9-50A4-4BAD-AE35-EDFAE3319B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n adventure game and the common game features of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character and story in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t interaction models and perspectives common to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puzzles and inventory in designing an adventur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CE4E7-1E56-4D8F-A93D-8D693A6C2AF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515717-9950-4A37-A3CF-480EC57CE2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ying activ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nt and cli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ynamical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cus-of-attention highlight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B0263-A5EC-444A-BD97-904A0E8FCC8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428C46-C7A5-4F67-81FC-C166A36787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button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troller button or mouse click correctly manipulates the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u-driven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nu gives player the available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right-click an object to see a pop-up menu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C1F08-BFC1-46A9-87BB-0C4356D3BB1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FFD07D-F301-47CD-B55E-D759934C22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ing inven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games limit the amount that can be carri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isible inventory mechanism like a backpack or box is comm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inventory management eas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and close inventory with a single click or shortcut ke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9EF02-2D83-4C04-86F3-028E93CCA36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26ED10-7A90-4992-B24F-E4A3500E0C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importance of character and story in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t interaction models and perspectives common to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puzzles and inventory in designing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B6FE4-DFC2-440B-B06A-5629BBBA174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53AB0E-6657-4B0D-8BEE-70F2AA0E21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dventur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ve story about a protagoni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and exploration are essentia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 and conceptual challenges form the majority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bat, economic management, and action challenges are reduced or nonexis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828EE-DB31-4A7C-9E5C-DD9697FB53F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FE7F56-03D9-4318-839E-6EAF6B5B2B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al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dven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was a text-onl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o give the player a credible illusion of freedo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hat spoke to players like a person rather than a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DA82A-81AD-4C38-9CDA-7D0731A8035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4D810D-9460-4E07-8723-1BA17148AC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rowth of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popular in the early days of personal compu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ving no graphics made games inexpensive to develop and allowed scope for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ers added graphics when the technology became avail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65FA6-17CE-41CB-AB22-C927D50741F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6A5C6C-0E37-40A5-AF70-0F5E5F1B31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enture games tod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rket for adventure games has grown less steadily than the market for other 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ment of 3D hardware improved graphics in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-adventure games develo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s hybrid is now more popular than action or adventu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ive solutions improves replay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never 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770BF-4AA3-4C39-A0CE-CB40128C0F2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5A3647-8BEA-4E36-AD1C-4CB23EE83D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 and emotional ton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ting contributes more to the entertainment value of an adventure game than settings in any other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move slowly, which gives designers the chance to create a world with a distinct emotional t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74C8C-B62E-4F6C-9088-387D1830DF8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2C7AB4-63B0-45BF-8117-2040DD7D66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ways uses an avatar-based interaction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rly games used nonspecific avatar, but now avatar possesses his own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approach is tradition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 and first-person games are becoming increasingly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F382C-4C6E-4D2C-A5B8-D8EF06225CC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549DA4-7A24-4B56-8020-48760D695A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 is shown from the camera angle most appropriate for her current location in the gam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s the designer play cinematographer, using camera angles, composition, and lighting to enhance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ourages a more action-oriented approach to play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ewer opportunities for visual dram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D68E9-472B-45CD-8AC2-F1FA115AEE5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8AB192-41F4-423B-9F30-969134D04B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9:40:29Z</dcterms:modified>
  <cp:revision>423</cp:revision>
  <dc:subject/>
  <dc:title>Fundamentals of Game Design, 2nd Edition - Ch 19</dc:title>
</cp:coreProperties>
</file>