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495D-BFBC-4D22-8CC1-A3990EC60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EED8-835A-44A1-8C70-EFD8514F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3DFA-FF4C-4ABE-A98A-B5DCCC4A7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7AFF-BCEF-4729-BD9F-5125F414B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EF90-9FDE-4FE8-9DA7-5794396F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A9F0-20BA-4A0F-B9D1-EC386857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46A2-B0ED-466A-9C38-A1707EBC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CA6B-24B2-4682-B54B-B27BF757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EB9F-8F71-4BD3-821F-BA46349A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B116-4AF2-44ED-BC87-746FBFFE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7D80-6A53-4889-973A-0AE9087D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1191-BAAC-4783-A227-9222EB46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96EF-3E39-48E8-A0A6-8642FE7F468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ole tekstowe 1"/>
          <p:cNvSpPr/>
          <p:nvPr/>
        </p:nvSpPr>
        <p:spPr>
          <a:xfrm>
            <a:off x="12600" y="127080"/>
            <a:ext cx="952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op 5 - Indeks Dow Jon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3880" y="1397160"/>
          <a:ext cx="6096240" cy="22255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ro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11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997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347,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 101,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10-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637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098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902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-01-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 070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607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362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07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754,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142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962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4-01-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748,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341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722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6T21:19:38Z</dcterms:created>
  <dc:creator>Helion</dc:creator>
  <dc:description/>
  <dc:language>en-US</dc:language>
  <cp:lastModifiedBy>Helion</cp:lastModifiedBy>
  <dcterms:modified xsi:type="dcterms:W3CDTF">2007-12-26T21:19:54Z</dcterms:modified>
  <cp:revision>1</cp:revision>
  <dc:subject/>
  <dc:title>Slajd 1</dc:title>
</cp:coreProperties>
</file>