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1F94-1A04-44C1-8211-591E04E24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7FE6-DB59-49B0-8B3A-90C4BB59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024D-76B2-4C41-AB60-D3598193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CFE8-928F-45D2-9746-856AB00AA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A89F-F98B-45C0-9079-7FADA6E6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FC2D-7AE2-4C45-A560-3D41EA08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98F0-369E-4714-A4A2-7E12E28F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221B-051B-448C-939A-34845908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C9AF-618F-455F-AFAB-2C35024A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8677-5D22-4FF7-B3CB-17171194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3C9D-5980-4855-90CD-D780814E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C6C6-65D4-46FD-A8AB-D00D187B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EB96-0CBE-461F-A828-A909796BFBD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le tekstowe 1"/>
          <p:cNvSpPr/>
          <p:nvPr/>
        </p:nvSpPr>
        <p:spPr>
          <a:xfrm>
            <a:off x="12600" y="127080"/>
            <a:ext cx="952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op 5 - Indeks Dow Jon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3880" y="1397160"/>
          <a:ext cx="6096240" cy="22255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ro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1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997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7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 101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0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37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098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902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-01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 070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07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362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07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54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142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962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4-01-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48,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1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722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21:19:38Z</dcterms:created>
  <dc:creator>Helion</dc:creator>
  <dc:description/>
  <dc:language>en-US</dc:language>
  <cp:lastModifiedBy>Helion</cp:lastModifiedBy>
  <dcterms:modified xsi:type="dcterms:W3CDTF">2007-12-26T21:19:54Z</dcterms:modified>
  <cp:revision>1</cp:revision>
  <dc:subject/>
  <dc:title>Slajd 1</dc:title>
</cp:coreProperties>
</file>