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E305-E704-4074-A958-9CF63ED58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51E5-25F0-46CE-89CF-4C8A9418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6DF3-BC8E-4918-A7BD-BD7A89F99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06F9-D31F-4CF0-8F1C-33775CBAC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3054-F565-4028-830F-5120338F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13D2-FEF3-439E-A2DF-FA8E6CB1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2D6C-6C3E-4D46-9249-AE34BD53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3F0C-9732-456A-8AF0-79399A50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DC00-5BB7-456D-B5DA-56AED0CE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F2F7-913A-41CD-A7C4-8AF556D6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A25C-C383-44B6-B297-E8BF8372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945E-0E75-4A36-898C-4006D693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892F-A3A2-4085-BD58-6835E992D14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ole tekstowe 1"/>
          <p:cNvSpPr/>
          <p:nvPr/>
        </p:nvSpPr>
        <p:spPr>
          <a:xfrm>
            <a:off x="12600" y="127080"/>
            <a:ext cx="952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op 5 - Indeks Dow Jon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3880" y="1397160"/>
          <a:ext cx="6096240" cy="22255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ro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1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997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7,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 101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0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37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098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902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-01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 070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07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362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07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54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142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962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4-01-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48,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1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722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6T21:19:38Z</dcterms:created>
  <dc:creator>Helion</dc:creator>
  <dc:description/>
  <dc:language>en-US</dc:language>
  <cp:lastModifiedBy>Helion</cp:lastModifiedBy>
  <dcterms:modified xsi:type="dcterms:W3CDTF">2007-12-26T21:19:54Z</dcterms:modified>
  <cp:revision>1</cp:revision>
  <dc:subject/>
  <dc:title>Slajd 1</dc:title>
</cp:coreProperties>
</file>